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36360100" cy="36360100"/>
  <p:notesSz cx="6022975" cy="12142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327236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818000" y="19522800"/>
            <a:ext cx="327236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1800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858572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882240" y="850824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946120" y="850824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818000" y="1952280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2882240" y="1952280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23946120" y="1952280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818000" y="8508240"/>
            <a:ext cx="3272364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74"/>
              </a:spcBef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3272364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818000" y="1450440"/>
            <a:ext cx="32723640" cy="28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74"/>
              </a:spcBef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81800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818000" y="8508240"/>
            <a:ext cx="3272364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74"/>
              </a:spcBef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858572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18000" y="19522800"/>
            <a:ext cx="327236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327236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818000" y="19522800"/>
            <a:ext cx="327236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1800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858572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82240" y="850824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946120" y="850824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818000" y="1952280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12882240" y="1952280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23946120" y="1952280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18000" y="8508240"/>
            <a:ext cx="3272364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74"/>
              </a:spcBef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3272364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3272364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818000" y="1450440"/>
            <a:ext cx="32723640" cy="28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74"/>
              </a:spcBef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81800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858572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818000" y="19522800"/>
            <a:ext cx="327236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327236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818000" y="19522800"/>
            <a:ext cx="327236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81800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858572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2882240" y="850824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3946120" y="850824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818000" y="1952280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12882240" y="1952280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23946120" y="19522800"/>
            <a:ext cx="105368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18000" y="1450440"/>
            <a:ext cx="32723640" cy="28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74"/>
              </a:spcBef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81800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585720" y="1952280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1800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8585720" y="8508240"/>
            <a:ext cx="1596888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18000" y="19522800"/>
            <a:ext cx="32723640" cy="10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974"/>
              </a:spcBef>
              <a:buNone/>
              <a:tabLst>
                <a:tab algn="l" pos="3635280"/>
                <a:tab algn="l" pos="7270920"/>
                <a:tab algn="l" pos="10906200"/>
              </a:tabLst>
            </a:pP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テキスト ボックス 4"/>
          <p:cNvSpPr/>
          <p:nvPr/>
        </p:nvSpPr>
        <p:spPr>
          <a:xfrm>
            <a:off x="25606440" y="3449520"/>
            <a:ext cx="10753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4840"/>
                <a:tab algn="l" pos="92296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Raksul Sticker Template ver.2.1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図 2" descr="グラフィカル ユーザー インターフェイス, テキスト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0" y="0"/>
            <a:ext cx="36360000" cy="3636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2" descr="テキスト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-26633520" y="6127920"/>
            <a:ext cx="24239520" cy="2410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グループ化 5"/>
          <p:cNvGrpSpPr/>
          <p:nvPr/>
        </p:nvGrpSpPr>
        <p:grpSpPr>
          <a:xfrm>
            <a:off x="4900680" y="-8551800"/>
            <a:ext cx="26547840" cy="6750000"/>
            <a:chOff x="4900680" y="-8551800"/>
            <a:chExt cx="26547840" cy="6750000"/>
          </a:xfrm>
        </p:grpSpPr>
        <p:sp>
          <p:nvSpPr>
            <p:cNvPr id="76" name="テキスト ボックス 10"/>
            <p:cNvSpPr/>
            <p:nvPr/>
          </p:nvSpPr>
          <p:spPr>
            <a:xfrm>
              <a:off x="5413320" y="-7899120"/>
              <a:ext cx="26035200" cy="52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614840"/>
                  <a:tab algn="l" pos="9229680"/>
                </a:tabLst>
              </a:pPr>
              <a:r>
                <a:rPr b="1" lang="ja-JP" sz="11200" spc="-1" strike="noStrike">
                  <a:solidFill>
                    <a:srgbClr val="ff0000"/>
                  </a:solidFill>
                  <a:latin typeface="游ゴシック"/>
                  <a:ea typeface="游ゴシック"/>
                </a:rPr>
                <a:t>仕上がり線やガイド線など、</a:t>
              </a:r>
              <a:endParaRPr b="0" lang="en-US" sz="1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614840"/>
                  <a:tab algn="l" pos="9229680"/>
                </a:tabLst>
              </a:pPr>
              <a:r>
                <a:rPr b="1" lang="ja-JP" sz="11200" spc="-1" strike="noStrike">
                  <a:solidFill>
                    <a:srgbClr val="ff0000"/>
                  </a:solidFill>
                  <a:latin typeface="游ゴシック"/>
                  <a:ea typeface="游ゴシック"/>
                </a:rPr>
                <a:t>印刷されたくないオブジェクトは</a:t>
              </a:r>
              <a:endParaRPr b="0" lang="en-US" sz="1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614840"/>
                  <a:tab algn="l" pos="9229680"/>
                </a:tabLst>
              </a:pPr>
              <a:r>
                <a:rPr b="1" lang="ja-JP" sz="11200" spc="-1" strike="noStrike">
                  <a:solidFill>
                    <a:srgbClr val="ff0000"/>
                  </a:solidFill>
                  <a:latin typeface="游ゴシック"/>
                  <a:ea typeface="游ゴシック"/>
                </a:rPr>
                <a:t>スライド内に配置しないでください。</a:t>
              </a:r>
              <a:endParaRPr b="0" lang="en-US" sz="1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正方形/長方形 8"/>
            <p:cNvSpPr/>
            <p:nvPr/>
          </p:nvSpPr>
          <p:spPr>
            <a:xfrm>
              <a:off x="4900680" y="-8551800"/>
              <a:ext cx="26547840" cy="67500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614840"/>
                  <a:tab algn="l" pos="9229680"/>
                </a:tabLst>
              </a:pPr>
              <a:endParaRPr b="0" lang="en-US" sz="8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図 2" descr="テキスト, 手紙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-26552520" y="9390240"/>
            <a:ext cx="24244200" cy="17579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18000" y="1450440"/>
            <a:ext cx="32723640" cy="60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35280"/>
                <a:tab algn="l" pos="7270920"/>
                <a:tab algn="l" pos="1090620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818000" y="8508240"/>
            <a:ext cx="32723640" cy="21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07920" indent="-907920">
              <a:lnSpc>
                <a:spcPct val="90000"/>
              </a:lnSpc>
              <a:spcBef>
                <a:spcPts val="3974"/>
              </a:spcBef>
              <a:buClr>
                <a:srgbClr val="000000"/>
              </a:buClr>
              <a:buFont typeface="Arial"/>
              <a:buChar char="•"/>
              <a:tabLst>
                <a:tab algn="l" pos="3635280"/>
                <a:tab algn="l" pos="7270920"/>
                <a:tab algn="l" pos="10906200"/>
              </a:tabLst>
            </a:pPr>
            <a:r>
              <a:rPr b="0" lang="en-US" sz="11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  <a:p>
            <a:pPr lvl="1" marL="2725560" indent="-907920">
              <a:lnSpc>
                <a:spcPct val="90000"/>
              </a:lnSpc>
              <a:spcBef>
                <a:spcPts val="1987"/>
              </a:spcBef>
              <a:buClr>
                <a:srgbClr val="000000"/>
              </a:buClr>
              <a:buFont typeface="Arial"/>
              <a:buChar char="•"/>
              <a:tabLst>
                <a:tab algn="l" pos="3635280"/>
                <a:tab algn="l" pos="7270920"/>
                <a:tab algn="l" pos="1090620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Calibri"/>
            </a:endParaRPr>
          </a:p>
          <a:p>
            <a:pPr lvl="2" marL="4545000" indent="-907920">
              <a:lnSpc>
                <a:spcPct val="90000"/>
              </a:lnSpc>
              <a:spcBef>
                <a:spcPts val="1987"/>
              </a:spcBef>
              <a:buClr>
                <a:srgbClr val="000000"/>
              </a:buClr>
              <a:buFont typeface="Arial"/>
              <a:buChar char="•"/>
              <a:tabLst>
                <a:tab algn="l" pos="7270920"/>
                <a:tab algn="l" pos="10906200"/>
              </a:tabLst>
            </a:pPr>
            <a:r>
              <a:rPr b="0" lang="en-US" sz="7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  <a:p>
            <a:pPr lvl="3" marL="6362640" indent="-907920">
              <a:lnSpc>
                <a:spcPct val="90000"/>
              </a:lnSpc>
              <a:spcBef>
                <a:spcPts val="1987"/>
              </a:spcBef>
              <a:buClr>
                <a:srgbClr val="000000"/>
              </a:buClr>
              <a:buFont typeface="Arial"/>
              <a:buChar char="•"/>
              <a:tabLst>
                <a:tab algn="l" pos="7270920"/>
                <a:tab algn="l" pos="109062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lvl="4" marL="8180280" indent="-907920">
              <a:lnSpc>
                <a:spcPct val="90000"/>
              </a:lnSpc>
              <a:spcBef>
                <a:spcPts val="1987"/>
              </a:spcBef>
              <a:buClr>
                <a:srgbClr val="000000"/>
              </a:buClr>
              <a:buFont typeface="Arial"/>
              <a:buChar char="•"/>
              <a:tabLst>
                <a:tab algn="l" pos="109062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lvl="5" marL="8180280" indent="-90792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lvl="6" marL="8180280" indent="-90792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9:25:15Z</dcterms:created>
  <dc:creator>biztel</dc:creator>
  <dc:description/>
  <dc:language>en-US</dc:language>
  <cp:lastModifiedBy>Eximage-23</cp:lastModifiedBy>
  <cp:lastPrinted>2018-02-25T07:09:33Z</cp:lastPrinted>
  <dcterms:modified xsi:type="dcterms:W3CDTF">2025-05-16T03:35:04Z</dcterms:modified>
  <cp:revision>64</cp:revision>
  <dc:subject/>
  <dc:title>PowerPoint プレゼンテーション</dc:title>
</cp:coreProperties>
</file>