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1160125" cy="11160125"/>
  <p:notesSz cx="6022975" cy="12142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8000" y="599220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0456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388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976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800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5388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976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58000" y="2611440"/>
            <a:ext cx="100436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100436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58000" y="444960"/>
            <a:ext cx="10043640" cy="86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58000" y="2611440"/>
            <a:ext cx="100436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0456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8000" y="599220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70456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388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4976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5800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95388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34976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58000" y="2611440"/>
            <a:ext cx="100436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100436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100436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58000" y="444960"/>
            <a:ext cx="10043640" cy="86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0456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8000" y="599220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70456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5388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349760" y="261144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5800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5388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349760" y="5992200"/>
            <a:ext cx="32338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58000" y="444960"/>
            <a:ext cx="10043640" cy="86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04560" y="599220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00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04560" y="2611440"/>
            <a:ext cx="49010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000" y="5992200"/>
            <a:ext cx="1004364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テキスト ボックス 4"/>
          <p:cNvSpPr/>
          <p:nvPr/>
        </p:nvSpPr>
        <p:spPr>
          <a:xfrm>
            <a:off x="7761240" y="880920"/>
            <a:ext cx="3300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ksul Sticker Template ver.2.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図 2" descr="グラフィカル ユーザー インターフェイス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0" y="0"/>
            <a:ext cx="11160000" cy="1116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2" descr="テキス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-8132760" y="1908000"/>
            <a:ext cx="7386480" cy="73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グループ化 5"/>
          <p:cNvGrpSpPr/>
          <p:nvPr/>
        </p:nvGrpSpPr>
        <p:grpSpPr>
          <a:xfrm>
            <a:off x="1504800" y="-2624040"/>
            <a:ext cx="8147160" cy="2071440"/>
            <a:chOff x="1504800" y="-2624040"/>
            <a:chExt cx="8147160" cy="2071440"/>
          </a:xfrm>
        </p:grpSpPr>
        <p:sp>
          <p:nvSpPr>
            <p:cNvPr id="76" name="テキスト ボックス 10"/>
            <p:cNvSpPr/>
            <p:nvPr/>
          </p:nvSpPr>
          <p:spPr>
            <a:xfrm>
              <a:off x="1661760" y="-2423880"/>
              <a:ext cx="79902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15880"/>
                  <a:tab algn="l" pos="2832120"/>
                  <a:tab algn="l" pos="4248000"/>
                  <a:tab algn="l" pos="5664240"/>
                  <a:tab algn="l" pos="7080120"/>
                  <a:tab algn="l" pos="8496360"/>
                  <a:tab algn="l" pos="9912240"/>
                </a:tabLst>
              </a:pPr>
              <a:r>
                <a:rPr b="1" lang="ja-JP" sz="3400" spc="-1" strike="noStrike">
                  <a:solidFill>
                    <a:srgbClr val="ff0000"/>
                  </a:solidFill>
                  <a:latin typeface="游ゴシック"/>
                  <a:ea typeface="游ゴシック"/>
                </a:rPr>
                <a:t>仕上がり線やガイド線など、</a:t>
              </a:r>
              <a:endParaRPr b="0" lang="en-US" sz="3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15880"/>
                  <a:tab algn="l" pos="2832120"/>
                  <a:tab algn="l" pos="4248000"/>
                  <a:tab algn="l" pos="5664240"/>
                  <a:tab algn="l" pos="7080120"/>
                  <a:tab algn="l" pos="8496360"/>
                  <a:tab algn="l" pos="9912240"/>
                </a:tabLst>
              </a:pPr>
              <a:r>
                <a:rPr b="1" lang="ja-JP" sz="3400" spc="-1" strike="noStrike">
                  <a:solidFill>
                    <a:srgbClr val="ff0000"/>
                  </a:solidFill>
                  <a:latin typeface="游ゴシック"/>
                  <a:ea typeface="游ゴシック"/>
                </a:rPr>
                <a:t>印刷されたくないオブジェクトは</a:t>
              </a:r>
              <a:endParaRPr b="0" lang="en-US" sz="3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15880"/>
                  <a:tab algn="l" pos="2832120"/>
                  <a:tab algn="l" pos="4248000"/>
                  <a:tab algn="l" pos="5664240"/>
                  <a:tab algn="l" pos="7080120"/>
                  <a:tab algn="l" pos="8496360"/>
                  <a:tab algn="l" pos="9912240"/>
                </a:tabLst>
              </a:pPr>
              <a:r>
                <a:rPr b="1" lang="ja-JP" sz="3400" spc="-1" strike="noStrike">
                  <a:solidFill>
                    <a:srgbClr val="ff0000"/>
                  </a:solidFill>
                  <a:latin typeface="游ゴシック"/>
                  <a:ea typeface="游ゴシック"/>
                </a:rPr>
                <a:t>スライド内に配置しないでください。</a:t>
              </a:r>
              <a:endParaRPr b="0" lang="en-US" sz="3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正方形/長方形 8"/>
            <p:cNvSpPr/>
            <p:nvPr/>
          </p:nvSpPr>
          <p:spPr>
            <a:xfrm>
              <a:off x="1504800" y="-2624040"/>
              <a:ext cx="8147160" cy="2071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415880"/>
                  <a:tab algn="l" pos="2832120"/>
                  <a:tab algn="l" pos="4248000"/>
                  <a:tab algn="l" pos="5664240"/>
                  <a:tab algn="l" pos="7080120"/>
                  <a:tab algn="l" pos="8496360"/>
                  <a:tab algn="l" pos="9912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図 2" descr="テキスト, 手紙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-8150400" y="2882880"/>
            <a:ext cx="744228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8000" y="444960"/>
            <a:ext cx="100436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58000" y="2611440"/>
            <a:ext cx="1004364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7920" indent="-2779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36640" indent="-2779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16000"/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393920" indent="-2779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52640" indent="-2779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32000"/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509920" indent="-2779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48000"/>
                <a:tab algn="l" pos="4464000"/>
                <a:tab algn="l" pos="5580000"/>
                <a:tab algn="l" pos="6696000"/>
                <a:tab algn="l" pos="7812000"/>
                <a:tab algn="l" pos="8928000"/>
                <a:tab algn="l" pos="100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509920" indent="-277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509920" indent="-277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9:25:15Z</dcterms:created>
  <dc:creator>biztel</dc:creator>
  <dc:description/>
  <dc:language>en-US</dc:language>
  <cp:lastModifiedBy>Eximage-23</cp:lastModifiedBy>
  <cp:lastPrinted>2018-02-25T07:09:33Z</cp:lastPrinted>
  <dcterms:modified xsi:type="dcterms:W3CDTF">2025-05-16T03:17:52Z</dcterms:modified>
  <cp:revision>62</cp:revision>
  <dc:subject/>
  <dc:title>PowerPoint プレゼンテーション</dc:title>
</cp:coreProperties>
</file>