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887640" y="339840"/>
            <a:ext cx="73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圧着はがき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ニス圧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通常はがき仕上がり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外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表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紙の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0×145mm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×145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134"/>
          <p:cNvGrpSpPr/>
          <p:nvPr/>
        </p:nvGrpSpPr>
        <p:grpSpPr>
          <a:xfrm>
            <a:off x="1838160" y="9047160"/>
            <a:ext cx="12035160" cy="1053000"/>
            <a:chOff x="1838160" y="9047160"/>
            <a:chExt cx="12035160" cy="1053000"/>
          </a:xfrm>
        </p:grpSpPr>
        <p:sp>
          <p:nvSpPr>
            <p:cNvPr id="2" name="正方形/長方形 3"/>
            <p:cNvSpPr/>
            <p:nvPr/>
          </p:nvSpPr>
          <p:spPr>
            <a:xfrm>
              <a:off x="1838160" y="9047160"/>
              <a:ext cx="663012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4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4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4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"/>
            <p:cNvSpPr/>
            <p:nvPr/>
          </p:nvSpPr>
          <p:spPr>
            <a:xfrm>
              <a:off x="8468280" y="9047160"/>
              <a:ext cx="540504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" name="図 2" descr="グラフィカル ユーザー インターフェイス, テキスト, Web サイ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5389280" y="23760"/>
            <a:ext cx="12093480" cy="106934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9"/>
          <p:cNvGrpSpPr/>
          <p:nvPr/>
        </p:nvGrpSpPr>
        <p:grpSpPr>
          <a:xfrm>
            <a:off x="2158920" y="1044720"/>
            <a:ext cx="10728360" cy="7022880"/>
            <a:chOff x="2158920" y="1044720"/>
            <a:chExt cx="10728360" cy="7022880"/>
          </a:xfrm>
        </p:grpSpPr>
        <p:pic>
          <p:nvPicPr>
            <p:cNvPr id="6" name="図 2" descr="図形 が含まれている画像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2158920" y="1515960"/>
              <a:ext cx="3108240" cy="80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" name="グループ化 1"/>
            <p:cNvGrpSpPr/>
            <p:nvPr/>
          </p:nvGrpSpPr>
          <p:grpSpPr>
            <a:xfrm>
              <a:off x="2231640" y="2627280"/>
              <a:ext cx="10655640" cy="5440320"/>
              <a:chOff x="2231640" y="2627280"/>
              <a:chExt cx="10655640" cy="5440320"/>
            </a:xfrm>
          </p:grpSpPr>
          <p:sp>
            <p:nvSpPr>
              <p:cNvPr id="8" name="正方形/長方形 2"/>
              <p:cNvSpPr/>
              <p:nvPr/>
            </p:nvSpPr>
            <p:spPr>
              <a:xfrm flipH="1">
                <a:off x="5758560" y="2629800"/>
                <a:ext cx="215640" cy="543780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" name="グループ化 1"/>
              <p:cNvGrpSpPr/>
              <p:nvPr/>
            </p:nvGrpSpPr>
            <p:grpSpPr>
              <a:xfrm>
                <a:off x="2231640" y="2627280"/>
                <a:ext cx="10655640" cy="5437440"/>
                <a:chOff x="2231640" y="2627280"/>
                <a:chExt cx="10655640" cy="5437440"/>
              </a:xfrm>
            </p:grpSpPr>
            <p:grpSp>
              <p:nvGrpSpPr>
                <p:cNvPr id="10" name="グループ化 1"/>
                <p:cNvGrpSpPr/>
                <p:nvPr/>
              </p:nvGrpSpPr>
              <p:grpSpPr>
                <a:xfrm>
                  <a:off x="2231640" y="2627280"/>
                  <a:ext cx="10655640" cy="5437440"/>
                  <a:chOff x="2231640" y="2627280"/>
                  <a:chExt cx="10655640" cy="5437440"/>
                </a:xfrm>
              </p:grpSpPr>
              <p:grpSp>
                <p:nvGrpSpPr>
                  <p:cNvPr id="11" name="グループ化 4"/>
                  <p:cNvGrpSpPr/>
                  <p:nvPr/>
                </p:nvGrpSpPr>
                <p:grpSpPr>
                  <a:xfrm>
                    <a:off x="2231640" y="2627280"/>
                    <a:ext cx="10655640" cy="5437440"/>
                    <a:chOff x="2231640" y="2627280"/>
                    <a:chExt cx="10655640" cy="5437440"/>
                  </a:xfrm>
                </p:grpSpPr>
                <p:grpSp>
                  <p:nvGrpSpPr>
                    <p:cNvPr id="12" name="グループ化 3"/>
                    <p:cNvGrpSpPr/>
                    <p:nvPr/>
                  </p:nvGrpSpPr>
                  <p:grpSpPr>
                    <a:xfrm>
                      <a:off x="2231640" y="2627280"/>
                      <a:ext cx="10655640" cy="5437440"/>
                      <a:chOff x="2231640" y="2627280"/>
                      <a:chExt cx="10655640" cy="5437440"/>
                    </a:xfrm>
                  </p:grpSpPr>
                  <p:grpSp>
                    <p:nvGrpSpPr>
                      <p:cNvPr id="13" name="グループ化 1"/>
                      <p:cNvGrpSpPr/>
                      <p:nvPr/>
                    </p:nvGrpSpPr>
                    <p:grpSpPr>
                      <a:xfrm>
                        <a:off x="2231640" y="2627280"/>
                        <a:ext cx="10655640" cy="5437440"/>
                        <a:chOff x="2231640" y="2627280"/>
                        <a:chExt cx="10655640" cy="5437440"/>
                      </a:xfrm>
                    </p:grpSpPr>
                    <p:sp>
                      <p:nvSpPr>
                        <p:cNvPr id="14" name="正方形/長方形 2"/>
                        <p:cNvSpPr/>
                        <p:nvPr/>
                      </p:nvSpPr>
                      <p:spPr>
                        <a:xfrm>
                          <a:off x="2231640" y="2627280"/>
                          <a:ext cx="10655640" cy="543744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8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" name="正方形/長方形 60"/>
                        <p:cNvSpPr/>
                        <p:nvPr/>
                      </p:nvSpPr>
                      <p:spPr>
                        <a:xfrm>
                          <a:off x="2339280" y="2734920"/>
                          <a:ext cx="3420000" cy="522144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ff3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6" name="正方形/長方形 60"/>
                        <p:cNvSpPr/>
                        <p:nvPr/>
                      </p:nvSpPr>
                      <p:spPr>
                        <a:xfrm>
                          <a:off x="9359280" y="2734920"/>
                          <a:ext cx="3420000" cy="522144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ff3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7" name="正方形/長方形 60"/>
                        <p:cNvSpPr/>
                        <p:nvPr/>
                      </p:nvSpPr>
                      <p:spPr>
                        <a:xfrm>
                          <a:off x="5759640" y="2734920"/>
                          <a:ext cx="3599640" cy="522144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ff3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8" name="正方形/長方形 61"/>
                      <p:cNvSpPr/>
                      <p:nvPr/>
                    </p:nvSpPr>
                    <p:spPr>
                      <a:xfrm>
                        <a:off x="9467280" y="2842560"/>
                        <a:ext cx="3204000" cy="50054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4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9" name="正方形/長方形 61"/>
                    <p:cNvSpPr/>
                    <p:nvPr/>
                  </p:nvSpPr>
                  <p:spPr>
                    <a:xfrm>
                      <a:off x="2447280" y="2843280"/>
                      <a:ext cx="3204000" cy="50054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4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0" name="正方形/長方形 60"/>
                  <p:cNvSpPr/>
                  <p:nvPr/>
                </p:nvSpPr>
                <p:spPr>
                  <a:xfrm>
                    <a:off x="5829480" y="2840400"/>
                    <a:ext cx="74880" cy="5004360"/>
                  </a:xfrm>
                  <a:prstGeom prst="rect">
                    <a:avLst/>
                  </a:prstGeom>
                  <a:noFill/>
                  <a:ln w="3240">
                    <a:solidFill>
                      <a:srgbClr val="4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" name="正方形/長方形 61"/>
                <p:cNvSpPr/>
                <p:nvPr/>
              </p:nvSpPr>
              <p:spPr>
                <a:xfrm>
                  <a:off x="6047280" y="2842560"/>
                  <a:ext cx="3204360" cy="500652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2" name="図 9" descr="テキスト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6138720" y="1044720"/>
              <a:ext cx="2357280" cy="14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グループ化 1"/>
          <p:cNvGrpSpPr/>
          <p:nvPr/>
        </p:nvGrpSpPr>
        <p:grpSpPr>
          <a:xfrm>
            <a:off x="1908000" y="2011320"/>
            <a:ext cx="11303280" cy="6413400"/>
            <a:chOff x="1908000" y="2011320"/>
            <a:chExt cx="11303280" cy="6413400"/>
          </a:xfrm>
        </p:grpSpPr>
        <p:sp>
          <p:nvSpPr>
            <p:cNvPr id="24" name="テキスト ボックス 32"/>
            <p:cNvSpPr/>
            <p:nvPr/>
          </p:nvSpPr>
          <p:spPr>
            <a:xfrm>
              <a:off x="4732200" y="21780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5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" name="グループ化 57"/>
            <p:cNvGrpSpPr/>
            <p:nvPr/>
          </p:nvGrpSpPr>
          <p:grpSpPr>
            <a:xfrm>
              <a:off x="1916640" y="4893120"/>
              <a:ext cx="286200" cy="900360"/>
              <a:chOff x="1916640" y="4893120"/>
              <a:chExt cx="286200" cy="900360"/>
            </a:xfrm>
          </p:grpSpPr>
          <p:sp>
            <p:nvSpPr>
              <p:cNvPr id="26" name="直線コネクタ 58"/>
              <p:cNvSpPr/>
              <p:nvPr/>
            </p:nvSpPr>
            <p:spPr>
              <a:xfrm>
                <a:off x="2131200" y="4893120"/>
                <a:ext cx="0" cy="90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59"/>
              <p:cNvSpPr/>
              <p:nvPr/>
            </p:nvSpPr>
            <p:spPr>
              <a:xfrm flipH="1">
                <a:off x="1916640" y="5342400"/>
                <a:ext cx="28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Group 81"/>
            <p:cNvGrpSpPr/>
            <p:nvPr/>
          </p:nvGrpSpPr>
          <p:grpSpPr>
            <a:xfrm>
              <a:off x="5756760" y="2270520"/>
              <a:ext cx="0" cy="6152760"/>
              <a:chOff x="5756760" y="2270520"/>
              <a:chExt cx="0" cy="6152760"/>
            </a:xfrm>
          </p:grpSpPr>
          <p:sp>
            <p:nvSpPr>
              <p:cNvPr id="29" name="直線コネクタ 59"/>
              <p:cNvSpPr/>
              <p:nvPr/>
            </p:nvSpPr>
            <p:spPr>
              <a:xfrm flipV="1">
                <a:off x="5756760" y="2270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直線コネクタ 59"/>
              <p:cNvSpPr/>
              <p:nvPr/>
            </p:nvSpPr>
            <p:spPr>
              <a:xfrm>
                <a:off x="5756760" y="813708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Group 84"/>
            <p:cNvGrpSpPr/>
            <p:nvPr/>
          </p:nvGrpSpPr>
          <p:grpSpPr>
            <a:xfrm>
              <a:off x="9360720" y="2270520"/>
              <a:ext cx="0" cy="6152760"/>
              <a:chOff x="9360720" y="2270520"/>
              <a:chExt cx="0" cy="6152760"/>
            </a:xfrm>
          </p:grpSpPr>
          <p:sp>
            <p:nvSpPr>
              <p:cNvPr id="32" name="直線コネクタ 59"/>
              <p:cNvSpPr/>
              <p:nvPr/>
            </p:nvSpPr>
            <p:spPr>
              <a:xfrm flipV="1">
                <a:off x="9360720" y="2270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直線コネクタ 59"/>
              <p:cNvSpPr/>
              <p:nvPr/>
            </p:nvSpPr>
            <p:spPr>
              <a:xfrm>
                <a:off x="9360720" y="813708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グループ化 56"/>
            <p:cNvGrpSpPr/>
            <p:nvPr/>
          </p:nvGrpSpPr>
          <p:grpSpPr>
            <a:xfrm>
              <a:off x="12917520" y="4898520"/>
              <a:ext cx="286200" cy="900360"/>
              <a:chOff x="12917520" y="4898520"/>
              <a:chExt cx="286200" cy="900360"/>
            </a:xfrm>
          </p:grpSpPr>
          <p:sp>
            <p:nvSpPr>
              <p:cNvPr id="35" name="直線コネクタ 54"/>
              <p:cNvSpPr/>
              <p:nvPr/>
            </p:nvSpPr>
            <p:spPr>
              <a:xfrm flipV="1">
                <a:off x="12989160" y="4898520"/>
                <a:ext cx="0" cy="90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直線コネクタ 55"/>
              <p:cNvSpPr/>
              <p:nvPr/>
            </p:nvSpPr>
            <p:spPr>
              <a:xfrm>
                <a:off x="12917520" y="5349600"/>
                <a:ext cx="28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56"/>
            <p:cNvGrpSpPr/>
            <p:nvPr/>
          </p:nvGrpSpPr>
          <p:grpSpPr>
            <a:xfrm>
              <a:off x="7111440" y="2270520"/>
              <a:ext cx="900720" cy="286200"/>
              <a:chOff x="7111440" y="2270520"/>
              <a:chExt cx="900720" cy="286200"/>
            </a:xfrm>
          </p:grpSpPr>
          <p:sp>
            <p:nvSpPr>
              <p:cNvPr id="38" name="直線コネクタ 54"/>
              <p:cNvSpPr/>
              <p:nvPr/>
            </p:nvSpPr>
            <p:spPr>
              <a:xfrm flipH="1">
                <a:off x="7111440" y="2485080"/>
                <a:ext cx="90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5"/>
              <p:cNvSpPr/>
              <p:nvPr/>
            </p:nvSpPr>
            <p:spPr>
              <a:xfrm flipV="1">
                <a:off x="7562880" y="2270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グループ化 56"/>
            <p:cNvGrpSpPr/>
            <p:nvPr/>
          </p:nvGrpSpPr>
          <p:grpSpPr>
            <a:xfrm>
              <a:off x="7105680" y="8138520"/>
              <a:ext cx="900720" cy="286200"/>
              <a:chOff x="7105680" y="8138520"/>
              <a:chExt cx="900720" cy="286200"/>
            </a:xfrm>
          </p:grpSpPr>
          <p:sp>
            <p:nvSpPr>
              <p:cNvPr id="41" name="直線コネクタ 54"/>
              <p:cNvSpPr/>
              <p:nvPr/>
            </p:nvSpPr>
            <p:spPr>
              <a:xfrm>
                <a:off x="7105680" y="8210160"/>
                <a:ext cx="90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55"/>
              <p:cNvSpPr/>
              <p:nvPr/>
            </p:nvSpPr>
            <p:spPr>
              <a:xfrm>
                <a:off x="7554960" y="8138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3" name="直線矢印コネクタ 153"/>
            <p:cNvCxnSpPr/>
            <p:nvPr/>
          </p:nvCxnSpPr>
          <p:spPr>
            <a:xfrm>
              <a:off x="2328120" y="2387160"/>
              <a:ext cx="34282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44" name="直線矢印コネクタ 151"/>
            <p:cNvCxnSpPr/>
            <p:nvPr/>
          </p:nvCxnSpPr>
          <p:spPr>
            <a:xfrm>
              <a:off x="5756040" y="2387160"/>
              <a:ext cx="3604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5" name="テキスト ボックス 32"/>
            <p:cNvSpPr/>
            <p:nvPr/>
          </p:nvSpPr>
          <p:spPr>
            <a:xfrm>
              <a:off x="8332920" y="21780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00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6" name="直線矢印コネクタ 156"/>
            <p:cNvCxnSpPr/>
            <p:nvPr/>
          </p:nvCxnSpPr>
          <p:spPr>
            <a:xfrm>
              <a:off x="9359640" y="2387160"/>
              <a:ext cx="34362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7" name="テキスト ボックス 32"/>
            <p:cNvSpPr/>
            <p:nvPr/>
          </p:nvSpPr>
          <p:spPr>
            <a:xfrm>
              <a:off x="11644560" y="21780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5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テキスト ボックス 32"/>
            <p:cNvSpPr/>
            <p:nvPr/>
          </p:nvSpPr>
          <p:spPr>
            <a:xfrm>
              <a:off x="9037800" y="20113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谷折り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テキスト ボックス 32"/>
            <p:cNvSpPr/>
            <p:nvPr/>
          </p:nvSpPr>
          <p:spPr>
            <a:xfrm>
              <a:off x="5481360" y="202068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山折り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線コネクタ 59"/>
            <p:cNvSpPr/>
            <p:nvPr/>
          </p:nvSpPr>
          <p:spPr>
            <a:xfrm flipV="1">
              <a:off x="5939640" y="2273400"/>
              <a:ext cx="0" cy="2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グループ化 1"/>
            <p:cNvGrpSpPr/>
            <p:nvPr/>
          </p:nvGrpSpPr>
          <p:grpSpPr>
            <a:xfrm>
              <a:off x="5762160" y="2393640"/>
              <a:ext cx="711000" cy="215640"/>
              <a:chOff x="5762160" y="2393640"/>
              <a:chExt cx="711000" cy="215640"/>
            </a:xfrm>
          </p:grpSpPr>
          <p:cxnSp>
            <p:nvCxnSpPr>
              <p:cNvPr id="52" name="直線矢印コネクタ 3"/>
              <p:cNvCxnSpPr/>
              <p:nvPr/>
            </p:nvCxnSpPr>
            <p:spPr>
              <a:xfrm>
                <a:off x="5762160" y="2537640"/>
                <a:ext cx="18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53" name="テキスト ボックス 32"/>
              <p:cNvSpPr/>
              <p:nvPr/>
            </p:nvSpPr>
            <p:spPr>
              <a:xfrm>
                <a:off x="5877720" y="2393640"/>
                <a:ext cx="59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46280"/>
                    <a:tab algn="l" pos="1492200"/>
                    <a:tab algn="l" pos="2238480"/>
                    <a:tab algn="l" pos="2984400"/>
                    <a:tab algn="l" pos="3730680"/>
                    <a:tab algn="l" pos="4476600"/>
                    <a:tab algn="l" pos="5222880"/>
                    <a:tab algn="l" pos="5969160"/>
                    <a:tab algn="l" pos="6715080"/>
                    <a:tab algn="l" pos="7461360"/>
                    <a:tab algn="l" pos="8207280"/>
                    <a:tab algn="l" pos="8953560"/>
                    <a:tab algn="l" pos="9699480"/>
                    <a:tab algn="l" pos="1044576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Calibri"/>
                  </a:rPr>
                  <a:t>開封スペース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746280"/>
                    <a:tab algn="l" pos="1492200"/>
                    <a:tab algn="l" pos="2238480"/>
                    <a:tab algn="l" pos="2984400"/>
                    <a:tab algn="l" pos="3730680"/>
                    <a:tab algn="l" pos="4476600"/>
                    <a:tab algn="l" pos="5222880"/>
                    <a:tab algn="l" pos="5969160"/>
                    <a:tab algn="l" pos="6715080"/>
                    <a:tab algn="l" pos="7461360"/>
                    <a:tab algn="l" pos="8207280"/>
                    <a:tab algn="l" pos="8953560"/>
                    <a:tab algn="l" pos="9699480"/>
                    <a:tab algn="l" pos="104457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alibri"/>
                  </a:rPr>
                  <a:t>5mm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テキスト ボックス 32"/>
            <p:cNvSpPr/>
            <p:nvPr/>
          </p:nvSpPr>
          <p:spPr>
            <a:xfrm>
              <a:off x="3862080" y="21445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" name="グループ化 3"/>
            <p:cNvGrpSpPr/>
            <p:nvPr/>
          </p:nvGrpSpPr>
          <p:grpSpPr>
            <a:xfrm>
              <a:off x="1908000" y="2301840"/>
              <a:ext cx="431640" cy="431640"/>
              <a:chOff x="1908000" y="2301840"/>
              <a:chExt cx="431640" cy="431640"/>
            </a:xfrm>
          </p:grpSpPr>
          <p:sp>
            <p:nvSpPr>
              <p:cNvPr id="56" name="フリーフォーム 43"/>
              <p:cNvSpPr/>
              <p:nvPr/>
            </p:nvSpPr>
            <p:spPr>
              <a:xfrm>
                <a:off x="1908000" y="23018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フリーフォーム 44"/>
              <p:cNvSpPr/>
              <p:nvPr/>
            </p:nvSpPr>
            <p:spPr>
              <a:xfrm>
                <a:off x="1908000" y="23018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グループ化 4"/>
            <p:cNvGrpSpPr/>
            <p:nvPr/>
          </p:nvGrpSpPr>
          <p:grpSpPr>
            <a:xfrm>
              <a:off x="12779280" y="2304360"/>
              <a:ext cx="432000" cy="431640"/>
              <a:chOff x="12779280" y="2304360"/>
              <a:chExt cx="432000" cy="431640"/>
            </a:xfrm>
          </p:grpSpPr>
          <p:sp>
            <p:nvSpPr>
              <p:cNvPr id="59" name="フリーフォーム 43"/>
              <p:cNvSpPr/>
              <p:nvPr/>
            </p:nvSpPr>
            <p:spPr>
              <a:xfrm flipH="1">
                <a:off x="12779280" y="2304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フリーフォーム 44"/>
              <p:cNvSpPr/>
              <p:nvPr/>
            </p:nvSpPr>
            <p:spPr>
              <a:xfrm flipH="1">
                <a:off x="12887280" y="230436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グループ化 5"/>
            <p:cNvGrpSpPr/>
            <p:nvPr/>
          </p:nvGrpSpPr>
          <p:grpSpPr>
            <a:xfrm>
              <a:off x="12779280" y="7956360"/>
              <a:ext cx="432000" cy="432000"/>
              <a:chOff x="12779280" y="7956360"/>
              <a:chExt cx="432000" cy="432000"/>
            </a:xfrm>
          </p:grpSpPr>
          <p:sp>
            <p:nvSpPr>
              <p:cNvPr id="62" name="フリーフォーム 43"/>
              <p:cNvSpPr/>
              <p:nvPr/>
            </p:nvSpPr>
            <p:spPr>
              <a:xfrm flipH="1" flipV="1">
                <a:off x="12779280" y="8064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フリーフォーム 44"/>
              <p:cNvSpPr/>
              <p:nvPr/>
            </p:nvSpPr>
            <p:spPr>
              <a:xfrm flipH="1" flipV="1">
                <a:off x="12887280" y="795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" name="グループ化 7"/>
            <p:cNvGrpSpPr/>
            <p:nvPr/>
          </p:nvGrpSpPr>
          <p:grpSpPr>
            <a:xfrm>
              <a:off x="1908000" y="7956360"/>
              <a:ext cx="431640" cy="432000"/>
              <a:chOff x="1908000" y="7956360"/>
              <a:chExt cx="431640" cy="432000"/>
            </a:xfrm>
          </p:grpSpPr>
          <p:sp>
            <p:nvSpPr>
              <p:cNvPr id="65" name="フリーフォーム 43"/>
              <p:cNvSpPr/>
              <p:nvPr/>
            </p:nvSpPr>
            <p:spPr>
              <a:xfrm flipV="1">
                <a:off x="1908000" y="8063280"/>
                <a:ext cx="43164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44"/>
              <p:cNvSpPr/>
              <p:nvPr/>
            </p:nvSpPr>
            <p:spPr>
              <a:xfrm flipV="1">
                <a:off x="1908000" y="795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グループ化 14"/>
          <p:cNvGrpSpPr/>
          <p:nvPr/>
        </p:nvGrpSpPr>
        <p:grpSpPr>
          <a:xfrm>
            <a:off x="3760920" y="3168720"/>
            <a:ext cx="1716120" cy="285840"/>
            <a:chOff x="3760920" y="3168720"/>
            <a:chExt cx="1716120" cy="285840"/>
          </a:xfrm>
        </p:grpSpPr>
        <p:sp>
          <p:nvSpPr>
            <p:cNvPr id="104" name="Line 15"/>
            <p:cNvSpPr/>
            <p:nvPr/>
          </p:nvSpPr>
          <p:spPr>
            <a:xfrm>
              <a:off x="4475160" y="3311640"/>
              <a:ext cx="680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3760920" y="3168720"/>
              <a:ext cx="209520" cy="2858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5277240" y="3168720"/>
              <a:ext cx="199800" cy="285840"/>
            </a:xfrm>
            <a:prstGeom prst="rect">
              <a:avLst/>
            </a:pr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5029560" y="3168720"/>
              <a:ext cx="209520" cy="285840"/>
            </a:xfrm>
            <a:prstGeom prst="rect">
              <a:avLst/>
            </a:pr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4780080" y="3168720"/>
              <a:ext cx="210960" cy="285840"/>
            </a:xfrm>
            <a:prstGeom prst="rect">
              <a:avLst/>
            </a:pr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4543560" y="3168720"/>
              <a:ext cx="199800" cy="285840"/>
            </a:xfrm>
            <a:prstGeom prst="rect">
              <a:avLst/>
            </a:pr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21"/>
            <p:cNvSpPr/>
            <p:nvPr/>
          </p:nvSpPr>
          <p:spPr>
            <a:xfrm>
              <a:off x="4265640" y="3168720"/>
              <a:ext cx="209520" cy="2858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22"/>
            <p:cNvSpPr/>
            <p:nvPr/>
          </p:nvSpPr>
          <p:spPr>
            <a:xfrm>
              <a:off x="4017960" y="3168720"/>
              <a:ext cx="201600" cy="2858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785880"/>
                  <a:tab algn="l" pos="1571760"/>
                  <a:tab algn="l" pos="2357280"/>
                  <a:tab algn="l" pos="3143160"/>
                  <a:tab algn="l" pos="3929040"/>
                  <a:tab algn="l" pos="4714920"/>
                  <a:tab algn="l" pos="5500800"/>
                  <a:tab algn="l" pos="6286680"/>
                  <a:tab algn="l" pos="7072200"/>
                  <a:tab algn="l" pos="7858080"/>
                  <a:tab algn="l" pos="8643960"/>
                  <a:tab algn="l" pos="9429840"/>
                  <a:tab algn="l" pos="10215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cp:lastPrinted>2018-11-21T07:11:54Z</cp:lastPrinted>
  <dcterms:modified xsi:type="dcterms:W3CDTF">2025-11-11T00:42:02Z</dcterms:modified>
  <cp:revision>63</cp:revision>
  <dc:subject/>
  <dc:title>PowerPoint プレゼンテーション</dc:title>
</cp:coreProperties>
</file>