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5119350" cy="106918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13607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756000" y="5740920"/>
            <a:ext cx="13607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7728480" y="250164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756000" y="574092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7728480" y="574092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438156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357160" y="2501640"/>
            <a:ext cx="438156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9957960" y="2501640"/>
            <a:ext cx="438156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756000" y="5740920"/>
            <a:ext cx="438156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5357160" y="5740920"/>
            <a:ext cx="438156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9957960" y="5740920"/>
            <a:ext cx="438156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756000" y="2501640"/>
            <a:ext cx="1360764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1360764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02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7728480" y="2501640"/>
            <a:ext cx="66402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756000" y="426600"/>
            <a:ext cx="13607640" cy="827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7728480" y="2501640"/>
            <a:ext cx="66402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56000" y="574092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02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7728480" y="250164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7728480" y="574092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7728480" y="250164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756000" y="5740920"/>
            <a:ext cx="13607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3640"/>
                <a:tab algn="l" pos="1187280"/>
                <a:tab algn="l" pos="1781280"/>
                <a:tab algn="l" pos="2374920"/>
                <a:tab algn="l" pos="2968560"/>
                <a:tab algn="l" pos="3562200"/>
                <a:tab algn="l" pos="4156200"/>
                <a:tab algn="l" pos="4749840"/>
                <a:tab algn="l" pos="5343480"/>
                <a:tab algn="l" pos="5937120"/>
                <a:tab algn="l" pos="6531120"/>
                <a:tab algn="l" pos="7124760"/>
                <a:tab algn="l" pos="7718400"/>
                <a:tab algn="l" pos="8312040"/>
                <a:tab algn="l" pos="8906040"/>
                <a:tab algn="l" pos="9499680"/>
                <a:tab algn="l" pos="10093320"/>
                <a:tab algn="l" pos="1068696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3"/>
          <p:cNvSpPr/>
          <p:nvPr/>
        </p:nvSpPr>
        <p:spPr>
          <a:xfrm>
            <a:off x="3887640" y="339840"/>
            <a:ext cx="734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ctr" pos="2700360"/>
                <a:tab algn="r" pos="54007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■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圧着はがき</a:t>
            </a:r>
            <a:r>
              <a:rPr b="0" lang="en-US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(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ニス圧着</a:t>
            </a:r>
            <a:r>
              <a:rPr b="0" lang="en-US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)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：通常はがき仕上がり</a:t>
            </a:r>
            <a:r>
              <a:rPr b="0" lang="en-US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_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外</a:t>
            </a:r>
            <a:r>
              <a:rPr b="0" lang="en-US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3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つ折り</a:t>
            </a:r>
            <a:r>
              <a:rPr b="0" lang="en-US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_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中面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ctr" pos="2700360"/>
                <a:tab algn="r" pos="54007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（ 紙のサイズ </a:t>
            </a:r>
            <a:r>
              <a:rPr b="0" lang="en-US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290×145mm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仕上がりサイズ </a:t>
            </a:r>
            <a:r>
              <a:rPr b="0" lang="en-US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00×145mm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）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" name="グループ化 1134"/>
          <p:cNvGrpSpPr/>
          <p:nvPr/>
        </p:nvGrpSpPr>
        <p:grpSpPr>
          <a:xfrm>
            <a:off x="1838160" y="9047160"/>
            <a:ext cx="12035160" cy="1053000"/>
            <a:chOff x="1838160" y="9047160"/>
            <a:chExt cx="12035160" cy="1053000"/>
          </a:xfrm>
        </p:grpSpPr>
        <p:sp>
          <p:nvSpPr>
            <p:cNvPr id="2" name="正方形/長方形 3"/>
            <p:cNvSpPr/>
            <p:nvPr/>
          </p:nvSpPr>
          <p:spPr>
            <a:xfrm>
              <a:off x="1838160" y="9047160"/>
              <a:ext cx="6630120" cy="105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746280"/>
                  <a:tab algn="l" pos="1492200"/>
                  <a:tab algn="l" pos="2238480"/>
                  <a:tab algn="l" pos="2984400"/>
                  <a:tab algn="l" pos="3730680"/>
                  <a:tab algn="l" pos="4476600"/>
                  <a:tab algn="l" pos="5222880"/>
                  <a:tab algn="l" pos="5969160"/>
                  <a:tab algn="l" pos="6715080"/>
                  <a:tab algn="l" pos="7461360"/>
                  <a:tab algn="l" pos="8207280"/>
                  <a:tab algn="l" pos="8953560"/>
                  <a:tab algn="l" pos="9699480"/>
                  <a:tab algn="l" pos="10445760"/>
                </a:tabLst>
              </a:pPr>
              <a:r>
                <a:rPr b="1" lang="ja-JP" sz="1400" spc="-1" strike="noStrike">
                  <a:solidFill>
                    <a:srgbClr val="0066ff"/>
                  </a:solidFill>
                  <a:latin typeface="Calibri"/>
                </a:rPr>
                <a:t>●</a:t>
              </a:r>
              <a:r>
                <a:rPr b="1" lang="ja-JP" sz="1400" spc="-1" strike="noStrike">
                  <a:solidFill>
                    <a:srgbClr val="0066ff"/>
                  </a:solidFill>
                  <a:latin typeface="Calibri"/>
                </a:rPr>
                <a:t>水色の枠線</a:t>
              </a:r>
              <a:r>
                <a:rPr b="1" lang="en-US" sz="1400" spc="-1" strike="noStrike">
                  <a:solidFill>
                    <a:srgbClr val="0066ff"/>
                  </a:solidFill>
                  <a:latin typeface="Calibri"/>
                </a:rPr>
                <a:t>……</a:t>
              </a:r>
              <a:r>
                <a:rPr b="1" lang="ja-JP" sz="1400" spc="-1" strike="noStrike">
                  <a:solidFill>
                    <a:srgbClr val="0066ff"/>
                  </a:solidFill>
                  <a:latin typeface="Calibri"/>
                </a:rPr>
                <a:t>切れてはいけない要素（文字やロゴ等）をいれる範囲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746280"/>
                  <a:tab algn="l" pos="1492200"/>
                  <a:tab algn="l" pos="2238480"/>
                  <a:tab algn="l" pos="2984400"/>
                  <a:tab algn="l" pos="3730680"/>
                  <a:tab algn="l" pos="4476600"/>
                  <a:tab algn="l" pos="5222880"/>
                  <a:tab algn="l" pos="5969160"/>
                  <a:tab algn="l" pos="6715080"/>
                  <a:tab algn="l" pos="7461360"/>
                  <a:tab algn="l" pos="8207280"/>
                  <a:tab algn="l" pos="8953560"/>
                  <a:tab algn="l" pos="9699480"/>
                  <a:tab algn="l" pos="10445760"/>
                </a:tabLst>
              </a:pPr>
              <a:r>
                <a:rPr b="1" lang="ja-JP" sz="1400" spc="-1" strike="noStrike">
                  <a:solidFill>
                    <a:srgbClr val="cc00ff"/>
                  </a:solidFill>
                  <a:latin typeface="Calibri"/>
                </a:rPr>
                <a:t>●</a:t>
              </a:r>
              <a:r>
                <a:rPr b="1" lang="ja-JP" sz="1400" spc="-1" strike="noStrike">
                  <a:solidFill>
                    <a:srgbClr val="cc00ff"/>
                  </a:solidFill>
                  <a:latin typeface="Calibri"/>
                </a:rPr>
                <a:t>ピンクの枠線</a:t>
              </a:r>
              <a:r>
                <a:rPr b="1" lang="en-US" sz="1400" spc="-1" strike="noStrike">
                  <a:solidFill>
                    <a:srgbClr val="cc00ff"/>
                  </a:solidFill>
                  <a:latin typeface="Calibri"/>
                </a:rPr>
                <a:t>…</a:t>
              </a:r>
              <a:r>
                <a:rPr b="1" lang="ja-JP" sz="1400" spc="-1" strike="noStrike">
                  <a:solidFill>
                    <a:srgbClr val="cc00ff"/>
                  </a:solidFill>
                  <a:latin typeface="Calibri"/>
                </a:rPr>
                <a:t>仕上がりのサイズ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746280"/>
                  <a:tab algn="l" pos="1492200"/>
                  <a:tab algn="l" pos="2238480"/>
                  <a:tab algn="l" pos="2984400"/>
                  <a:tab algn="l" pos="3730680"/>
                  <a:tab algn="l" pos="4476600"/>
                  <a:tab algn="l" pos="5222880"/>
                  <a:tab algn="l" pos="5969160"/>
                  <a:tab algn="l" pos="6715080"/>
                  <a:tab algn="l" pos="7461360"/>
                  <a:tab algn="l" pos="8207280"/>
                  <a:tab algn="l" pos="8953560"/>
                  <a:tab algn="l" pos="9699480"/>
                  <a:tab algn="l" pos="10445760"/>
                </a:tabLst>
              </a:pPr>
              <a:r>
                <a:rPr b="1" lang="ja-JP" sz="1400" spc="-1" strike="noStrike">
                  <a:solidFill>
                    <a:srgbClr val="008000"/>
                  </a:solidFill>
                  <a:latin typeface="Calibri"/>
                </a:rPr>
                <a:t>●</a:t>
              </a:r>
              <a:r>
                <a:rPr b="1" lang="ja-JP" sz="1400" spc="-1" strike="noStrike">
                  <a:solidFill>
                    <a:srgbClr val="008000"/>
                  </a:solidFill>
                  <a:latin typeface="Calibri"/>
                </a:rPr>
                <a:t>みどりの枠線</a:t>
              </a:r>
              <a:r>
                <a:rPr b="1" lang="en-US" sz="1400" spc="-1" strike="noStrike">
                  <a:solidFill>
                    <a:srgbClr val="008000"/>
                  </a:solidFill>
                  <a:latin typeface="Calibri"/>
                </a:rPr>
                <a:t>…</a:t>
              </a:r>
              <a:r>
                <a:rPr b="1" lang="ja-JP" sz="1400" spc="-1" strike="noStrike">
                  <a:solidFill>
                    <a:srgbClr val="008000"/>
                  </a:solidFill>
                  <a:latin typeface="Calibri"/>
                </a:rPr>
                <a:t>フチなし印刷にする場合、背景を伸ばす範囲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" name="正方形/長方形 3"/>
            <p:cNvSpPr/>
            <p:nvPr/>
          </p:nvSpPr>
          <p:spPr>
            <a:xfrm>
              <a:off x="8468280" y="9047160"/>
              <a:ext cx="5405040" cy="105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746280"/>
                  <a:tab algn="l" pos="1492200"/>
                  <a:tab algn="l" pos="2238480"/>
                  <a:tab algn="l" pos="2984400"/>
                  <a:tab algn="l" pos="3730680"/>
                  <a:tab algn="l" pos="4476600"/>
                  <a:tab algn="l" pos="5222880"/>
                  <a:tab algn="l" pos="5969160"/>
                  <a:tab algn="l" pos="6715080"/>
                  <a:tab algn="l" pos="7461360"/>
                  <a:tab algn="l" pos="8207280"/>
                  <a:tab algn="l" pos="8953560"/>
                  <a:tab algn="l" pos="9699480"/>
                  <a:tab algn="l" pos="10445760"/>
                </a:tabLst>
              </a:pPr>
              <a:r>
                <a:rPr b="1" lang="ja-JP" sz="1400" spc="-1" strike="noStrike">
                  <a:solidFill>
                    <a:srgbClr val="ff0000"/>
                  </a:solidFill>
                  <a:latin typeface="Calibri"/>
                </a:rPr>
                <a:t>★★★ </a:t>
              </a:r>
              <a:r>
                <a:rPr b="1" lang="ja-JP" sz="1400" spc="-1" strike="noStrike">
                  <a:solidFill>
                    <a:srgbClr val="ff0000"/>
                  </a:solidFill>
                  <a:latin typeface="Calibri"/>
                </a:rPr>
                <a:t>ＰＤＦに変換して入稿される場合 ★★★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746280"/>
                  <a:tab algn="l" pos="1492200"/>
                  <a:tab algn="l" pos="2238480"/>
                  <a:tab algn="l" pos="2984400"/>
                  <a:tab algn="l" pos="3730680"/>
                  <a:tab algn="l" pos="4476600"/>
                  <a:tab algn="l" pos="5222880"/>
                  <a:tab algn="l" pos="5969160"/>
                  <a:tab algn="l" pos="6715080"/>
                  <a:tab algn="l" pos="7461360"/>
                  <a:tab algn="l" pos="8207280"/>
                  <a:tab algn="l" pos="8953560"/>
                  <a:tab algn="l" pos="9699480"/>
                  <a:tab algn="l" pos="10445760"/>
                </a:tabLst>
              </a:pPr>
              <a:r>
                <a:rPr b="1" lang="ja-JP" sz="1400" spc="-1" strike="noStrike">
                  <a:solidFill>
                    <a:srgbClr val="ff0000"/>
                  </a:solidFill>
                  <a:latin typeface="Calibri"/>
                </a:rPr>
                <a:t>「表示」＞「スライドマスター」画面より、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746280"/>
                  <a:tab algn="l" pos="1492200"/>
                  <a:tab algn="l" pos="2238480"/>
                  <a:tab algn="l" pos="2984400"/>
                  <a:tab algn="l" pos="3730680"/>
                  <a:tab algn="l" pos="4476600"/>
                  <a:tab algn="l" pos="5222880"/>
                  <a:tab algn="l" pos="5969160"/>
                  <a:tab algn="l" pos="6715080"/>
                  <a:tab algn="l" pos="7461360"/>
                  <a:tab algn="l" pos="8207280"/>
                  <a:tab algn="l" pos="8953560"/>
                  <a:tab algn="l" pos="9699480"/>
                  <a:tab algn="l" pos="10445760"/>
                </a:tabLst>
              </a:pPr>
              <a:r>
                <a:rPr b="1" lang="ja-JP" sz="1400" spc="-1" strike="noStrike">
                  <a:solidFill>
                    <a:srgbClr val="ff0000"/>
                  </a:solidFill>
                  <a:latin typeface="Calibri"/>
                </a:rPr>
                <a:t>色つきのガイド線を消してから変換してください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" name="グループ化 2"/>
          <p:cNvGrpSpPr/>
          <p:nvPr/>
        </p:nvGrpSpPr>
        <p:grpSpPr>
          <a:xfrm>
            <a:off x="2232000" y="927000"/>
            <a:ext cx="10655280" cy="7137360"/>
            <a:chOff x="2232000" y="927000"/>
            <a:chExt cx="10655280" cy="7137360"/>
          </a:xfrm>
        </p:grpSpPr>
        <p:grpSp>
          <p:nvGrpSpPr>
            <p:cNvPr id="5" name="グループ化 1"/>
            <p:cNvGrpSpPr/>
            <p:nvPr/>
          </p:nvGrpSpPr>
          <p:grpSpPr>
            <a:xfrm>
              <a:off x="2232000" y="2627640"/>
              <a:ext cx="10655280" cy="5436720"/>
              <a:chOff x="2232000" y="2627640"/>
              <a:chExt cx="10655280" cy="5436720"/>
            </a:xfrm>
          </p:grpSpPr>
          <p:sp>
            <p:nvSpPr>
              <p:cNvPr id="6" name="正方形/長方形 2"/>
              <p:cNvSpPr/>
              <p:nvPr/>
            </p:nvSpPr>
            <p:spPr>
              <a:xfrm flipH="1">
                <a:off x="5761800" y="2627640"/>
                <a:ext cx="215640" cy="5436720"/>
              </a:xfrm>
              <a:prstGeom prst="rect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7" name="グループ化 1"/>
              <p:cNvGrpSpPr/>
              <p:nvPr/>
            </p:nvGrpSpPr>
            <p:grpSpPr>
              <a:xfrm>
                <a:off x="2232000" y="2628000"/>
                <a:ext cx="10655280" cy="5436360"/>
                <a:chOff x="2232000" y="2628000"/>
                <a:chExt cx="10655280" cy="5436360"/>
              </a:xfrm>
            </p:grpSpPr>
            <p:grpSp>
              <p:nvGrpSpPr>
                <p:cNvPr id="8" name="グループ化 1"/>
                <p:cNvGrpSpPr/>
                <p:nvPr/>
              </p:nvGrpSpPr>
              <p:grpSpPr>
                <a:xfrm>
                  <a:off x="2232000" y="2628000"/>
                  <a:ext cx="10655280" cy="5436360"/>
                  <a:chOff x="2232000" y="2628000"/>
                  <a:chExt cx="10655280" cy="5436360"/>
                </a:xfrm>
              </p:grpSpPr>
              <p:grpSp>
                <p:nvGrpSpPr>
                  <p:cNvPr id="9" name="グループ化 4"/>
                  <p:cNvGrpSpPr/>
                  <p:nvPr/>
                </p:nvGrpSpPr>
                <p:grpSpPr>
                  <a:xfrm>
                    <a:off x="2232000" y="2628000"/>
                    <a:ext cx="10655280" cy="5436360"/>
                    <a:chOff x="2232000" y="2628000"/>
                    <a:chExt cx="10655280" cy="5436360"/>
                  </a:xfrm>
                </p:grpSpPr>
                <p:grpSp>
                  <p:nvGrpSpPr>
                    <p:cNvPr id="10" name="グループ化 3"/>
                    <p:cNvGrpSpPr/>
                    <p:nvPr/>
                  </p:nvGrpSpPr>
                  <p:grpSpPr>
                    <a:xfrm>
                      <a:off x="2232000" y="2628000"/>
                      <a:ext cx="10655280" cy="5436360"/>
                      <a:chOff x="2232000" y="2628000"/>
                      <a:chExt cx="10655280" cy="5436360"/>
                    </a:xfrm>
                  </p:grpSpPr>
                  <p:grpSp>
                    <p:nvGrpSpPr>
                      <p:cNvPr id="11" name="グループ化 1"/>
                      <p:cNvGrpSpPr/>
                      <p:nvPr/>
                    </p:nvGrpSpPr>
                    <p:grpSpPr>
                      <a:xfrm>
                        <a:off x="2232000" y="2628000"/>
                        <a:ext cx="10655280" cy="5436360"/>
                        <a:chOff x="2232000" y="2628000"/>
                        <a:chExt cx="10655280" cy="5436360"/>
                      </a:xfrm>
                    </p:grpSpPr>
                    <p:sp>
                      <p:nvSpPr>
                        <p:cNvPr id="12" name="正方形/長方形 2"/>
                        <p:cNvSpPr/>
                        <p:nvPr/>
                      </p:nvSpPr>
                      <p:spPr>
                        <a:xfrm>
                          <a:off x="2232000" y="2628000"/>
                          <a:ext cx="10655280" cy="5436360"/>
                        </a:xfrm>
                        <a:prstGeom prst="rect">
                          <a:avLst/>
                        </a:prstGeom>
                        <a:noFill/>
                        <a:ln w="3240">
                          <a:solidFill>
                            <a:srgbClr val="008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4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13" name="正方形/長方形 60"/>
                        <p:cNvSpPr/>
                        <p:nvPr/>
                      </p:nvSpPr>
                      <p:spPr>
                        <a:xfrm>
                          <a:off x="2339640" y="2735640"/>
                          <a:ext cx="3420000" cy="5220360"/>
                        </a:xfrm>
                        <a:prstGeom prst="rect">
                          <a:avLst/>
                        </a:prstGeom>
                        <a:noFill/>
                        <a:ln w="3240">
                          <a:solidFill>
                            <a:srgbClr val="ff3f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4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14" name="正方形/長方形 60"/>
                        <p:cNvSpPr/>
                        <p:nvPr/>
                      </p:nvSpPr>
                      <p:spPr>
                        <a:xfrm>
                          <a:off x="9359640" y="2735640"/>
                          <a:ext cx="3420000" cy="5220360"/>
                        </a:xfrm>
                        <a:prstGeom prst="rect">
                          <a:avLst/>
                        </a:prstGeom>
                        <a:noFill/>
                        <a:ln w="3240">
                          <a:solidFill>
                            <a:srgbClr val="ff3f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4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15" name="正方形/長方形 60"/>
                        <p:cNvSpPr/>
                        <p:nvPr/>
                      </p:nvSpPr>
                      <p:spPr>
                        <a:xfrm>
                          <a:off x="5759640" y="2735640"/>
                          <a:ext cx="3599640" cy="5220360"/>
                        </a:xfrm>
                        <a:prstGeom prst="rect">
                          <a:avLst/>
                        </a:prstGeom>
                        <a:noFill/>
                        <a:ln w="3240">
                          <a:solidFill>
                            <a:srgbClr val="ff3f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4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</p:grpSp>
                  <p:sp>
                    <p:nvSpPr>
                      <p:cNvPr id="16" name="正方形/長方形 61"/>
                      <p:cNvSpPr/>
                      <p:nvPr/>
                    </p:nvSpPr>
                    <p:spPr>
                      <a:xfrm>
                        <a:off x="9467280" y="2844360"/>
                        <a:ext cx="3204000" cy="5004360"/>
                      </a:xfrm>
                      <a:prstGeom prst="rect">
                        <a:avLst/>
                      </a:prstGeom>
                      <a:noFill/>
                      <a:ln w="3240">
                        <a:solidFill>
                          <a:srgbClr val="4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</p:grpSp>
                <p:sp>
                  <p:nvSpPr>
                    <p:cNvPr id="17" name="正方形/長方形 61"/>
                    <p:cNvSpPr/>
                    <p:nvPr/>
                  </p:nvSpPr>
                  <p:spPr>
                    <a:xfrm>
                      <a:off x="2447640" y="2843640"/>
                      <a:ext cx="3204000" cy="5004360"/>
                    </a:xfrm>
                    <a:prstGeom prst="rect">
                      <a:avLst/>
                    </a:prstGeom>
                    <a:noFill/>
                    <a:ln w="3240">
                      <a:solidFill>
                        <a:srgbClr val="40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sp>
                <p:nvSpPr>
                  <p:cNvPr id="18" name="正方形/長方形 60"/>
                  <p:cNvSpPr/>
                  <p:nvPr/>
                </p:nvSpPr>
                <p:spPr>
                  <a:xfrm>
                    <a:off x="5832720" y="2843640"/>
                    <a:ext cx="72360" cy="5003280"/>
                  </a:xfrm>
                  <a:prstGeom prst="rect">
                    <a:avLst/>
                  </a:prstGeom>
                  <a:noFill/>
                  <a:ln w="3240">
                    <a:solidFill>
                      <a:srgbClr val="4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4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sp>
              <p:nvSpPr>
                <p:cNvPr id="19" name="正方形/長方形 61"/>
                <p:cNvSpPr/>
                <p:nvPr/>
              </p:nvSpPr>
              <p:spPr>
                <a:xfrm>
                  <a:off x="6048000" y="2843640"/>
                  <a:ext cx="3204000" cy="5003280"/>
                </a:xfrm>
                <a:prstGeom prst="rect">
                  <a:avLst/>
                </a:prstGeom>
                <a:noFill/>
                <a:ln w="3240">
                  <a:solidFill>
                    <a:srgbClr val="4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pic>
          <p:nvPicPr>
            <p:cNvPr id="20" name="図 10" descr="テキスト"/>
            <p:cNvPicPr/>
            <p:nvPr/>
          </p:nvPicPr>
          <p:blipFill>
            <a:blip r:embed="rId2"/>
            <a:stretch/>
          </p:blipFill>
          <p:spPr>
            <a:xfrm>
              <a:off x="3751200" y="927000"/>
              <a:ext cx="1839960" cy="1226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1" name="図 2" descr="グラフィカル ユーザー インターフェイス, テキスト, Web サイト&#10;&#10;AI によって生成されたコンテンツは間違っている可能性があります。"/>
          <p:cNvPicPr/>
          <p:nvPr/>
        </p:nvPicPr>
        <p:blipFill>
          <a:blip r:embed="rId3"/>
          <a:stretch/>
        </p:blipFill>
        <p:spPr>
          <a:xfrm>
            <a:off x="15290640" y="-46080"/>
            <a:ext cx="12144600" cy="10737720"/>
          </a:xfrm>
          <a:prstGeom prst="rect">
            <a:avLst/>
          </a:prstGeom>
          <a:ln w="0">
            <a:noFill/>
          </a:ln>
        </p:spPr>
      </p:pic>
      <p:grpSp>
        <p:nvGrpSpPr>
          <p:cNvPr id="22" name="グループ化 2"/>
          <p:cNvGrpSpPr/>
          <p:nvPr/>
        </p:nvGrpSpPr>
        <p:grpSpPr>
          <a:xfrm>
            <a:off x="1908000" y="2011320"/>
            <a:ext cx="11303280" cy="6413400"/>
            <a:chOff x="1908000" y="2011320"/>
            <a:chExt cx="11303280" cy="6413400"/>
          </a:xfrm>
        </p:grpSpPr>
        <p:sp>
          <p:nvSpPr>
            <p:cNvPr id="23" name="テキスト ボックス 32"/>
            <p:cNvSpPr/>
            <p:nvPr/>
          </p:nvSpPr>
          <p:spPr>
            <a:xfrm>
              <a:off x="5481360" y="2020680"/>
              <a:ext cx="595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746280"/>
                  <a:tab algn="l" pos="1492200"/>
                  <a:tab algn="l" pos="2238480"/>
                  <a:tab algn="l" pos="2984400"/>
                  <a:tab algn="l" pos="3730680"/>
                  <a:tab algn="l" pos="4476600"/>
                  <a:tab algn="l" pos="5222880"/>
                  <a:tab algn="l" pos="5969160"/>
                  <a:tab algn="l" pos="6715080"/>
                  <a:tab algn="l" pos="7461360"/>
                  <a:tab algn="l" pos="8207280"/>
                  <a:tab algn="l" pos="8953560"/>
                  <a:tab algn="l" pos="9699480"/>
                  <a:tab algn="l" pos="104457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Calibri"/>
                </a:rPr>
                <a:t>山折り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4" name="グループ化 57"/>
            <p:cNvGrpSpPr/>
            <p:nvPr/>
          </p:nvGrpSpPr>
          <p:grpSpPr>
            <a:xfrm>
              <a:off x="1917360" y="4893120"/>
              <a:ext cx="286200" cy="900360"/>
              <a:chOff x="1917360" y="4893120"/>
              <a:chExt cx="286200" cy="900360"/>
            </a:xfrm>
          </p:grpSpPr>
          <p:sp>
            <p:nvSpPr>
              <p:cNvPr id="25" name="直線コネクタ 58"/>
              <p:cNvSpPr/>
              <p:nvPr/>
            </p:nvSpPr>
            <p:spPr>
              <a:xfrm>
                <a:off x="2131920" y="4893120"/>
                <a:ext cx="0" cy="90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" name="直線コネクタ 59"/>
              <p:cNvSpPr/>
              <p:nvPr/>
            </p:nvSpPr>
            <p:spPr>
              <a:xfrm flipH="1">
                <a:off x="1917360" y="5342400"/>
                <a:ext cx="286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7" name="Group 81"/>
            <p:cNvGrpSpPr/>
            <p:nvPr/>
          </p:nvGrpSpPr>
          <p:grpSpPr>
            <a:xfrm>
              <a:off x="5756760" y="2270520"/>
              <a:ext cx="0" cy="6152760"/>
              <a:chOff x="5756760" y="2270520"/>
              <a:chExt cx="0" cy="6152760"/>
            </a:xfrm>
          </p:grpSpPr>
          <p:sp>
            <p:nvSpPr>
              <p:cNvPr id="28" name="直線コネクタ 59"/>
              <p:cNvSpPr/>
              <p:nvPr/>
            </p:nvSpPr>
            <p:spPr>
              <a:xfrm flipV="1">
                <a:off x="5756760" y="2270520"/>
                <a:ext cx="0" cy="28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" name="直線コネクタ 59"/>
              <p:cNvSpPr/>
              <p:nvPr/>
            </p:nvSpPr>
            <p:spPr>
              <a:xfrm>
                <a:off x="5756760" y="8137080"/>
                <a:ext cx="0" cy="28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0" name="Group 84"/>
            <p:cNvGrpSpPr/>
            <p:nvPr/>
          </p:nvGrpSpPr>
          <p:grpSpPr>
            <a:xfrm>
              <a:off x="9360360" y="2270520"/>
              <a:ext cx="0" cy="6152760"/>
              <a:chOff x="9360360" y="2270520"/>
              <a:chExt cx="0" cy="6152760"/>
            </a:xfrm>
          </p:grpSpPr>
          <p:sp>
            <p:nvSpPr>
              <p:cNvPr id="31" name="直線コネクタ 59"/>
              <p:cNvSpPr/>
              <p:nvPr/>
            </p:nvSpPr>
            <p:spPr>
              <a:xfrm flipV="1">
                <a:off x="9360360" y="2270520"/>
                <a:ext cx="0" cy="28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" name="直線コネクタ 59"/>
              <p:cNvSpPr/>
              <p:nvPr/>
            </p:nvSpPr>
            <p:spPr>
              <a:xfrm>
                <a:off x="9360360" y="8137080"/>
                <a:ext cx="0" cy="28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3" name="グループ化 56"/>
            <p:cNvGrpSpPr/>
            <p:nvPr/>
          </p:nvGrpSpPr>
          <p:grpSpPr>
            <a:xfrm>
              <a:off x="12916800" y="4898520"/>
              <a:ext cx="286200" cy="900360"/>
              <a:chOff x="12916800" y="4898520"/>
              <a:chExt cx="286200" cy="900360"/>
            </a:xfrm>
          </p:grpSpPr>
          <p:sp>
            <p:nvSpPr>
              <p:cNvPr id="34" name="直線コネクタ 54"/>
              <p:cNvSpPr/>
              <p:nvPr/>
            </p:nvSpPr>
            <p:spPr>
              <a:xfrm flipV="1">
                <a:off x="12988440" y="4898520"/>
                <a:ext cx="0" cy="90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" name="直線コネクタ 55"/>
              <p:cNvSpPr/>
              <p:nvPr/>
            </p:nvSpPr>
            <p:spPr>
              <a:xfrm>
                <a:off x="12916800" y="5349600"/>
                <a:ext cx="286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6" name="グループ化 56"/>
            <p:cNvGrpSpPr/>
            <p:nvPr/>
          </p:nvGrpSpPr>
          <p:grpSpPr>
            <a:xfrm>
              <a:off x="7111080" y="2270520"/>
              <a:ext cx="900360" cy="286200"/>
              <a:chOff x="7111080" y="2270520"/>
              <a:chExt cx="900360" cy="286200"/>
            </a:xfrm>
          </p:grpSpPr>
          <p:sp>
            <p:nvSpPr>
              <p:cNvPr id="37" name="直線コネクタ 54"/>
              <p:cNvSpPr/>
              <p:nvPr/>
            </p:nvSpPr>
            <p:spPr>
              <a:xfrm flipH="1">
                <a:off x="7111080" y="2485080"/>
                <a:ext cx="900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" name="直線コネクタ 55"/>
              <p:cNvSpPr/>
              <p:nvPr/>
            </p:nvSpPr>
            <p:spPr>
              <a:xfrm flipV="1">
                <a:off x="7562160" y="2270520"/>
                <a:ext cx="0" cy="28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9" name="グループ化 56"/>
            <p:cNvGrpSpPr/>
            <p:nvPr/>
          </p:nvGrpSpPr>
          <p:grpSpPr>
            <a:xfrm>
              <a:off x="7105680" y="8138520"/>
              <a:ext cx="900360" cy="286200"/>
              <a:chOff x="7105680" y="8138520"/>
              <a:chExt cx="900360" cy="286200"/>
            </a:xfrm>
          </p:grpSpPr>
          <p:sp>
            <p:nvSpPr>
              <p:cNvPr id="40" name="直線コネクタ 54"/>
              <p:cNvSpPr/>
              <p:nvPr/>
            </p:nvSpPr>
            <p:spPr>
              <a:xfrm>
                <a:off x="7105680" y="8210160"/>
                <a:ext cx="900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" name="直線コネクタ 55"/>
              <p:cNvSpPr/>
              <p:nvPr/>
            </p:nvSpPr>
            <p:spPr>
              <a:xfrm>
                <a:off x="7554960" y="8138520"/>
                <a:ext cx="0" cy="28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cxnSp>
          <p:nvCxnSpPr>
            <p:cNvPr id="42" name="直線矢印コネクタ 153"/>
            <p:cNvCxnSpPr/>
            <p:nvPr/>
          </p:nvCxnSpPr>
          <p:spPr>
            <a:xfrm>
              <a:off x="2323800" y="2372760"/>
              <a:ext cx="3432960" cy="10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</p:cxnSp>
        <p:sp>
          <p:nvSpPr>
            <p:cNvPr id="43" name="テキスト ボックス 32"/>
            <p:cNvSpPr/>
            <p:nvPr/>
          </p:nvSpPr>
          <p:spPr>
            <a:xfrm>
              <a:off x="4822560" y="2163600"/>
              <a:ext cx="595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746280"/>
                  <a:tab algn="l" pos="1492200"/>
                  <a:tab algn="l" pos="2238480"/>
                  <a:tab algn="l" pos="2984400"/>
                  <a:tab algn="l" pos="3730680"/>
                  <a:tab algn="l" pos="4476600"/>
                  <a:tab algn="l" pos="5222880"/>
                  <a:tab algn="l" pos="5969160"/>
                  <a:tab algn="l" pos="6715080"/>
                  <a:tab algn="l" pos="7461360"/>
                  <a:tab algn="l" pos="8207280"/>
                  <a:tab algn="l" pos="8953560"/>
                  <a:tab algn="l" pos="9699480"/>
                  <a:tab algn="l" pos="1044576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</a:rPr>
                <a:t>95mm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44" name="直線矢印コネクタ 151"/>
            <p:cNvCxnSpPr/>
            <p:nvPr/>
          </p:nvCxnSpPr>
          <p:spPr>
            <a:xfrm>
              <a:off x="5763600" y="2372760"/>
              <a:ext cx="3601080" cy="10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</p:cxnSp>
        <p:sp>
          <p:nvSpPr>
            <p:cNvPr id="45" name="テキスト ボックス 32"/>
            <p:cNvSpPr/>
            <p:nvPr/>
          </p:nvSpPr>
          <p:spPr>
            <a:xfrm>
              <a:off x="8280360" y="2163600"/>
              <a:ext cx="595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746280"/>
                  <a:tab algn="l" pos="1492200"/>
                  <a:tab algn="l" pos="2238480"/>
                  <a:tab algn="l" pos="2984400"/>
                  <a:tab algn="l" pos="3730680"/>
                  <a:tab algn="l" pos="4476600"/>
                  <a:tab algn="l" pos="5222880"/>
                  <a:tab algn="l" pos="5969160"/>
                  <a:tab algn="l" pos="6715080"/>
                  <a:tab algn="l" pos="7461360"/>
                  <a:tab algn="l" pos="8207280"/>
                  <a:tab algn="l" pos="8953560"/>
                  <a:tab algn="l" pos="9699480"/>
                  <a:tab algn="l" pos="1044576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</a:rPr>
                <a:t>100mm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46" name="直線矢印コネクタ 156"/>
            <p:cNvCxnSpPr/>
            <p:nvPr/>
          </p:nvCxnSpPr>
          <p:spPr>
            <a:xfrm>
              <a:off x="9359640" y="2372760"/>
              <a:ext cx="3431160" cy="10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</p:cxnSp>
        <p:sp>
          <p:nvSpPr>
            <p:cNvPr id="47" name="テキスト ボックス 32"/>
            <p:cNvSpPr/>
            <p:nvPr/>
          </p:nvSpPr>
          <p:spPr>
            <a:xfrm>
              <a:off x="11877840" y="2163600"/>
              <a:ext cx="595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746280"/>
                  <a:tab algn="l" pos="1492200"/>
                  <a:tab algn="l" pos="2238480"/>
                  <a:tab algn="l" pos="2984400"/>
                  <a:tab algn="l" pos="3730680"/>
                  <a:tab algn="l" pos="4476600"/>
                  <a:tab algn="l" pos="5222880"/>
                  <a:tab algn="l" pos="5969160"/>
                  <a:tab algn="l" pos="6715080"/>
                  <a:tab algn="l" pos="7461360"/>
                  <a:tab algn="l" pos="8207280"/>
                  <a:tab algn="l" pos="8953560"/>
                  <a:tab algn="l" pos="9699480"/>
                  <a:tab algn="l" pos="1044576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</a:rPr>
                <a:t>95mm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" name="テキスト ボックス 32"/>
            <p:cNvSpPr/>
            <p:nvPr/>
          </p:nvSpPr>
          <p:spPr>
            <a:xfrm>
              <a:off x="9037800" y="2011320"/>
              <a:ext cx="595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746280"/>
                  <a:tab algn="l" pos="1492200"/>
                  <a:tab algn="l" pos="2238480"/>
                  <a:tab algn="l" pos="2984400"/>
                  <a:tab algn="l" pos="3730680"/>
                  <a:tab algn="l" pos="4476600"/>
                  <a:tab algn="l" pos="5222880"/>
                  <a:tab algn="l" pos="5969160"/>
                  <a:tab algn="l" pos="6715080"/>
                  <a:tab algn="l" pos="7461360"/>
                  <a:tab algn="l" pos="8207280"/>
                  <a:tab algn="l" pos="8953560"/>
                  <a:tab algn="l" pos="9699480"/>
                  <a:tab algn="l" pos="104457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Calibri"/>
                </a:rPr>
                <a:t>谷折り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" name="直線コネクタ 59"/>
            <p:cNvSpPr/>
            <p:nvPr/>
          </p:nvSpPr>
          <p:spPr>
            <a:xfrm flipV="1">
              <a:off x="5940000" y="2273400"/>
              <a:ext cx="0" cy="286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0" name="グループ化 1"/>
            <p:cNvGrpSpPr/>
            <p:nvPr/>
          </p:nvGrpSpPr>
          <p:grpSpPr>
            <a:xfrm>
              <a:off x="5762520" y="2393640"/>
              <a:ext cx="711000" cy="215640"/>
              <a:chOff x="5762520" y="2393640"/>
              <a:chExt cx="711000" cy="215640"/>
            </a:xfrm>
          </p:grpSpPr>
          <p:cxnSp>
            <p:nvCxnSpPr>
              <p:cNvPr id="51" name="直線矢印コネクタ 7"/>
              <p:cNvCxnSpPr/>
              <p:nvPr/>
            </p:nvCxnSpPr>
            <p:spPr>
              <a:xfrm>
                <a:off x="5762520" y="2537640"/>
                <a:ext cx="18000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sm" type="arrow" w="sm"/>
                <a:tailEnd len="sm" type="arrow" w="sm"/>
              </a:ln>
            </p:spPr>
          </p:cxnSp>
          <p:sp>
            <p:nvSpPr>
              <p:cNvPr id="52" name="テキスト ボックス 32"/>
              <p:cNvSpPr/>
              <p:nvPr/>
            </p:nvSpPr>
            <p:spPr>
              <a:xfrm>
                <a:off x="5878080" y="2393640"/>
                <a:ext cx="5954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746280"/>
                    <a:tab algn="l" pos="1492200"/>
                    <a:tab algn="l" pos="2238480"/>
                    <a:tab algn="l" pos="2984400"/>
                    <a:tab algn="l" pos="3730680"/>
                    <a:tab algn="l" pos="4476600"/>
                    <a:tab algn="l" pos="5222880"/>
                    <a:tab algn="l" pos="5969160"/>
                    <a:tab algn="l" pos="6715080"/>
                    <a:tab algn="l" pos="7461360"/>
                    <a:tab algn="l" pos="8207280"/>
                    <a:tab algn="l" pos="8953560"/>
                    <a:tab algn="l" pos="9699480"/>
                    <a:tab algn="l" pos="10445760"/>
                  </a:tabLst>
                </a:pPr>
                <a:r>
                  <a:rPr b="0" lang="ja-JP" sz="400" spc="-1" strike="noStrike">
                    <a:solidFill>
                      <a:srgbClr val="000000"/>
                    </a:solidFill>
                    <a:latin typeface="Calibri"/>
                  </a:rPr>
                  <a:t>開封スペース</a:t>
                </a:r>
                <a:endParaRPr b="0" lang="en-US" sz="4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746280"/>
                    <a:tab algn="l" pos="1492200"/>
                    <a:tab algn="l" pos="2238480"/>
                    <a:tab algn="l" pos="2984400"/>
                    <a:tab algn="l" pos="3730680"/>
                    <a:tab algn="l" pos="4476600"/>
                    <a:tab algn="l" pos="5222880"/>
                    <a:tab algn="l" pos="5969160"/>
                    <a:tab algn="l" pos="6715080"/>
                    <a:tab algn="l" pos="7461360"/>
                    <a:tab algn="l" pos="8207280"/>
                    <a:tab algn="l" pos="8953560"/>
                    <a:tab algn="l" pos="9699480"/>
                    <a:tab algn="l" pos="1044576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Calibri"/>
                  </a:rPr>
                  <a:t>5mm</a:t>
                </a:r>
                <a:endParaRPr b="0" lang="en-US" sz="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3" name="テキスト ボックス 32"/>
            <p:cNvSpPr/>
            <p:nvPr/>
          </p:nvSpPr>
          <p:spPr>
            <a:xfrm>
              <a:off x="3814560" y="2151000"/>
              <a:ext cx="595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746280"/>
                  <a:tab algn="l" pos="1492200"/>
                  <a:tab algn="l" pos="2238480"/>
                  <a:tab algn="l" pos="2984400"/>
                  <a:tab algn="l" pos="3730680"/>
                  <a:tab algn="l" pos="4476600"/>
                  <a:tab algn="l" pos="5222880"/>
                  <a:tab algn="l" pos="5969160"/>
                  <a:tab algn="l" pos="6715080"/>
                  <a:tab algn="l" pos="7461360"/>
                  <a:tab algn="l" pos="8207280"/>
                  <a:tab algn="l" pos="8953560"/>
                  <a:tab algn="l" pos="9699480"/>
                  <a:tab algn="l" pos="104457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Calibri"/>
                </a:rPr>
                <a:t>裏表紙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4" name="グループ化 3"/>
            <p:cNvGrpSpPr/>
            <p:nvPr/>
          </p:nvGrpSpPr>
          <p:grpSpPr>
            <a:xfrm>
              <a:off x="1908000" y="2304000"/>
              <a:ext cx="431640" cy="431640"/>
              <a:chOff x="1908000" y="2304000"/>
              <a:chExt cx="431640" cy="431640"/>
            </a:xfrm>
          </p:grpSpPr>
          <p:sp>
            <p:nvSpPr>
              <p:cNvPr id="55" name="フリーフォーム 43"/>
              <p:cNvSpPr/>
              <p:nvPr/>
            </p:nvSpPr>
            <p:spPr>
              <a:xfrm>
                <a:off x="1908000" y="2304000"/>
                <a:ext cx="431640" cy="32364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" name="フリーフォーム 44"/>
              <p:cNvSpPr/>
              <p:nvPr/>
            </p:nvSpPr>
            <p:spPr>
              <a:xfrm>
                <a:off x="1908000" y="2304000"/>
                <a:ext cx="324000" cy="43164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7" name="グループ化 4"/>
            <p:cNvGrpSpPr/>
            <p:nvPr/>
          </p:nvGrpSpPr>
          <p:grpSpPr>
            <a:xfrm>
              <a:off x="12779280" y="2306520"/>
              <a:ext cx="432000" cy="431640"/>
              <a:chOff x="12779280" y="2306520"/>
              <a:chExt cx="432000" cy="431640"/>
            </a:xfrm>
          </p:grpSpPr>
          <p:sp>
            <p:nvSpPr>
              <p:cNvPr id="58" name="フリーフォーム 43"/>
              <p:cNvSpPr/>
              <p:nvPr/>
            </p:nvSpPr>
            <p:spPr>
              <a:xfrm flipH="1">
                <a:off x="12779280" y="2306520"/>
                <a:ext cx="432000" cy="32364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" name="フリーフォーム 44"/>
              <p:cNvSpPr/>
              <p:nvPr/>
            </p:nvSpPr>
            <p:spPr>
              <a:xfrm flipH="1">
                <a:off x="12887280" y="2306520"/>
                <a:ext cx="324000" cy="43164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0" name="グループ化 5"/>
            <p:cNvGrpSpPr/>
            <p:nvPr/>
          </p:nvGrpSpPr>
          <p:grpSpPr>
            <a:xfrm>
              <a:off x="12779280" y="7956360"/>
              <a:ext cx="432000" cy="432000"/>
              <a:chOff x="12779280" y="7956360"/>
              <a:chExt cx="432000" cy="432000"/>
            </a:xfrm>
          </p:grpSpPr>
          <p:sp>
            <p:nvSpPr>
              <p:cNvPr id="61" name="フリーフォーム 43"/>
              <p:cNvSpPr/>
              <p:nvPr/>
            </p:nvSpPr>
            <p:spPr>
              <a:xfrm flipH="1" flipV="1">
                <a:off x="12779280" y="8064360"/>
                <a:ext cx="432000" cy="32400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" name="フリーフォーム 44"/>
              <p:cNvSpPr/>
              <p:nvPr/>
            </p:nvSpPr>
            <p:spPr>
              <a:xfrm flipH="1" flipV="1">
                <a:off x="12887280" y="7956360"/>
                <a:ext cx="324000" cy="43200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3" name="グループ化 7"/>
            <p:cNvGrpSpPr/>
            <p:nvPr/>
          </p:nvGrpSpPr>
          <p:grpSpPr>
            <a:xfrm>
              <a:off x="1908000" y="7956360"/>
              <a:ext cx="431640" cy="432000"/>
              <a:chOff x="1908000" y="7956360"/>
              <a:chExt cx="431640" cy="432000"/>
            </a:xfrm>
          </p:grpSpPr>
          <p:sp>
            <p:nvSpPr>
              <p:cNvPr id="64" name="フリーフォーム 43"/>
              <p:cNvSpPr/>
              <p:nvPr/>
            </p:nvSpPr>
            <p:spPr>
              <a:xfrm flipV="1">
                <a:off x="1908000" y="8063280"/>
                <a:ext cx="431640" cy="32436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" name="フリーフォーム 44"/>
              <p:cNvSpPr/>
              <p:nvPr/>
            </p:nvSpPr>
            <p:spPr>
              <a:xfrm flipV="1">
                <a:off x="1908000" y="7956360"/>
                <a:ext cx="324000" cy="43200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テキスト ボックス 1"/>
          <p:cNvSpPr/>
          <p:nvPr/>
        </p:nvSpPr>
        <p:spPr>
          <a:xfrm rot="16200000">
            <a:off x="5405760" y="5252400"/>
            <a:ext cx="9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POSTCARD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9T06:36:19Z</dcterms:created>
  <dc:creator>Ex-Image</dc:creator>
  <dc:description/>
  <dc:language>en-US</dc:language>
  <cp:lastModifiedBy>CR0096</cp:lastModifiedBy>
  <cp:lastPrinted>2018-11-21T07:11:57Z</cp:lastPrinted>
  <dcterms:modified xsi:type="dcterms:W3CDTF">2025-11-12T05:14:47Z</dcterms:modified>
  <cp:revision>63</cp:revision>
  <dc:subject/>
  <dc:title>PowerPoint プレゼンテーション</dc:title>
</cp:coreProperties>
</file>