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28800425" cy="396001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2591964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440000" y="21262680"/>
            <a:ext cx="2591964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4721480" y="926640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0000" y="2126268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14721480" y="2126268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834588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203480" y="9266400"/>
            <a:ext cx="834588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8966960" y="9266400"/>
            <a:ext cx="834588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1440000" y="21262680"/>
            <a:ext cx="834588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10203480" y="21262680"/>
            <a:ext cx="834588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18966960" y="21262680"/>
            <a:ext cx="834588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40000" y="9266400"/>
            <a:ext cx="25919640" cy="22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25919640" cy="22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12648600" cy="22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4721480" y="9266400"/>
            <a:ext cx="12648600" cy="22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440000" y="1580040"/>
            <a:ext cx="25919640" cy="30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721480" y="9266400"/>
            <a:ext cx="12648600" cy="22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0000" y="2126268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1440000" y="9266400"/>
            <a:ext cx="25919640" cy="22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12648600" cy="22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4721480" y="926640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721480" y="2126268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721480" y="926640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40000" y="21262680"/>
            <a:ext cx="2591964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2591964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40000" y="21262680"/>
            <a:ext cx="2591964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4721480" y="926640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40000" y="2126268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4721480" y="2126268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834588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203480" y="9266400"/>
            <a:ext cx="834588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8966960" y="9266400"/>
            <a:ext cx="834588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440000" y="21262680"/>
            <a:ext cx="834588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10203480" y="21262680"/>
            <a:ext cx="834588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18966960" y="21262680"/>
            <a:ext cx="834588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40000" y="9266400"/>
            <a:ext cx="25919640" cy="22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25919640" cy="22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12648600" cy="22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4721480" y="9266400"/>
            <a:ext cx="12648600" cy="22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25919640" cy="22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40000" y="1580040"/>
            <a:ext cx="25919640" cy="30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4721480" y="9266400"/>
            <a:ext cx="12648600" cy="22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40000" y="2126268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12648600" cy="22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14721480" y="926640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4721480" y="2126268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14721480" y="926640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40000" y="21262680"/>
            <a:ext cx="2591964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2591964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40000" y="21262680"/>
            <a:ext cx="2591964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4721480" y="926640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40000" y="2126268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4721480" y="2126268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834588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10203480" y="9266400"/>
            <a:ext cx="834588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8966960" y="9266400"/>
            <a:ext cx="834588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40000" y="21262680"/>
            <a:ext cx="834588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10203480" y="21262680"/>
            <a:ext cx="834588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18966960" y="21262680"/>
            <a:ext cx="834588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12648600" cy="22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14721480" y="9266400"/>
            <a:ext cx="12648600" cy="22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1440000" y="1580040"/>
            <a:ext cx="25919640" cy="30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14721480" y="9266400"/>
            <a:ext cx="12648600" cy="22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1440000" y="2126268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12648600" cy="22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4721480" y="926640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721480" y="2126268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4721480" y="926640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40000" y="21262680"/>
            <a:ext cx="2591964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3" descr="グラフィカル ユーザー インターフェイス, テキスト, アプリケーション&#10;&#10;AI によって生成されたコンテンツは間違っている可能性があります。"/>
          <p:cNvPicPr/>
          <p:nvPr/>
        </p:nvPicPr>
        <p:blipFill>
          <a:blip r:embed="rId2"/>
          <a:stretch/>
        </p:blipFill>
        <p:spPr>
          <a:xfrm>
            <a:off x="257040" y="0"/>
            <a:ext cx="28286280" cy="3960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図 22" descr="挿絵 が含まれている画像&#10;&#10;AI によって生成されたコンテンツは間違っている可能性があります。"/>
          <p:cNvPicPr/>
          <p:nvPr/>
        </p:nvPicPr>
        <p:blipFill>
          <a:blip r:embed="rId2"/>
          <a:stretch/>
        </p:blipFill>
        <p:spPr>
          <a:xfrm>
            <a:off x="21636000" y="1603440"/>
            <a:ext cx="2160720" cy="558720"/>
          </a:xfrm>
          <a:prstGeom prst="rect">
            <a:avLst/>
          </a:prstGeom>
          <a:ln w="0">
            <a:noFill/>
          </a:ln>
        </p:spPr>
      </p:pic>
      <p:grpSp>
        <p:nvGrpSpPr>
          <p:cNvPr id="38" name="グループ化 2"/>
          <p:cNvGrpSpPr/>
          <p:nvPr/>
        </p:nvGrpSpPr>
        <p:grpSpPr>
          <a:xfrm>
            <a:off x="6192720" y="3492360"/>
            <a:ext cx="16414920" cy="32615280"/>
            <a:chOff x="6192720" y="3492360"/>
            <a:chExt cx="16414920" cy="32615280"/>
          </a:xfrm>
        </p:grpSpPr>
        <p:sp>
          <p:nvSpPr>
            <p:cNvPr id="39" name="正方形/長方形 3"/>
            <p:cNvSpPr/>
            <p:nvPr/>
          </p:nvSpPr>
          <p:spPr>
            <a:xfrm>
              <a:off x="6300360" y="3600000"/>
              <a:ext cx="16199280" cy="3239964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" name="正方形/長方形 4"/>
            <p:cNvSpPr/>
            <p:nvPr/>
          </p:nvSpPr>
          <p:spPr>
            <a:xfrm>
              <a:off x="6408360" y="3708000"/>
              <a:ext cx="15983280" cy="3218364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" name="正方形/長方形 5"/>
            <p:cNvSpPr/>
            <p:nvPr/>
          </p:nvSpPr>
          <p:spPr>
            <a:xfrm>
              <a:off x="6192720" y="3492360"/>
              <a:ext cx="16414920" cy="32615280"/>
            </a:xfrm>
            <a:prstGeom prst="rect">
              <a:avLst/>
            </a:prstGeom>
            <a:noFill/>
            <a:ln w="3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" name="グループ化 6"/>
          <p:cNvGrpSpPr/>
          <p:nvPr/>
        </p:nvGrpSpPr>
        <p:grpSpPr>
          <a:xfrm>
            <a:off x="5862600" y="3165480"/>
            <a:ext cx="17073360" cy="33271920"/>
            <a:chOff x="5862600" y="3165480"/>
            <a:chExt cx="17073360" cy="33271920"/>
          </a:xfrm>
        </p:grpSpPr>
        <p:grpSp>
          <p:nvGrpSpPr>
            <p:cNvPr id="43" name="グループ化 9"/>
            <p:cNvGrpSpPr/>
            <p:nvPr/>
          </p:nvGrpSpPr>
          <p:grpSpPr>
            <a:xfrm>
              <a:off x="5863320" y="3165480"/>
              <a:ext cx="438120" cy="431640"/>
              <a:chOff x="5863320" y="3165480"/>
              <a:chExt cx="438120" cy="431640"/>
            </a:xfrm>
          </p:grpSpPr>
          <p:sp>
            <p:nvSpPr>
              <p:cNvPr id="44" name="フリーフォーム 150"/>
              <p:cNvSpPr/>
              <p:nvPr/>
            </p:nvSpPr>
            <p:spPr>
              <a:xfrm>
                <a:off x="5863320" y="3165480"/>
                <a:ext cx="438120" cy="32688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" name="フリーフォーム 151"/>
              <p:cNvSpPr/>
              <p:nvPr/>
            </p:nvSpPr>
            <p:spPr>
              <a:xfrm>
                <a:off x="5863320" y="3165480"/>
                <a:ext cx="3272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6" name="グループ化 9"/>
            <p:cNvGrpSpPr/>
            <p:nvPr/>
          </p:nvGrpSpPr>
          <p:grpSpPr>
            <a:xfrm>
              <a:off x="22497840" y="3165840"/>
              <a:ext cx="438120" cy="431640"/>
              <a:chOff x="22497840" y="3165840"/>
              <a:chExt cx="438120" cy="431640"/>
            </a:xfrm>
          </p:grpSpPr>
          <p:sp>
            <p:nvSpPr>
              <p:cNvPr id="47" name="フリーフォーム 148"/>
              <p:cNvSpPr/>
              <p:nvPr/>
            </p:nvSpPr>
            <p:spPr>
              <a:xfrm flipH="1">
                <a:off x="22497480" y="3165840"/>
                <a:ext cx="438120" cy="32688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" name="フリーフォーム 149"/>
              <p:cNvSpPr/>
              <p:nvPr/>
            </p:nvSpPr>
            <p:spPr>
              <a:xfrm flipH="1">
                <a:off x="22608360" y="3165840"/>
                <a:ext cx="3272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9" name="グループ化 9"/>
            <p:cNvGrpSpPr/>
            <p:nvPr/>
          </p:nvGrpSpPr>
          <p:grpSpPr>
            <a:xfrm>
              <a:off x="5862600" y="36005040"/>
              <a:ext cx="438120" cy="431640"/>
              <a:chOff x="5862600" y="36005040"/>
              <a:chExt cx="438120" cy="431640"/>
            </a:xfrm>
          </p:grpSpPr>
          <p:sp>
            <p:nvSpPr>
              <p:cNvPr id="50" name="フリーフォーム 144"/>
              <p:cNvSpPr/>
              <p:nvPr/>
            </p:nvSpPr>
            <p:spPr>
              <a:xfrm flipV="1">
                <a:off x="5862600" y="36109800"/>
                <a:ext cx="438120" cy="32688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" name="フリーフォーム 145"/>
              <p:cNvSpPr/>
              <p:nvPr/>
            </p:nvSpPr>
            <p:spPr>
              <a:xfrm flipV="1">
                <a:off x="5862600" y="36004680"/>
                <a:ext cx="3272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2" name="グループ化 9"/>
            <p:cNvGrpSpPr/>
            <p:nvPr/>
          </p:nvGrpSpPr>
          <p:grpSpPr>
            <a:xfrm>
              <a:off x="22497120" y="36005760"/>
              <a:ext cx="438120" cy="431640"/>
              <a:chOff x="22497120" y="36005760"/>
              <a:chExt cx="438120" cy="431640"/>
            </a:xfrm>
          </p:grpSpPr>
          <p:sp>
            <p:nvSpPr>
              <p:cNvPr id="53" name="フリーフォーム 142"/>
              <p:cNvSpPr/>
              <p:nvPr/>
            </p:nvSpPr>
            <p:spPr>
              <a:xfrm flipH="1" flipV="1">
                <a:off x="22496760" y="36110520"/>
                <a:ext cx="438120" cy="32688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" name="フリーフォーム 143"/>
              <p:cNvSpPr/>
              <p:nvPr/>
            </p:nvSpPr>
            <p:spPr>
              <a:xfrm flipH="1" flipV="1">
                <a:off x="22607640" y="36005400"/>
                <a:ext cx="3272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5" name="Rectangle 23"/>
          <p:cNvSpPr/>
          <p:nvPr/>
        </p:nvSpPr>
        <p:spPr>
          <a:xfrm>
            <a:off x="4500720" y="1585080"/>
            <a:ext cx="180036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3760" bIns="23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パネル：</a:t>
            </a:r>
            <a:r>
              <a:rPr b="0" lang="en-US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900×H450mm_</a:t>
            </a:r>
            <a:r>
              <a:rPr b="0" lang="ja-JP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くり抜き加工</a:t>
            </a:r>
            <a:r>
              <a:rPr b="0" lang="en-US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縦（ 仕上がりサイズ </a:t>
            </a:r>
            <a:r>
              <a:rPr b="0" lang="en-US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50 × 900 mm </a:t>
            </a:r>
            <a:r>
              <a:rPr b="0" lang="ja-JP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図 9" descr="テキスト, 手紙&#10;&#10;AI によって生成されたコンテンツは間違っている可能性があります。"/>
          <p:cNvPicPr/>
          <p:nvPr/>
        </p:nvPicPr>
        <p:blipFill>
          <a:blip r:embed="rId3"/>
          <a:stretch/>
        </p:blipFill>
        <p:spPr>
          <a:xfrm>
            <a:off x="29738520" y="0"/>
            <a:ext cx="34566480" cy="14408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グループ化 3"/>
          <p:cNvGrpSpPr/>
          <p:nvPr/>
        </p:nvGrpSpPr>
        <p:grpSpPr>
          <a:xfrm>
            <a:off x="5862600" y="3165480"/>
            <a:ext cx="17073360" cy="33271920"/>
            <a:chOff x="5862600" y="3165480"/>
            <a:chExt cx="17073360" cy="33271920"/>
          </a:xfrm>
        </p:grpSpPr>
        <p:grpSp>
          <p:nvGrpSpPr>
            <p:cNvPr id="94" name="グループ化 9"/>
            <p:cNvGrpSpPr/>
            <p:nvPr/>
          </p:nvGrpSpPr>
          <p:grpSpPr>
            <a:xfrm>
              <a:off x="5863320" y="3165480"/>
              <a:ext cx="438120" cy="431640"/>
              <a:chOff x="5863320" y="3165480"/>
              <a:chExt cx="438120" cy="431640"/>
            </a:xfrm>
          </p:grpSpPr>
          <p:sp>
            <p:nvSpPr>
              <p:cNvPr id="95" name="フリーフォーム 150"/>
              <p:cNvSpPr/>
              <p:nvPr/>
            </p:nvSpPr>
            <p:spPr>
              <a:xfrm>
                <a:off x="5863320" y="3165480"/>
                <a:ext cx="438120" cy="32688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" name="フリーフォーム 151"/>
              <p:cNvSpPr/>
              <p:nvPr/>
            </p:nvSpPr>
            <p:spPr>
              <a:xfrm>
                <a:off x="5863320" y="3165480"/>
                <a:ext cx="3272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7" name="グループ化 9"/>
            <p:cNvGrpSpPr/>
            <p:nvPr/>
          </p:nvGrpSpPr>
          <p:grpSpPr>
            <a:xfrm>
              <a:off x="22497840" y="3165840"/>
              <a:ext cx="438120" cy="431640"/>
              <a:chOff x="22497840" y="3165840"/>
              <a:chExt cx="438120" cy="431640"/>
            </a:xfrm>
          </p:grpSpPr>
          <p:sp>
            <p:nvSpPr>
              <p:cNvPr id="98" name="フリーフォーム 148"/>
              <p:cNvSpPr/>
              <p:nvPr/>
            </p:nvSpPr>
            <p:spPr>
              <a:xfrm flipH="1">
                <a:off x="22497480" y="3165840"/>
                <a:ext cx="438120" cy="32688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" name="フリーフォーム 149"/>
              <p:cNvSpPr/>
              <p:nvPr/>
            </p:nvSpPr>
            <p:spPr>
              <a:xfrm flipH="1">
                <a:off x="22608360" y="3165840"/>
                <a:ext cx="3272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0" name="グループ化 9"/>
            <p:cNvGrpSpPr/>
            <p:nvPr/>
          </p:nvGrpSpPr>
          <p:grpSpPr>
            <a:xfrm>
              <a:off x="5862600" y="36005040"/>
              <a:ext cx="438120" cy="431640"/>
              <a:chOff x="5862600" y="36005040"/>
              <a:chExt cx="438120" cy="431640"/>
            </a:xfrm>
          </p:grpSpPr>
          <p:sp>
            <p:nvSpPr>
              <p:cNvPr id="101" name="フリーフォーム 144"/>
              <p:cNvSpPr/>
              <p:nvPr/>
            </p:nvSpPr>
            <p:spPr>
              <a:xfrm flipV="1">
                <a:off x="5862600" y="36109800"/>
                <a:ext cx="438120" cy="32688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" name="フリーフォーム 145"/>
              <p:cNvSpPr/>
              <p:nvPr/>
            </p:nvSpPr>
            <p:spPr>
              <a:xfrm flipV="1">
                <a:off x="5862600" y="36004680"/>
                <a:ext cx="3272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3" name="グループ化 9"/>
            <p:cNvGrpSpPr/>
            <p:nvPr/>
          </p:nvGrpSpPr>
          <p:grpSpPr>
            <a:xfrm>
              <a:off x="22497120" y="36005760"/>
              <a:ext cx="438120" cy="431640"/>
              <a:chOff x="22497120" y="36005760"/>
              <a:chExt cx="438120" cy="431640"/>
            </a:xfrm>
          </p:grpSpPr>
          <p:sp>
            <p:nvSpPr>
              <p:cNvPr id="104" name="フリーフォーム 142"/>
              <p:cNvSpPr/>
              <p:nvPr/>
            </p:nvSpPr>
            <p:spPr>
              <a:xfrm flipH="1" flipV="1">
                <a:off x="22496760" y="36110520"/>
                <a:ext cx="438120" cy="32688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" name="フリーフォーム 143"/>
              <p:cNvSpPr/>
              <p:nvPr/>
            </p:nvSpPr>
            <p:spPr>
              <a:xfrm flipH="1" flipV="1">
                <a:off x="22607640" y="36005400"/>
                <a:ext cx="3272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106" name="図 5" descr="テキスト&#10;&#10;AI によって生成されたコンテンツは間違っている可能性があります。"/>
          <p:cNvPicPr/>
          <p:nvPr/>
        </p:nvPicPr>
        <p:blipFill>
          <a:blip r:embed="rId2"/>
          <a:stretch/>
        </p:blipFill>
        <p:spPr>
          <a:xfrm>
            <a:off x="28819440" y="0"/>
            <a:ext cx="18002160" cy="1268568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23"/>
          <p:cNvSpPr/>
          <p:nvPr/>
        </p:nvSpPr>
        <p:spPr>
          <a:xfrm>
            <a:off x="4500720" y="1585080"/>
            <a:ext cx="180036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3760" bIns="23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パネル：</a:t>
            </a:r>
            <a:r>
              <a:rPr b="0" lang="en-US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900×H450mm_</a:t>
            </a:r>
            <a:r>
              <a:rPr b="0" lang="ja-JP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くり抜き加工</a:t>
            </a:r>
            <a:r>
              <a:rPr b="0" lang="en-US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縦（ 仕上がりサイズ </a:t>
            </a:r>
            <a:r>
              <a:rPr b="0" lang="en-US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50 × 900 mm </a:t>
            </a:r>
            <a:r>
              <a:rPr b="0" lang="ja-JP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図 8" descr="アイコン&#10;&#10;AI によって生成されたコンテンツは間違っている可能性があります。"/>
          <p:cNvPicPr/>
          <p:nvPr/>
        </p:nvPicPr>
        <p:blipFill>
          <a:blip r:embed="rId3"/>
          <a:stretch/>
        </p:blipFill>
        <p:spPr>
          <a:xfrm>
            <a:off x="21636000" y="1603440"/>
            <a:ext cx="2160720" cy="5587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1440000" y="9266400"/>
            <a:ext cx="25919640" cy="22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6840" indent="-36684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795240" indent="-30456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225440" indent="-2444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716120" indent="-2444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2208240" indent="-24444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2208240" indent="-24444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2208240" indent="-24444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楕円 24"/>
          <p:cNvSpPr/>
          <p:nvPr/>
        </p:nvSpPr>
        <p:spPr>
          <a:xfrm>
            <a:off x="31338720" y="6559560"/>
            <a:ext cx="6480360" cy="7199280"/>
          </a:xfrm>
          <a:prstGeom prst="ellipse">
            <a:avLst/>
          </a:prstGeom>
          <a:noFill/>
          <a:ln w="64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tabLst>
                <a:tab algn="l" pos="0"/>
                <a:tab algn="l" pos="4010040"/>
                <a:tab algn="l" pos="80200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楕円 25"/>
          <p:cNvSpPr/>
          <p:nvPr/>
        </p:nvSpPr>
        <p:spPr>
          <a:xfrm>
            <a:off x="41275080" y="6919920"/>
            <a:ext cx="5400720" cy="6480000"/>
          </a:xfrm>
          <a:prstGeom prst="ellipse">
            <a:avLst/>
          </a:prstGeom>
          <a:noFill/>
          <a:ln w="64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tabLst>
                <a:tab algn="l" pos="0"/>
                <a:tab algn="l" pos="4010040"/>
                <a:tab algn="l" pos="80200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楕円 26"/>
          <p:cNvSpPr/>
          <p:nvPr/>
        </p:nvSpPr>
        <p:spPr>
          <a:xfrm>
            <a:off x="50133240" y="7278840"/>
            <a:ext cx="4680000" cy="5760720"/>
          </a:xfrm>
          <a:prstGeom prst="ellipse">
            <a:avLst/>
          </a:prstGeom>
          <a:noFill/>
          <a:ln w="64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tabLst>
                <a:tab algn="l" pos="0"/>
                <a:tab algn="l" pos="4010040"/>
                <a:tab algn="l" pos="80200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楕円 27"/>
          <p:cNvSpPr/>
          <p:nvPr/>
        </p:nvSpPr>
        <p:spPr>
          <a:xfrm>
            <a:off x="58269240" y="7639200"/>
            <a:ext cx="4321080" cy="5040000"/>
          </a:xfrm>
          <a:prstGeom prst="ellipse">
            <a:avLst/>
          </a:prstGeom>
          <a:noFill/>
          <a:ln w="64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tabLst>
                <a:tab algn="l" pos="0"/>
                <a:tab algn="l" pos="4010040"/>
                <a:tab algn="l" pos="80200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6:36:19Z</dcterms:created>
  <dc:creator>Ex-Image</dc:creator>
  <dc:description/>
  <dc:language>en-US</dc:language>
  <cp:lastModifiedBy>CR0096</cp:lastModifiedBy>
  <dcterms:modified xsi:type="dcterms:W3CDTF">2025-07-04T05:10:00Z</dcterms:modified>
  <cp:revision>21</cp:revision>
  <dc:subject/>
  <dc:title>PowerPoint プレゼンテーション</dc:title>
</cp:coreProperties>
</file>