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2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455440" y="1623960"/>
            <a:ext cx="2160360" cy="55872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2"/>
          <p:cNvGrpSpPr/>
          <p:nvPr/>
        </p:nvGrpSpPr>
        <p:grpSpPr>
          <a:xfrm>
            <a:off x="6192720" y="3492360"/>
            <a:ext cx="16414920" cy="32615280"/>
            <a:chOff x="6192720" y="3492360"/>
            <a:chExt cx="16414920" cy="32615280"/>
          </a:xfrm>
        </p:grpSpPr>
        <p:sp>
          <p:nvSpPr>
            <p:cNvPr id="39" name="正方形/長方形 3"/>
            <p:cNvSpPr/>
            <p:nvPr/>
          </p:nvSpPr>
          <p:spPr>
            <a:xfrm>
              <a:off x="6300360" y="3600000"/>
              <a:ext cx="16199280" cy="3239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"/>
            <p:cNvSpPr/>
            <p:nvPr/>
          </p:nvSpPr>
          <p:spPr>
            <a:xfrm>
              <a:off x="6660360" y="3960000"/>
              <a:ext cx="15479280" cy="31679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5"/>
            <p:cNvSpPr/>
            <p:nvPr/>
          </p:nvSpPr>
          <p:spPr>
            <a:xfrm>
              <a:off x="6192720" y="3492360"/>
              <a:ext cx="16414920" cy="3261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" name="Rectangle 23"/>
          <p:cNvSpPr/>
          <p:nvPr/>
        </p:nvSpPr>
        <p:spPr>
          <a:xfrm>
            <a:off x="3184560" y="1585080"/>
            <a:ext cx="20270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 × 900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810160" y="27355680"/>
            <a:ext cx="34566120" cy="1440684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3"/>
          <p:cNvGrpSpPr/>
          <p:nvPr/>
        </p:nvGrpSpPr>
        <p:grpSpPr>
          <a:xfrm>
            <a:off x="29810160" y="0"/>
            <a:ext cx="34566120" cy="26425440"/>
            <a:chOff x="29810160" y="0"/>
            <a:chExt cx="34566120" cy="26425440"/>
          </a:xfrm>
        </p:grpSpPr>
        <p:sp>
          <p:nvSpPr>
            <p:cNvPr id="45" name="正方形/長方形 21"/>
            <p:cNvSpPr/>
            <p:nvPr/>
          </p:nvSpPr>
          <p:spPr>
            <a:xfrm>
              <a:off x="29810160" y="0"/>
              <a:ext cx="34566120" cy="264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30080520" y="0"/>
              <a:ext cx="32848920" cy="48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6"/>
          <p:cNvGrpSpPr/>
          <p:nvPr/>
        </p:nvGrpSpPr>
        <p:grpSpPr>
          <a:xfrm>
            <a:off x="5869080" y="3168720"/>
            <a:ext cx="17062200" cy="33262920"/>
            <a:chOff x="5869080" y="3168720"/>
            <a:chExt cx="17062200" cy="33262920"/>
          </a:xfrm>
        </p:grpSpPr>
        <p:grpSp>
          <p:nvGrpSpPr>
            <p:cNvPr id="48" name="グループ化 1"/>
            <p:cNvGrpSpPr/>
            <p:nvPr/>
          </p:nvGrpSpPr>
          <p:grpSpPr>
            <a:xfrm>
              <a:off x="5869080" y="36000000"/>
              <a:ext cx="431640" cy="431640"/>
              <a:chOff x="5869080" y="36000000"/>
              <a:chExt cx="43164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5869080" y="3600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5869080" y="3610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7"/>
            <p:cNvGrpSpPr/>
            <p:nvPr/>
          </p:nvGrpSpPr>
          <p:grpSpPr>
            <a:xfrm>
              <a:off x="22499640" y="36000000"/>
              <a:ext cx="431640" cy="431640"/>
              <a:chOff x="22499640" y="36000000"/>
              <a:chExt cx="431640" cy="43164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2607280" y="3600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2499640" y="3610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19"/>
            <p:cNvGrpSpPr/>
            <p:nvPr/>
          </p:nvGrpSpPr>
          <p:grpSpPr>
            <a:xfrm>
              <a:off x="5869080" y="3168720"/>
              <a:ext cx="431640" cy="431640"/>
              <a:chOff x="5869080" y="3168720"/>
              <a:chExt cx="431640" cy="43164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5869080" y="3168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5869080" y="3168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3"/>
            <p:cNvGrpSpPr/>
            <p:nvPr/>
          </p:nvGrpSpPr>
          <p:grpSpPr>
            <a:xfrm>
              <a:off x="22499640" y="3168720"/>
              <a:ext cx="431640" cy="431640"/>
              <a:chOff x="22499640" y="3168720"/>
              <a:chExt cx="431640" cy="43164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2607280" y="3168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2499640" y="3168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3"/>
          <p:cNvSpPr/>
          <p:nvPr/>
        </p:nvSpPr>
        <p:spPr>
          <a:xfrm>
            <a:off x="3184560" y="1585080"/>
            <a:ext cx="20270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900×H450mm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0 × 900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3455440" y="1603440"/>
            <a:ext cx="2160360" cy="558720"/>
          </a:xfrm>
          <a:prstGeom prst="rect">
            <a:avLst/>
          </a:prstGeom>
          <a:ln w="0">
            <a:noFill/>
          </a:ln>
        </p:spPr>
      </p:pic>
      <p:pic>
        <p:nvPicPr>
          <p:cNvPr id="98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9378160" y="0"/>
            <a:ext cx="14229000" cy="1709892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1"/>
          <p:cNvGrpSpPr/>
          <p:nvPr/>
        </p:nvGrpSpPr>
        <p:grpSpPr>
          <a:xfrm>
            <a:off x="5869080" y="3168720"/>
            <a:ext cx="17062200" cy="33262920"/>
            <a:chOff x="5869080" y="3168720"/>
            <a:chExt cx="17062200" cy="33262920"/>
          </a:xfrm>
        </p:grpSpPr>
        <p:grpSp>
          <p:nvGrpSpPr>
            <p:cNvPr id="100" name="グループ化 2"/>
            <p:cNvGrpSpPr/>
            <p:nvPr/>
          </p:nvGrpSpPr>
          <p:grpSpPr>
            <a:xfrm>
              <a:off x="5869080" y="36000000"/>
              <a:ext cx="431640" cy="431640"/>
              <a:chOff x="5869080" y="36000000"/>
              <a:chExt cx="43164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5869080" y="3600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5869080" y="3610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3"/>
            <p:cNvGrpSpPr/>
            <p:nvPr/>
          </p:nvGrpSpPr>
          <p:grpSpPr>
            <a:xfrm>
              <a:off x="22499640" y="36000000"/>
              <a:ext cx="431640" cy="431640"/>
              <a:chOff x="22499640" y="36000000"/>
              <a:chExt cx="431640" cy="43164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22607280" y="3600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22499640" y="3610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4"/>
            <p:cNvGrpSpPr/>
            <p:nvPr/>
          </p:nvGrpSpPr>
          <p:grpSpPr>
            <a:xfrm>
              <a:off x="5869080" y="3168720"/>
              <a:ext cx="431640" cy="431640"/>
              <a:chOff x="5869080" y="3168720"/>
              <a:chExt cx="431640" cy="43164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5869080" y="3168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5869080" y="3168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5"/>
            <p:cNvGrpSpPr/>
            <p:nvPr/>
          </p:nvGrpSpPr>
          <p:grpSpPr>
            <a:xfrm>
              <a:off x="22499640" y="3168720"/>
              <a:ext cx="431640" cy="431640"/>
              <a:chOff x="22499640" y="3168720"/>
              <a:chExt cx="431640" cy="43164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22607280" y="316872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22499640" y="316872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23"/>
          <p:cNvSpPr/>
          <p:nvPr/>
        </p:nvSpPr>
        <p:spPr>
          <a:xfrm>
            <a:off x="31410360" y="3391380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1"/>
          <p:cNvSpPr/>
          <p:nvPr/>
        </p:nvSpPr>
        <p:spPr>
          <a:xfrm>
            <a:off x="41346360" y="3427416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2"/>
          <p:cNvSpPr/>
          <p:nvPr/>
        </p:nvSpPr>
        <p:spPr>
          <a:xfrm>
            <a:off x="50204520" y="3463308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3"/>
          <p:cNvSpPr/>
          <p:nvPr/>
        </p:nvSpPr>
        <p:spPr>
          <a:xfrm>
            <a:off x="58340520" y="34993440"/>
            <a:ext cx="432144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3"/>
          <p:cNvGrpSpPr/>
          <p:nvPr/>
        </p:nvGrpSpPr>
        <p:grpSpPr>
          <a:xfrm>
            <a:off x="42629040" y="5740560"/>
            <a:ext cx="8928360" cy="19080000"/>
            <a:chOff x="42629040" y="5740560"/>
            <a:chExt cx="8928360" cy="19080000"/>
          </a:xfrm>
        </p:grpSpPr>
        <p:sp>
          <p:nvSpPr>
            <p:cNvPr id="155" name="Freeform 4"/>
            <p:cNvSpPr/>
            <p:nvPr/>
          </p:nvSpPr>
          <p:spPr>
            <a:xfrm>
              <a:off x="42629040" y="5740560"/>
              <a:ext cx="892836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43197480" y="1817640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44911800" y="1804968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46594440" y="1819224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48582000" y="1801152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49811760" y="1816380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3:54:11Z</dcterms:modified>
  <cp:revision>24</cp:revision>
  <dc:subject/>
  <dc:title>PowerPoint プレゼンテーション</dc:title>
</cp:coreProperties>
</file>