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35999738" cy="14400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3239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00000" y="7731720"/>
            <a:ext cx="3239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0000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840176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754440" y="336960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708880" y="336960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800000" y="773172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2754440" y="773172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3708880" y="773172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800000" y="-685440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3239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800000" y="-825192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0000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800000" y="-685440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40176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800000" y="7731720"/>
            <a:ext cx="3239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3239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800000" y="7731720"/>
            <a:ext cx="3239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80000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840176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754440" y="336960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3708880" y="336960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800000" y="773172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12754440" y="773172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23708880" y="773172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00000" y="-685440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176"/>
              </a:spcBef>
              <a:buNone/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3239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3239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800000" y="-825192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80000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840176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800000" y="7731720"/>
            <a:ext cx="3239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3239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800000" y="7731720"/>
            <a:ext cx="3239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80000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840176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2754440" y="336960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3708880" y="336960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800000" y="773172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12754440" y="773172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23708880" y="7731720"/>
            <a:ext cx="104324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1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800000" y="-825192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176"/>
              </a:spcBef>
              <a:tabLst>
                <a:tab algn="l" pos="0"/>
              </a:tabLst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80000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3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401760" y="773172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00000" y="-12623040"/>
            <a:ext cx="32399640" cy="28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0000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401760" y="3369600"/>
            <a:ext cx="158108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00000" y="7731720"/>
            <a:ext cx="32399640" cy="39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2000"/>
          </a:bodyPr>
          <a:p>
            <a:pPr indent="0">
              <a:spcBef>
                <a:spcPts val="28176"/>
              </a:spcBef>
              <a:buNone/>
            </a:pP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49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6"/>
          <a:stretch/>
        </p:blipFill>
        <p:spPr>
          <a:xfrm>
            <a:off x="11998440" y="0"/>
            <a:ext cx="12004560" cy="144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2052720" y="1692360"/>
            <a:ext cx="31894560" cy="11015640"/>
            <a:chOff x="2052720" y="1692360"/>
            <a:chExt cx="31894560" cy="11015640"/>
          </a:xfrm>
        </p:grpSpPr>
        <p:sp>
          <p:nvSpPr>
            <p:cNvPr id="38" name="正方形/長方形 3"/>
            <p:cNvSpPr/>
            <p:nvPr/>
          </p:nvSpPr>
          <p:spPr>
            <a:xfrm>
              <a:off x="2160360" y="1800000"/>
              <a:ext cx="31678920" cy="1080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6"/>
            <p:cNvSpPr/>
            <p:nvPr/>
          </p:nvSpPr>
          <p:spPr>
            <a:xfrm>
              <a:off x="2520720" y="2160360"/>
              <a:ext cx="30958200" cy="1007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7"/>
            <p:cNvSpPr/>
            <p:nvPr/>
          </p:nvSpPr>
          <p:spPr>
            <a:xfrm>
              <a:off x="2052720" y="1692360"/>
              <a:ext cx="31894560" cy="11015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36360000" y="0"/>
            <a:ext cx="10971360" cy="14400360"/>
            <a:chOff x="36360000" y="0"/>
            <a:chExt cx="10971360" cy="14400360"/>
          </a:xfrm>
        </p:grpSpPr>
        <p:sp>
          <p:nvSpPr>
            <p:cNvPr id="42" name="正方形/長方形 10"/>
            <p:cNvSpPr/>
            <p:nvPr/>
          </p:nvSpPr>
          <p:spPr>
            <a:xfrm>
              <a:off x="36360000" y="0"/>
              <a:ext cx="10971360" cy="144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36444600" y="0"/>
              <a:ext cx="10532520" cy="154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1220760" y="336960"/>
            <a:ext cx="2049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880×H300mm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80 × 300 mm 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31751640" y="368280"/>
            <a:ext cx="2520720" cy="6541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2"/>
          <p:cNvGrpSpPr/>
          <p:nvPr/>
        </p:nvGrpSpPr>
        <p:grpSpPr>
          <a:xfrm>
            <a:off x="1727280" y="1368360"/>
            <a:ext cx="32545080" cy="11663280"/>
            <a:chOff x="1727280" y="1368360"/>
            <a:chExt cx="32545080" cy="1166328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1727280" y="12599640"/>
              <a:ext cx="432000" cy="431640"/>
              <a:chOff x="1727280" y="12599640"/>
              <a:chExt cx="432000" cy="43164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1727280" y="12599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1727280" y="12708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33840720" y="12599640"/>
              <a:ext cx="431640" cy="432000"/>
              <a:chOff x="33840720" y="12599640"/>
              <a:chExt cx="43164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33948360" y="12599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33840720" y="1270836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1727280" y="1368360"/>
              <a:ext cx="432000" cy="432720"/>
              <a:chOff x="1727280" y="136836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1727280" y="136836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1727280" y="13690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33840720" y="1369440"/>
              <a:ext cx="431640" cy="432000"/>
              <a:chOff x="33840720" y="1369440"/>
              <a:chExt cx="43164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33948360" y="13694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33840720" y="13694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1220760" y="336960"/>
            <a:ext cx="2049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880×H300mm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80 × 300 mm </a:t>
            </a:r>
            <a:r>
              <a:rPr b="0" lang="ja-JP" sz="4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グループ化 2"/>
          <p:cNvGrpSpPr/>
          <p:nvPr/>
        </p:nvGrpSpPr>
        <p:grpSpPr>
          <a:xfrm>
            <a:off x="1727280" y="1368360"/>
            <a:ext cx="32545080" cy="11663280"/>
            <a:chOff x="1727280" y="1368360"/>
            <a:chExt cx="32545080" cy="11663280"/>
          </a:xfrm>
        </p:grpSpPr>
        <p:grpSp>
          <p:nvGrpSpPr>
            <p:cNvPr id="97" name="グループ化 23"/>
            <p:cNvGrpSpPr/>
            <p:nvPr/>
          </p:nvGrpSpPr>
          <p:grpSpPr>
            <a:xfrm>
              <a:off x="1727280" y="12599640"/>
              <a:ext cx="432000" cy="431640"/>
              <a:chOff x="1727280" y="12599640"/>
              <a:chExt cx="432000" cy="431640"/>
            </a:xfrm>
          </p:grpSpPr>
          <p:sp>
            <p:nvSpPr>
              <p:cNvPr id="98" name="Freeform 37"/>
              <p:cNvSpPr/>
              <p:nvPr/>
            </p:nvSpPr>
            <p:spPr>
              <a:xfrm>
                <a:off x="1727280" y="12599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1727280" y="12708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24"/>
            <p:cNvGrpSpPr/>
            <p:nvPr/>
          </p:nvGrpSpPr>
          <p:grpSpPr>
            <a:xfrm>
              <a:off x="33840720" y="12599640"/>
              <a:ext cx="431640" cy="432000"/>
              <a:chOff x="33840720" y="12599640"/>
              <a:chExt cx="431640" cy="432000"/>
            </a:xfrm>
          </p:grpSpPr>
          <p:sp>
            <p:nvSpPr>
              <p:cNvPr id="101" name="Freeform 41"/>
              <p:cNvSpPr/>
              <p:nvPr/>
            </p:nvSpPr>
            <p:spPr>
              <a:xfrm>
                <a:off x="33948360" y="12599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42"/>
              <p:cNvSpPr/>
              <p:nvPr/>
            </p:nvSpPr>
            <p:spPr>
              <a:xfrm>
                <a:off x="33840720" y="1270836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25"/>
            <p:cNvGrpSpPr/>
            <p:nvPr/>
          </p:nvGrpSpPr>
          <p:grpSpPr>
            <a:xfrm>
              <a:off x="1727280" y="1368360"/>
              <a:ext cx="432000" cy="432720"/>
              <a:chOff x="1727280" y="1368360"/>
              <a:chExt cx="432000" cy="432720"/>
            </a:xfrm>
          </p:grpSpPr>
          <p:sp>
            <p:nvSpPr>
              <p:cNvPr id="104" name="Freeform 45"/>
              <p:cNvSpPr/>
              <p:nvPr/>
            </p:nvSpPr>
            <p:spPr>
              <a:xfrm>
                <a:off x="1727280" y="136836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6"/>
              <p:cNvSpPr/>
              <p:nvPr/>
            </p:nvSpPr>
            <p:spPr>
              <a:xfrm>
                <a:off x="1727280" y="13690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26"/>
            <p:cNvGrpSpPr/>
            <p:nvPr/>
          </p:nvGrpSpPr>
          <p:grpSpPr>
            <a:xfrm>
              <a:off x="33840720" y="1369440"/>
              <a:ext cx="431640" cy="432000"/>
              <a:chOff x="33840720" y="1369440"/>
              <a:chExt cx="431640" cy="432000"/>
            </a:xfrm>
          </p:grpSpPr>
          <p:sp>
            <p:nvSpPr>
              <p:cNvPr id="107" name="Freeform 47"/>
              <p:cNvSpPr/>
              <p:nvPr/>
            </p:nvSpPr>
            <p:spPr>
              <a:xfrm>
                <a:off x="33948360" y="13694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>
                <a:off x="33840720" y="13694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9" name="図 7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31745160" y="365040"/>
            <a:ext cx="2527200" cy="654120"/>
          </a:xfrm>
          <a:prstGeom prst="rect">
            <a:avLst/>
          </a:prstGeom>
          <a:ln w="0">
            <a:noFill/>
          </a:ln>
        </p:spPr>
      </p:pic>
      <p:pic>
        <p:nvPicPr>
          <p:cNvPr id="110" name="図 11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36360000" y="0"/>
            <a:ext cx="10972800" cy="102488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32399640" cy="24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15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5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800000" y="3369600"/>
            <a:ext cx="32399640" cy="83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"/>
          </a:bodyPr>
          <a:p>
            <a:pPr marL="849960" indent="-849960">
              <a:spcBef>
                <a:spcPts val="28176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1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2700" spc="-1" strike="noStrike">
              <a:solidFill>
                <a:srgbClr val="000000"/>
              </a:solidFill>
              <a:latin typeface="Calibri"/>
            </a:endParaRPr>
          </a:p>
          <a:p>
            <a:pPr lvl="1" marL="1848960" indent="-707400">
              <a:spcBef>
                <a:spcPts val="2435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97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7400" spc="-1" strike="noStrike">
              <a:solidFill>
                <a:srgbClr val="000000"/>
              </a:solidFill>
              <a:latin typeface="Calibri"/>
            </a:endParaRPr>
          </a:p>
          <a:p>
            <a:pPr lvl="2" marL="2853360" indent="-564480">
              <a:spcBef>
                <a:spcPts val="204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8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1800" spc="-1" strike="noStrike">
              <a:solidFill>
                <a:srgbClr val="000000"/>
              </a:solidFill>
              <a:latin typeface="Calibri"/>
            </a:endParaRPr>
          </a:p>
          <a:p>
            <a:pPr lvl="3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4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5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  <a:p>
            <a:pPr lvl="6" marL="3584160" indent="-564480">
              <a:spcBef>
                <a:spcPts val="17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9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40390920" y="3959280"/>
            <a:ext cx="2916000" cy="6480000"/>
            <a:chOff x="40390920" y="3959280"/>
            <a:chExt cx="2916000" cy="6480000"/>
          </a:xfrm>
        </p:grpSpPr>
        <p:sp>
          <p:nvSpPr>
            <p:cNvPr id="150" name="Freeform 6"/>
            <p:cNvSpPr/>
            <p:nvPr/>
          </p:nvSpPr>
          <p:spPr>
            <a:xfrm>
              <a:off x="40390920" y="3959280"/>
              <a:ext cx="2916000" cy="6480000"/>
            </a:xfrm>
            <a:custGeom>
              <a:avLst/>
              <a:gdLst/>
              <a:ahLst/>
              <a:rect l="l" t="t" r="r" b="b"/>
              <a:pathLst>
                <a:path w="1833" h="4084">
                  <a:moveTo>
                    <a:pt x="1833" y="2043"/>
                  </a:moveTo>
                  <a:lnTo>
                    <a:pt x="1426" y="2043"/>
                  </a:lnTo>
                  <a:lnTo>
                    <a:pt x="1426" y="1481"/>
                  </a:lnTo>
                  <a:lnTo>
                    <a:pt x="1426" y="0"/>
                  </a:lnTo>
                  <a:lnTo>
                    <a:pt x="407" y="0"/>
                  </a:lnTo>
                  <a:lnTo>
                    <a:pt x="407" y="1481"/>
                  </a:lnTo>
                  <a:lnTo>
                    <a:pt x="407" y="2043"/>
                  </a:lnTo>
                  <a:lnTo>
                    <a:pt x="0" y="2043"/>
                  </a:lnTo>
                  <a:lnTo>
                    <a:pt x="0" y="2701"/>
                  </a:lnTo>
                  <a:lnTo>
                    <a:pt x="407" y="2701"/>
                  </a:lnTo>
                  <a:lnTo>
                    <a:pt x="407" y="4084"/>
                  </a:lnTo>
                  <a:lnTo>
                    <a:pt x="1426" y="4084"/>
                  </a:lnTo>
                  <a:lnTo>
                    <a:pt x="1426" y="4084"/>
                  </a:lnTo>
                  <a:lnTo>
                    <a:pt x="1426" y="2701"/>
                  </a:lnTo>
                  <a:lnTo>
                    <a:pt x="1833" y="2701"/>
                  </a:lnTo>
                  <a:lnTo>
                    <a:pt x="1833" y="2043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40683600" y="7515000"/>
              <a:ext cx="494640" cy="46332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132" y="10"/>
                  </a:moveTo>
                  <a:cubicBezTo>
                    <a:pt x="132" y="11"/>
                    <a:pt x="131" y="12"/>
                    <a:pt x="129" y="13"/>
                  </a:cubicBezTo>
                  <a:cubicBezTo>
                    <a:pt x="119" y="36"/>
                    <a:pt x="110" y="53"/>
                    <a:pt x="96" y="73"/>
                  </a:cubicBezTo>
                  <a:cubicBezTo>
                    <a:pt x="113" y="87"/>
                    <a:pt x="140" y="111"/>
                    <a:pt x="156" y="128"/>
                  </a:cubicBezTo>
                  <a:cubicBezTo>
                    <a:pt x="136" y="146"/>
                    <a:pt x="136" y="146"/>
                    <a:pt x="136" y="146"/>
                  </a:cubicBezTo>
                  <a:cubicBezTo>
                    <a:pt x="122" y="129"/>
                    <a:pt x="96" y="103"/>
                    <a:pt x="81" y="90"/>
                  </a:cubicBezTo>
                  <a:cubicBezTo>
                    <a:pt x="64" y="109"/>
                    <a:pt x="40" y="131"/>
                    <a:pt x="17" y="145"/>
                  </a:cubicBezTo>
                  <a:cubicBezTo>
                    <a:pt x="13" y="141"/>
                    <a:pt x="6" y="132"/>
                    <a:pt x="0" y="128"/>
                  </a:cubicBezTo>
                  <a:cubicBezTo>
                    <a:pt x="45" y="104"/>
                    <a:pt x="82" y="61"/>
                    <a:pt x="98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5" y="0"/>
                    <a:pt x="115" y="0"/>
                    <a:pt x="115" y="0"/>
                  </a:cubicBezTo>
                  <a:lnTo>
                    <a:pt x="13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41197320" y="7476840"/>
              <a:ext cx="440640" cy="514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33"/>
                  </a:moveTo>
                  <a:cubicBezTo>
                    <a:pt x="139" y="35"/>
                    <a:pt x="138" y="36"/>
                    <a:pt x="136" y="37"/>
                  </a:cubicBezTo>
                  <a:cubicBezTo>
                    <a:pt x="129" y="58"/>
                    <a:pt x="120" y="78"/>
                    <a:pt x="111" y="93"/>
                  </a:cubicBezTo>
                  <a:cubicBezTo>
                    <a:pt x="117" y="97"/>
                    <a:pt x="126" y="102"/>
                    <a:pt x="131" y="106"/>
                  </a:cubicBezTo>
                  <a:cubicBezTo>
                    <a:pt x="118" y="128"/>
                    <a:pt x="118" y="128"/>
                    <a:pt x="118" y="128"/>
                  </a:cubicBezTo>
                  <a:cubicBezTo>
                    <a:pt x="112" y="124"/>
                    <a:pt x="104" y="117"/>
                    <a:pt x="97" y="113"/>
                  </a:cubicBezTo>
                  <a:cubicBezTo>
                    <a:pt x="81" y="134"/>
                    <a:pt x="61" y="150"/>
                    <a:pt x="37" y="162"/>
                  </a:cubicBezTo>
                  <a:cubicBezTo>
                    <a:pt x="33" y="156"/>
                    <a:pt x="24" y="148"/>
                    <a:pt x="19" y="144"/>
                  </a:cubicBezTo>
                  <a:cubicBezTo>
                    <a:pt x="42" y="134"/>
                    <a:pt x="62" y="120"/>
                    <a:pt x="77" y="101"/>
                  </a:cubicBezTo>
                  <a:cubicBezTo>
                    <a:pt x="68" y="96"/>
                    <a:pt x="57" y="90"/>
                    <a:pt x="47" y="86"/>
                  </a:cubicBezTo>
                  <a:cubicBezTo>
                    <a:pt x="59" y="69"/>
                    <a:pt x="59" y="69"/>
                    <a:pt x="59" y="69"/>
                  </a:cubicBezTo>
                  <a:cubicBezTo>
                    <a:pt x="69" y="72"/>
                    <a:pt x="80" y="77"/>
                    <a:pt x="91" y="82"/>
                  </a:cubicBezTo>
                  <a:cubicBezTo>
                    <a:pt x="98" y="71"/>
                    <a:pt x="103" y="60"/>
                    <a:pt x="107" y="47"/>
                  </a:cubicBezTo>
                  <a:cubicBezTo>
                    <a:pt x="58" y="47"/>
                    <a:pt x="58" y="47"/>
                    <a:pt x="58" y="47"/>
                  </a:cubicBezTo>
                  <a:cubicBezTo>
                    <a:pt x="47" y="64"/>
                    <a:pt x="33" y="81"/>
                    <a:pt x="19" y="92"/>
                  </a:cubicBezTo>
                  <a:cubicBezTo>
                    <a:pt x="15" y="88"/>
                    <a:pt x="6" y="81"/>
                    <a:pt x="0" y="78"/>
                  </a:cubicBezTo>
                  <a:cubicBezTo>
                    <a:pt x="26" y="60"/>
                    <a:pt x="44" y="30"/>
                    <a:pt x="55" y="0"/>
                  </a:cubicBezTo>
                  <a:cubicBezTo>
                    <a:pt x="84" y="6"/>
                    <a:pt x="84" y="6"/>
                    <a:pt x="84" y="6"/>
                  </a:cubicBezTo>
                  <a:cubicBezTo>
                    <a:pt x="83" y="8"/>
                    <a:pt x="81" y="9"/>
                    <a:pt x="78" y="9"/>
                  </a:cubicBezTo>
                  <a:cubicBezTo>
                    <a:pt x="76" y="14"/>
                    <a:pt x="73" y="21"/>
                    <a:pt x="70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2" y="25"/>
                    <a:pt x="122" y="25"/>
                    <a:pt x="122" y="25"/>
                  </a:cubicBezTo>
                  <a:lnTo>
                    <a:pt x="13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701680" y="7518240"/>
              <a:ext cx="472320" cy="46008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11" y="0"/>
                  </a:moveTo>
                  <a:cubicBezTo>
                    <a:pt x="29" y="6"/>
                    <a:pt x="51" y="16"/>
                    <a:pt x="64" y="24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39" y="36"/>
                    <a:pt x="18" y="26"/>
                    <a:pt x="0" y="20"/>
                  </a:cubicBezTo>
                  <a:lnTo>
                    <a:pt x="11" y="0"/>
                  </a:lnTo>
                  <a:close/>
                  <a:moveTo>
                    <a:pt x="5" y="122"/>
                  </a:moveTo>
                  <a:cubicBezTo>
                    <a:pt x="66" y="104"/>
                    <a:pt x="107" y="68"/>
                    <a:pt x="128" y="19"/>
                  </a:cubicBezTo>
                  <a:cubicBezTo>
                    <a:pt x="135" y="24"/>
                    <a:pt x="143" y="29"/>
                    <a:pt x="149" y="32"/>
                  </a:cubicBezTo>
                  <a:cubicBezTo>
                    <a:pt x="127" y="81"/>
                    <a:pt x="84" y="120"/>
                    <a:pt x="24" y="141"/>
                  </a:cubicBezTo>
                  <a:cubicBezTo>
                    <a:pt x="24" y="143"/>
                    <a:pt x="23" y="145"/>
                    <a:pt x="21" y="145"/>
                  </a:cubicBezTo>
                  <a:lnTo>
                    <a:pt x="5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2298560" y="7467480"/>
              <a:ext cx="357840" cy="51696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81" y="106"/>
                  </a:moveTo>
                  <a:cubicBezTo>
                    <a:pt x="66" y="97"/>
                    <a:pt x="42" y="86"/>
                    <a:pt x="24" y="79"/>
                  </a:cubicBezTo>
                  <a:cubicBezTo>
                    <a:pt x="24" y="163"/>
                    <a:pt x="24" y="163"/>
                    <a:pt x="24" y="163"/>
                  </a:cubicBezTo>
                  <a:cubicBezTo>
                    <a:pt x="0" y="163"/>
                    <a:pt x="0" y="163"/>
                    <a:pt x="0" y="16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30" y="8"/>
                    <a:pt x="28" y="10"/>
                    <a:pt x="24" y="11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49" y="63"/>
                    <a:pt x="76" y="75"/>
                    <a:pt x="93" y="84"/>
                  </a:cubicBezTo>
                  <a:lnTo>
                    <a:pt x="81" y="106"/>
                  </a:lnTo>
                  <a:close/>
                  <a:moveTo>
                    <a:pt x="66" y="16"/>
                  </a:moveTo>
                  <a:cubicBezTo>
                    <a:pt x="73" y="21"/>
                    <a:pt x="83" y="32"/>
                    <a:pt x="89" y="40"/>
                  </a:cubicBezTo>
                  <a:cubicBezTo>
                    <a:pt x="78" y="49"/>
                    <a:pt x="78" y="49"/>
                    <a:pt x="78" y="49"/>
                  </a:cubicBezTo>
                  <a:cubicBezTo>
                    <a:pt x="74" y="42"/>
                    <a:pt x="63" y="30"/>
                    <a:pt x="56" y="24"/>
                  </a:cubicBezTo>
                  <a:lnTo>
                    <a:pt x="66" y="16"/>
                  </a:lnTo>
                  <a:close/>
                  <a:moveTo>
                    <a:pt x="91" y="0"/>
                  </a:moveTo>
                  <a:cubicBezTo>
                    <a:pt x="98" y="6"/>
                    <a:pt x="108" y="16"/>
                    <a:pt x="113" y="23"/>
                  </a:cubicBezTo>
                  <a:cubicBezTo>
                    <a:pt x="103" y="32"/>
                    <a:pt x="103" y="32"/>
                    <a:pt x="103" y="32"/>
                  </a:cubicBezTo>
                  <a:cubicBezTo>
                    <a:pt x="98" y="25"/>
                    <a:pt x="88" y="14"/>
                    <a:pt x="81" y="8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2697800" y="7511760"/>
              <a:ext cx="317880" cy="43776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100" y="138"/>
                  </a:moveTo>
                  <a:cubicBezTo>
                    <a:pt x="69" y="138"/>
                    <a:pt x="69" y="138"/>
                    <a:pt x="69" y="138"/>
                  </a:cubicBezTo>
                  <a:cubicBezTo>
                    <a:pt x="37" y="77"/>
                    <a:pt x="37" y="77"/>
                    <a:pt x="37" y="77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138"/>
                    <a:pt x="27" y="138"/>
                    <a:pt x="27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27" y="63"/>
                    <a:pt x="27" y="63"/>
                    <a:pt x="27" y="63"/>
                  </a:cubicBezTo>
                  <a:cubicBezTo>
                    <a:pt x="30" y="57"/>
                    <a:pt x="33" y="52"/>
                    <a:pt x="36" y="47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56" y="59"/>
                    <a:pt x="56" y="59"/>
                    <a:pt x="56" y="59"/>
                  </a:cubicBezTo>
                  <a:lnTo>
                    <a:pt x="10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2:51:37Z</dcterms:modified>
  <cp:revision>39</cp:revision>
  <dc:subject/>
  <dc:title>PowerPoint プレゼンテーション</dc:title>
</cp:coreProperties>
</file>