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46799500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58088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8214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400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658088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08214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40000" y="-685440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340000" y="-825192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340000" y="-685440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658088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8214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400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1658088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308214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-685440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340000" y="-825192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658088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821400" y="336960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3400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1658088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30821400" y="7731720"/>
            <a:ext cx="1356228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340000" y="-825192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922360" y="773172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0000" y="-12623040"/>
            <a:ext cx="4211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4000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922360" y="3369600"/>
            <a:ext cx="2055420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40000" y="7731720"/>
            <a:ext cx="4211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17397360" y="0"/>
            <a:ext cx="12004560" cy="144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692360" y="1692360"/>
            <a:ext cx="43414920" cy="11015640"/>
            <a:chOff x="1692360" y="1692360"/>
            <a:chExt cx="43414920" cy="11015640"/>
          </a:xfrm>
        </p:grpSpPr>
        <p:sp>
          <p:nvSpPr>
            <p:cNvPr id="38" name="正方形/長方形 2"/>
            <p:cNvSpPr/>
            <p:nvPr/>
          </p:nvSpPr>
          <p:spPr>
            <a:xfrm>
              <a:off x="1800000" y="1800000"/>
              <a:ext cx="43199280" cy="1080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2160360" y="2160360"/>
              <a:ext cx="42478560" cy="1007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1692360" y="1692360"/>
              <a:ext cx="43414920" cy="1101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47160000" y="0"/>
            <a:ext cx="10971000" cy="14400360"/>
            <a:chOff x="47160000" y="0"/>
            <a:chExt cx="10971000" cy="14400360"/>
          </a:xfrm>
        </p:grpSpPr>
        <p:sp>
          <p:nvSpPr>
            <p:cNvPr id="42" name="正方形/長方形 9"/>
            <p:cNvSpPr/>
            <p:nvPr/>
          </p:nvSpPr>
          <p:spPr>
            <a:xfrm>
              <a:off x="47160000" y="0"/>
              <a:ext cx="10971000" cy="144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47244600" y="0"/>
              <a:ext cx="10532160" cy="15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120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42913440" y="368280"/>
            <a:ext cx="2520720" cy="654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8"/>
          <p:cNvGrpSpPr/>
          <p:nvPr/>
        </p:nvGrpSpPr>
        <p:grpSpPr>
          <a:xfrm>
            <a:off x="1368360" y="1366920"/>
            <a:ext cx="44062560" cy="11664720"/>
            <a:chOff x="1368360" y="1366920"/>
            <a:chExt cx="44062560" cy="1166472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368360" y="12599640"/>
              <a:ext cx="432000" cy="431640"/>
              <a:chOff x="1368360" y="12599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836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836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44999280" y="12599640"/>
              <a:ext cx="431640" cy="432000"/>
              <a:chOff x="44999280" y="1259964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4510692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44999280" y="127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44999280" y="1366920"/>
              <a:ext cx="431640" cy="432000"/>
              <a:chOff x="44999280" y="136692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45106920" y="1366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44999280" y="1366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7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42913440" y="365040"/>
            <a:ext cx="2527200" cy="654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120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28"/>
          <p:cNvGrpSpPr/>
          <p:nvPr/>
        </p:nvGrpSpPr>
        <p:grpSpPr>
          <a:xfrm>
            <a:off x="1368360" y="1366920"/>
            <a:ext cx="44062560" cy="11664720"/>
            <a:chOff x="1368360" y="1366920"/>
            <a:chExt cx="44062560" cy="11664720"/>
          </a:xfrm>
        </p:grpSpPr>
        <p:grpSp>
          <p:nvGrpSpPr>
            <p:cNvPr id="98" name="グループ化 23"/>
            <p:cNvGrpSpPr/>
            <p:nvPr/>
          </p:nvGrpSpPr>
          <p:grpSpPr>
            <a:xfrm>
              <a:off x="1368360" y="12599640"/>
              <a:ext cx="432000" cy="431640"/>
              <a:chOff x="1368360" y="12599640"/>
              <a:chExt cx="432000" cy="43164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136836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136836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24"/>
            <p:cNvGrpSpPr/>
            <p:nvPr/>
          </p:nvGrpSpPr>
          <p:grpSpPr>
            <a:xfrm>
              <a:off x="44999280" y="12599640"/>
              <a:ext cx="431640" cy="432000"/>
              <a:chOff x="44999280" y="12599640"/>
              <a:chExt cx="431640" cy="43200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4510692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44999280" y="127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6"/>
            <p:cNvGrpSpPr/>
            <p:nvPr/>
          </p:nvGrpSpPr>
          <p:grpSpPr>
            <a:xfrm>
              <a:off x="44999280" y="1366920"/>
              <a:ext cx="431640" cy="432000"/>
              <a:chOff x="44999280" y="1366920"/>
              <a:chExt cx="431640" cy="43200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45106920" y="1366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44999280" y="1366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47160000" y="0"/>
            <a:ext cx="10972800" cy="10248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40000" y="574560"/>
            <a:ext cx="4211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15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2340000" y="3369600"/>
            <a:ext cx="4211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"/>
          </a:bodyPr>
          <a:p>
            <a:pPr marL="849960" indent="-849960">
              <a:spcBef>
                <a:spcPts val="2817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1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  <a:p>
            <a:pPr lvl="1" marL="1848960" indent="-707400">
              <a:spcBef>
                <a:spcPts val="2435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97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7400" spc="-1" strike="noStrike">
              <a:solidFill>
                <a:srgbClr val="000000"/>
              </a:solidFill>
              <a:latin typeface="Calibri"/>
            </a:endParaRPr>
          </a:p>
          <a:p>
            <a:pPr lvl="2" marL="2853360" indent="-564480">
              <a:spcBef>
                <a:spcPts val="204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8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1800" spc="-1" strike="noStrike">
              <a:solidFill>
                <a:srgbClr val="000000"/>
              </a:solidFill>
              <a:latin typeface="Calibri"/>
            </a:endParaRPr>
          </a:p>
          <a:p>
            <a:pPr lvl="3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4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5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6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51190560" y="3959280"/>
            <a:ext cx="2916360" cy="6480000"/>
            <a:chOff x="51190560" y="3959280"/>
            <a:chExt cx="2916360" cy="6480000"/>
          </a:xfrm>
        </p:grpSpPr>
        <p:sp>
          <p:nvSpPr>
            <p:cNvPr id="150" name="Freeform 6"/>
            <p:cNvSpPr/>
            <p:nvPr/>
          </p:nvSpPr>
          <p:spPr>
            <a:xfrm>
              <a:off x="51190560" y="3959280"/>
              <a:ext cx="2916360" cy="648000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51483240" y="75150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51996960" y="74768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52501680" y="751824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53098200" y="746748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53497800" y="7511760"/>
              <a:ext cx="31824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33:48Z</dcterms:modified>
  <cp:revision>36</cp:revision>
  <dc:subject/>
  <dc:title>PowerPoint プレゼンテーション</dc:title>
</cp:coreProperties>
</file>