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4400213" cy="46799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0000" y="2512908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36056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192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348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000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10192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48348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1867320"/>
            <a:ext cx="12959640" cy="36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2512908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0000" y="1867320"/>
            <a:ext cx="12959640" cy="36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6056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20000" y="2512908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36056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192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3480" y="1095120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2000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10192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483480" y="25129080"/>
            <a:ext cx="417276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20000" y="1867320"/>
            <a:ext cx="12959640" cy="36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60560" y="2512908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-867276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10951200"/>
            <a:ext cx="632412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0000" y="25129080"/>
            <a:ext cx="12959640" cy="129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1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0"/>
            <a:ext cx="14400360" cy="201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692360" y="1692360"/>
            <a:ext cx="11015640" cy="43414920"/>
            <a:chOff x="1692360" y="1692360"/>
            <a:chExt cx="11015640" cy="43414920"/>
          </a:xfrm>
        </p:grpSpPr>
        <p:sp>
          <p:nvSpPr>
            <p:cNvPr id="38" name="正方形/長方形 3"/>
            <p:cNvSpPr/>
            <p:nvPr/>
          </p:nvSpPr>
          <p:spPr>
            <a:xfrm>
              <a:off x="1800000" y="1800000"/>
              <a:ext cx="10800000" cy="4319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7"/>
            <p:cNvSpPr/>
            <p:nvPr/>
          </p:nvSpPr>
          <p:spPr>
            <a:xfrm>
              <a:off x="2160360" y="2160360"/>
              <a:ext cx="10079280" cy="424785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8"/>
            <p:cNvSpPr/>
            <p:nvPr/>
          </p:nvSpPr>
          <p:spPr>
            <a:xfrm>
              <a:off x="1692360" y="1692360"/>
              <a:ext cx="11015640" cy="4341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5300360" y="0"/>
            <a:ext cx="12314160" cy="25379280"/>
            <a:chOff x="15300360" y="0"/>
            <a:chExt cx="12314160" cy="25379280"/>
          </a:xfrm>
        </p:grpSpPr>
        <p:sp>
          <p:nvSpPr>
            <p:cNvPr id="42" name="正方形/長方形 11"/>
            <p:cNvSpPr/>
            <p:nvPr/>
          </p:nvSpPr>
          <p:spPr>
            <a:xfrm>
              <a:off x="15300360" y="0"/>
              <a:ext cx="12314160" cy="253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5395040" y="0"/>
              <a:ext cx="11821680" cy="173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1200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1200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592000" y="644400"/>
            <a:ext cx="1439640" cy="3733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8"/>
          <p:cNvGrpSpPr/>
          <p:nvPr/>
        </p:nvGrpSpPr>
        <p:grpSpPr>
          <a:xfrm>
            <a:off x="1368360" y="1366920"/>
            <a:ext cx="11663280" cy="44064000"/>
            <a:chOff x="1368360" y="1366920"/>
            <a:chExt cx="11663280" cy="4406400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368360" y="44999640"/>
              <a:ext cx="432000" cy="431280"/>
              <a:chOff x="1368360" y="44999640"/>
              <a:chExt cx="432000" cy="43128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368360" y="44999640"/>
                <a:ext cx="324000" cy="43128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368360" y="45108000"/>
                <a:ext cx="432000" cy="32292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12599640" y="44998920"/>
              <a:ext cx="431640" cy="432000"/>
              <a:chOff x="12599640" y="4499892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2707280" y="449989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2599640" y="4510764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368360" y="1366920"/>
              <a:ext cx="432000" cy="432720"/>
              <a:chOff x="1368360" y="136692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36836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36836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12600000" y="1367640"/>
              <a:ext cx="431640" cy="432000"/>
              <a:chOff x="12600000" y="136764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2707640" y="136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2600000" y="1367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4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595240" y="644400"/>
            <a:ext cx="1442880" cy="373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1200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1200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28"/>
          <p:cNvGrpSpPr/>
          <p:nvPr/>
        </p:nvGrpSpPr>
        <p:grpSpPr>
          <a:xfrm>
            <a:off x="1368360" y="1366920"/>
            <a:ext cx="11663280" cy="44064000"/>
            <a:chOff x="1368360" y="1366920"/>
            <a:chExt cx="11663280" cy="44064000"/>
          </a:xfrm>
        </p:grpSpPr>
        <p:grpSp>
          <p:nvGrpSpPr>
            <p:cNvPr id="98" name="グループ化 23"/>
            <p:cNvGrpSpPr/>
            <p:nvPr/>
          </p:nvGrpSpPr>
          <p:grpSpPr>
            <a:xfrm>
              <a:off x="1368360" y="44999640"/>
              <a:ext cx="432000" cy="431280"/>
              <a:chOff x="1368360" y="44999640"/>
              <a:chExt cx="432000" cy="431280"/>
            </a:xfrm>
          </p:grpSpPr>
          <p:sp>
            <p:nvSpPr>
              <p:cNvPr id="99" name="Freeform 37"/>
              <p:cNvSpPr/>
              <p:nvPr/>
            </p:nvSpPr>
            <p:spPr>
              <a:xfrm>
                <a:off x="1368360" y="44999640"/>
                <a:ext cx="324000" cy="43128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1368360" y="45108000"/>
                <a:ext cx="432000" cy="32292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24"/>
            <p:cNvGrpSpPr/>
            <p:nvPr/>
          </p:nvGrpSpPr>
          <p:grpSpPr>
            <a:xfrm>
              <a:off x="12599640" y="44998920"/>
              <a:ext cx="431640" cy="432000"/>
              <a:chOff x="12599640" y="44998920"/>
              <a:chExt cx="431640" cy="432000"/>
            </a:xfrm>
          </p:grpSpPr>
          <p:sp>
            <p:nvSpPr>
              <p:cNvPr id="102" name="Freeform 41"/>
              <p:cNvSpPr/>
              <p:nvPr/>
            </p:nvSpPr>
            <p:spPr>
              <a:xfrm>
                <a:off x="12707280" y="449989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42"/>
              <p:cNvSpPr/>
              <p:nvPr/>
            </p:nvSpPr>
            <p:spPr>
              <a:xfrm>
                <a:off x="12599640" y="4510764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25"/>
            <p:cNvGrpSpPr/>
            <p:nvPr/>
          </p:nvGrpSpPr>
          <p:grpSpPr>
            <a:xfrm>
              <a:off x="1368360" y="1366920"/>
              <a:ext cx="432000" cy="432720"/>
              <a:chOff x="1368360" y="1366920"/>
              <a:chExt cx="432000" cy="432720"/>
            </a:xfrm>
          </p:grpSpPr>
          <p:sp>
            <p:nvSpPr>
              <p:cNvPr id="105" name="Freeform 45"/>
              <p:cNvSpPr/>
              <p:nvPr/>
            </p:nvSpPr>
            <p:spPr>
              <a:xfrm>
                <a:off x="1368360" y="1366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6"/>
              <p:cNvSpPr/>
              <p:nvPr/>
            </p:nvSpPr>
            <p:spPr>
              <a:xfrm>
                <a:off x="1368360" y="1367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26"/>
            <p:cNvGrpSpPr/>
            <p:nvPr/>
          </p:nvGrpSpPr>
          <p:grpSpPr>
            <a:xfrm>
              <a:off x="12600000" y="1367640"/>
              <a:ext cx="431640" cy="432000"/>
              <a:chOff x="12600000" y="1367640"/>
              <a:chExt cx="431640" cy="432000"/>
            </a:xfrm>
          </p:grpSpPr>
          <p:sp>
            <p:nvSpPr>
              <p:cNvPr id="108" name="Freeform 47"/>
              <p:cNvSpPr/>
              <p:nvPr/>
            </p:nvSpPr>
            <p:spPr>
              <a:xfrm>
                <a:off x="12707640" y="136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8"/>
              <p:cNvSpPr/>
              <p:nvPr/>
            </p:nvSpPr>
            <p:spPr>
              <a:xfrm>
                <a:off x="12600000" y="1367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図 6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5300360" y="0"/>
            <a:ext cx="12315960" cy="11503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1867320"/>
            <a:ext cx="12959640" cy="78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r>
              <a:rPr b="0" lang="en-US" sz="47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20000" y="10951200"/>
            <a:ext cx="12959640" cy="271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6000"/>
          </a:bodyPr>
          <a:p>
            <a:pPr marL="1344960" indent="-1344960">
              <a:spcBef>
                <a:spcPts val="8674"/>
              </a:spcBef>
              <a:buClr>
                <a:srgbClr val="000000"/>
              </a:buClr>
              <a:buFont typeface="Arial"/>
              <a:buChar char="•"/>
              <a:tabLst>
                <a:tab algn="l" pos="10034640"/>
              </a:tabLst>
            </a:pPr>
            <a:r>
              <a:rPr b="0" lang="en-US" sz="34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  <a:p>
            <a:pPr lvl="1" marL="2926080" indent="-1119600">
              <a:spcBef>
                <a:spcPts val="7500"/>
              </a:spcBef>
              <a:buClr>
                <a:srgbClr val="000000"/>
              </a:buClr>
              <a:buFont typeface="Arial"/>
              <a:buChar char="–"/>
              <a:tabLst>
                <a:tab algn="l" pos="1003464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  <a:p>
            <a:pPr lvl="2" marL="4515840" indent="-893520">
              <a:spcBef>
                <a:spcPts val="63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200" spc="-1" strike="noStrike">
              <a:solidFill>
                <a:srgbClr val="000000"/>
              </a:solidFill>
              <a:latin typeface="Calibri"/>
            </a:endParaRPr>
          </a:p>
          <a:p>
            <a:pPr lvl="3" marL="6322320" indent="-893520">
              <a:spcBef>
                <a:spcPts val="53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4" marL="8132760" indent="-893520">
              <a:spcBef>
                <a:spcPts val="53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5" marL="8132760" indent="-893520">
              <a:spcBef>
                <a:spcPts val="5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6" marL="8132760" indent="-893520">
              <a:spcBef>
                <a:spcPts val="5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6995600" y="3149640"/>
            <a:ext cx="8928360" cy="19080000"/>
            <a:chOff x="16995600" y="3149640"/>
            <a:chExt cx="8928360" cy="19080000"/>
          </a:xfrm>
        </p:grpSpPr>
        <p:sp>
          <p:nvSpPr>
            <p:cNvPr id="150" name="Freeform 6"/>
            <p:cNvSpPr/>
            <p:nvPr/>
          </p:nvSpPr>
          <p:spPr>
            <a:xfrm>
              <a:off x="16995600" y="3149640"/>
              <a:ext cx="892836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6011"/>
                  </a:lnTo>
                  <a:lnTo>
                    <a:pt x="4225" y="0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7564040" y="1558548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9278360" y="1545876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0961000" y="1560132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2948560" y="1542060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4177960" y="1557288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2:27:36Z</dcterms:modified>
  <cp:revision>34</cp:revision>
  <dc:subject/>
  <dc:title>PowerPoint プレゼンテーション</dc:title>
</cp:coreProperties>
</file>