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0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763"/>
          <a:stretch/>
        </p:blipFill>
        <p:spPr>
          <a:xfrm>
            <a:off x="2178000" y="0"/>
            <a:ext cx="6337440" cy="756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218360" y="625320"/>
            <a:ext cx="998640" cy="25740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23"/>
          <p:cNvSpPr/>
          <p:nvPr/>
        </p:nvSpPr>
        <p:spPr>
          <a:xfrm>
            <a:off x="2279520" y="63972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 × 91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" name="グループ化 11"/>
          <p:cNvGrpSpPr/>
          <p:nvPr/>
        </p:nvGrpSpPr>
        <p:grpSpPr>
          <a:xfrm>
            <a:off x="10875960" y="9360"/>
            <a:ext cx="3306600" cy="7550280"/>
            <a:chOff x="10875960" y="9360"/>
            <a:chExt cx="3306600" cy="7550280"/>
          </a:xfrm>
        </p:grpSpPr>
        <p:sp>
          <p:nvSpPr>
            <p:cNvPr id="40" name="正方形/長方形 5"/>
            <p:cNvSpPr/>
            <p:nvPr/>
          </p:nvSpPr>
          <p:spPr>
            <a:xfrm>
              <a:off x="10875960" y="9360"/>
              <a:ext cx="3306600" cy="75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0896840" y="9360"/>
              <a:ext cx="3261600" cy="49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" name="グループ化 10"/>
          <p:cNvGrpSpPr/>
          <p:nvPr/>
        </p:nvGrpSpPr>
        <p:grpSpPr>
          <a:xfrm>
            <a:off x="2935440" y="2035080"/>
            <a:ext cx="4822560" cy="3490920"/>
            <a:chOff x="2935440" y="2035080"/>
            <a:chExt cx="4822560" cy="3490920"/>
          </a:xfrm>
        </p:grpSpPr>
        <p:sp>
          <p:nvSpPr>
            <p:cNvPr id="43" name="正方形/長方形 11"/>
            <p:cNvSpPr/>
            <p:nvPr/>
          </p:nvSpPr>
          <p:spPr>
            <a:xfrm>
              <a:off x="3043080" y="2142720"/>
              <a:ext cx="4606920" cy="327528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正方形/長方形 12"/>
            <p:cNvSpPr/>
            <p:nvPr/>
          </p:nvSpPr>
          <p:spPr>
            <a:xfrm>
              <a:off x="2935440" y="2035080"/>
              <a:ext cx="482256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正方形/長方形 13"/>
            <p:cNvSpPr/>
            <p:nvPr/>
          </p:nvSpPr>
          <p:spPr>
            <a:xfrm>
              <a:off x="3403440" y="2503440"/>
              <a:ext cx="3886200" cy="255420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グループ化 26"/>
          <p:cNvGrpSpPr/>
          <p:nvPr/>
        </p:nvGrpSpPr>
        <p:grpSpPr>
          <a:xfrm>
            <a:off x="2611440" y="1709640"/>
            <a:ext cx="5470560" cy="4141800"/>
            <a:chOff x="2611440" y="1709640"/>
            <a:chExt cx="5470560" cy="4141800"/>
          </a:xfrm>
        </p:grpSpPr>
        <p:grpSp>
          <p:nvGrpSpPr>
            <p:cNvPr id="47" name="グループ化 14"/>
            <p:cNvGrpSpPr/>
            <p:nvPr/>
          </p:nvGrpSpPr>
          <p:grpSpPr>
            <a:xfrm>
              <a:off x="2611440" y="5418000"/>
              <a:ext cx="431640" cy="432000"/>
              <a:chOff x="2611440" y="5418000"/>
              <a:chExt cx="431640" cy="432000"/>
            </a:xfrm>
          </p:grpSpPr>
          <p:sp>
            <p:nvSpPr>
              <p:cNvPr id="48" name="Freeform 37"/>
              <p:cNvSpPr/>
              <p:nvPr/>
            </p:nvSpPr>
            <p:spPr>
              <a:xfrm>
                <a:off x="2611440" y="541800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Freeform 38"/>
              <p:cNvSpPr/>
              <p:nvPr/>
            </p:nvSpPr>
            <p:spPr>
              <a:xfrm>
                <a:off x="2611440" y="5526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17"/>
            <p:cNvGrpSpPr/>
            <p:nvPr/>
          </p:nvGrpSpPr>
          <p:grpSpPr>
            <a:xfrm>
              <a:off x="7650360" y="5419440"/>
              <a:ext cx="431640" cy="432000"/>
              <a:chOff x="7650360" y="5419440"/>
              <a:chExt cx="431640" cy="432000"/>
            </a:xfrm>
          </p:grpSpPr>
          <p:sp>
            <p:nvSpPr>
              <p:cNvPr id="51" name="Freeform 41"/>
              <p:cNvSpPr/>
              <p:nvPr/>
            </p:nvSpPr>
            <p:spPr>
              <a:xfrm>
                <a:off x="7758000" y="54194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Freeform 42"/>
              <p:cNvSpPr/>
              <p:nvPr/>
            </p:nvSpPr>
            <p:spPr>
              <a:xfrm>
                <a:off x="7650360" y="55274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0"/>
            <p:cNvGrpSpPr/>
            <p:nvPr/>
          </p:nvGrpSpPr>
          <p:grpSpPr>
            <a:xfrm>
              <a:off x="2611440" y="1709640"/>
              <a:ext cx="431640" cy="432000"/>
              <a:chOff x="2611440" y="1709640"/>
              <a:chExt cx="431640" cy="432000"/>
            </a:xfrm>
          </p:grpSpPr>
          <p:sp>
            <p:nvSpPr>
              <p:cNvPr id="54" name="Freeform 45"/>
              <p:cNvSpPr/>
              <p:nvPr/>
            </p:nvSpPr>
            <p:spPr>
              <a:xfrm>
                <a:off x="2611440" y="1709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Freeform 46"/>
              <p:cNvSpPr/>
              <p:nvPr/>
            </p:nvSpPr>
            <p:spPr>
              <a:xfrm>
                <a:off x="2611440" y="1709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グループ化 23"/>
            <p:cNvGrpSpPr/>
            <p:nvPr/>
          </p:nvGrpSpPr>
          <p:grpSpPr>
            <a:xfrm>
              <a:off x="7650360" y="1709640"/>
              <a:ext cx="431640" cy="432000"/>
              <a:chOff x="7650360" y="1709640"/>
              <a:chExt cx="431640" cy="432000"/>
            </a:xfrm>
          </p:grpSpPr>
          <p:sp>
            <p:nvSpPr>
              <p:cNvPr id="57" name="Freeform 47"/>
              <p:cNvSpPr/>
              <p:nvPr/>
            </p:nvSpPr>
            <p:spPr>
              <a:xfrm>
                <a:off x="7758000" y="1709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Freeform 48"/>
              <p:cNvSpPr/>
              <p:nvPr/>
            </p:nvSpPr>
            <p:spPr>
              <a:xfrm>
                <a:off x="7650360" y="1709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2279520" y="63972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 × 91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218360" y="622440"/>
            <a:ext cx="998640" cy="257040"/>
          </a:xfrm>
          <a:prstGeom prst="rect">
            <a:avLst/>
          </a:prstGeom>
          <a:ln w="0">
            <a:noFill/>
          </a:ln>
        </p:spPr>
      </p:pic>
      <p:pic>
        <p:nvPicPr>
          <p:cNvPr id="97" name="図 19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898280" y="0"/>
            <a:ext cx="3673440" cy="343044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24"/>
          <p:cNvGrpSpPr/>
          <p:nvPr/>
        </p:nvGrpSpPr>
        <p:grpSpPr>
          <a:xfrm>
            <a:off x="2611440" y="1709640"/>
            <a:ext cx="5470560" cy="4141800"/>
            <a:chOff x="2611440" y="1709640"/>
            <a:chExt cx="5470560" cy="4141800"/>
          </a:xfrm>
        </p:grpSpPr>
        <p:grpSp>
          <p:nvGrpSpPr>
            <p:cNvPr id="99" name="グループ化 25"/>
            <p:cNvGrpSpPr/>
            <p:nvPr/>
          </p:nvGrpSpPr>
          <p:grpSpPr>
            <a:xfrm>
              <a:off x="2611440" y="5418000"/>
              <a:ext cx="431640" cy="432000"/>
              <a:chOff x="2611440" y="5418000"/>
              <a:chExt cx="431640" cy="432000"/>
            </a:xfrm>
          </p:grpSpPr>
          <p:sp>
            <p:nvSpPr>
              <p:cNvPr id="100" name="Freeform 37"/>
              <p:cNvSpPr/>
              <p:nvPr/>
            </p:nvSpPr>
            <p:spPr>
              <a:xfrm>
                <a:off x="2611440" y="541800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38"/>
              <p:cNvSpPr/>
              <p:nvPr/>
            </p:nvSpPr>
            <p:spPr>
              <a:xfrm>
                <a:off x="2611440" y="5526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6"/>
            <p:cNvGrpSpPr/>
            <p:nvPr/>
          </p:nvGrpSpPr>
          <p:grpSpPr>
            <a:xfrm>
              <a:off x="7650360" y="5419440"/>
              <a:ext cx="431640" cy="432000"/>
              <a:chOff x="7650360" y="5419440"/>
              <a:chExt cx="431640" cy="432000"/>
            </a:xfrm>
          </p:grpSpPr>
          <p:sp>
            <p:nvSpPr>
              <p:cNvPr id="103" name="Freeform 41"/>
              <p:cNvSpPr/>
              <p:nvPr/>
            </p:nvSpPr>
            <p:spPr>
              <a:xfrm>
                <a:off x="7758000" y="54194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2"/>
              <p:cNvSpPr/>
              <p:nvPr/>
            </p:nvSpPr>
            <p:spPr>
              <a:xfrm>
                <a:off x="7650360" y="55274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7"/>
            <p:cNvGrpSpPr/>
            <p:nvPr/>
          </p:nvGrpSpPr>
          <p:grpSpPr>
            <a:xfrm>
              <a:off x="2611440" y="1709640"/>
              <a:ext cx="431640" cy="432000"/>
              <a:chOff x="2611440" y="1709640"/>
              <a:chExt cx="431640" cy="432000"/>
            </a:xfrm>
          </p:grpSpPr>
          <p:sp>
            <p:nvSpPr>
              <p:cNvPr id="106" name="Freeform 45"/>
              <p:cNvSpPr/>
              <p:nvPr/>
            </p:nvSpPr>
            <p:spPr>
              <a:xfrm>
                <a:off x="2611440" y="1709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6"/>
              <p:cNvSpPr/>
              <p:nvPr/>
            </p:nvSpPr>
            <p:spPr>
              <a:xfrm>
                <a:off x="2611440" y="1709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28"/>
            <p:cNvGrpSpPr/>
            <p:nvPr/>
          </p:nvGrpSpPr>
          <p:grpSpPr>
            <a:xfrm>
              <a:off x="7650360" y="1709640"/>
              <a:ext cx="431640" cy="432000"/>
              <a:chOff x="7650360" y="1709640"/>
              <a:chExt cx="431640" cy="432000"/>
            </a:xfrm>
          </p:grpSpPr>
          <p:sp>
            <p:nvSpPr>
              <p:cNvPr id="109" name="Freeform 47"/>
              <p:cNvSpPr/>
              <p:nvPr/>
            </p:nvSpPr>
            <p:spPr>
              <a:xfrm>
                <a:off x="7758000" y="170964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48"/>
              <p:cNvSpPr/>
              <p:nvPr/>
            </p:nvSpPr>
            <p:spPr>
              <a:xfrm>
                <a:off x="7650360" y="170964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37"/>
          <p:cNvGrpSpPr/>
          <p:nvPr/>
        </p:nvGrpSpPr>
        <p:grpSpPr>
          <a:xfrm>
            <a:off x="11663280" y="2862360"/>
            <a:ext cx="1728720" cy="1836720"/>
            <a:chOff x="11663280" y="2862360"/>
            <a:chExt cx="1728720" cy="1836720"/>
          </a:xfrm>
        </p:grpSpPr>
        <p:sp>
          <p:nvSpPr>
            <p:cNvPr id="150" name="フリーフォーム: 図形 38"/>
            <p:cNvSpPr/>
            <p:nvPr/>
          </p:nvSpPr>
          <p:spPr>
            <a:xfrm>
              <a:off x="11663280" y="2862360"/>
              <a:ext cx="1728720" cy="1836720"/>
            </a:xfrm>
            <a:custGeom>
              <a:avLst/>
              <a:gdLst/>
              <a:ahLst/>
              <a:rect l="l" t="t" r="r" b="b"/>
              <a:pathLst>
                <a:path w="1377124" h="1295971">
                  <a:moveTo>
                    <a:pt x="1377029" y="715518"/>
                  </a:moveTo>
                  <a:lnTo>
                    <a:pt x="1093470" y="715518"/>
                  </a:lnTo>
                  <a:lnTo>
                    <a:pt x="1093470" y="364522"/>
                  </a:lnTo>
                  <a:lnTo>
                    <a:pt x="1093470" y="0"/>
                  </a:lnTo>
                  <a:lnTo>
                    <a:pt x="283464" y="0"/>
                  </a:lnTo>
                  <a:lnTo>
                    <a:pt x="283464" y="364522"/>
                  </a:lnTo>
                  <a:lnTo>
                    <a:pt x="283464" y="715518"/>
                  </a:lnTo>
                  <a:lnTo>
                    <a:pt x="0" y="715518"/>
                  </a:lnTo>
                  <a:lnTo>
                    <a:pt x="0" y="998982"/>
                  </a:lnTo>
                  <a:lnTo>
                    <a:pt x="283464" y="998982"/>
                  </a:lnTo>
                  <a:lnTo>
                    <a:pt x="283464" y="1295972"/>
                  </a:lnTo>
                  <a:lnTo>
                    <a:pt x="1093470" y="1295972"/>
                  </a:lnTo>
                  <a:lnTo>
                    <a:pt x="1093470" y="998982"/>
                  </a:lnTo>
                  <a:lnTo>
                    <a:pt x="1377125" y="998982"/>
                  </a:lnTo>
                  <a:lnTo>
                    <a:pt x="1377029" y="715518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フリーフォーム: 図形 39"/>
            <p:cNvSpPr/>
            <p:nvPr/>
          </p:nvSpPr>
          <p:spPr>
            <a:xfrm>
              <a:off x="11939040" y="3943800"/>
              <a:ext cx="257760" cy="272520"/>
            </a:xfrm>
            <a:custGeom>
              <a:avLst/>
              <a:gdLst/>
              <a:ahLst/>
              <a:rect l="l" t="t" r="r" b="b"/>
              <a:pathLst>
                <a:path w="205358" h="192404">
                  <a:moveTo>
                    <a:pt x="174593" y="12859"/>
                  </a:moveTo>
                  <a:cubicBezTo>
                    <a:pt x="173831" y="14764"/>
                    <a:pt x="172212" y="16192"/>
                    <a:pt x="170307" y="16954"/>
                  </a:cubicBezTo>
                  <a:cubicBezTo>
                    <a:pt x="156972" y="47625"/>
                    <a:pt x="144590" y="69818"/>
                    <a:pt x="125825" y="95726"/>
                  </a:cubicBezTo>
                  <a:cubicBezTo>
                    <a:pt x="149162" y="114776"/>
                    <a:pt x="184118" y="146399"/>
                    <a:pt x="205359" y="169069"/>
                  </a:cubicBezTo>
                  <a:lnTo>
                    <a:pt x="178975" y="192405"/>
                  </a:lnTo>
                  <a:cubicBezTo>
                    <a:pt x="160401" y="170307"/>
                    <a:pt x="126397" y="136208"/>
                    <a:pt x="106394" y="119348"/>
                  </a:cubicBezTo>
                  <a:cubicBezTo>
                    <a:pt x="84011" y="144590"/>
                    <a:pt x="53054" y="173641"/>
                    <a:pt x="22098" y="192215"/>
                  </a:cubicBezTo>
                  <a:cubicBezTo>
                    <a:pt x="17335" y="185833"/>
                    <a:pt x="6858" y="174879"/>
                    <a:pt x="0" y="169354"/>
                  </a:cubicBezTo>
                  <a:cubicBezTo>
                    <a:pt x="59246" y="137160"/>
                    <a:pt x="107633" y="80105"/>
                    <a:pt x="129064" y="30290"/>
                  </a:cubicBezTo>
                  <a:lnTo>
                    <a:pt x="21717" y="30290"/>
                  </a:lnTo>
                  <a:lnTo>
                    <a:pt x="21717" y="1715"/>
                  </a:lnTo>
                  <a:lnTo>
                    <a:pt x="146209" y="1715"/>
                  </a:lnTo>
                  <a:lnTo>
                    <a:pt x="151257" y="0"/>
                  </a:lnTo>
                  <a:lnTo>
                    <a:pt x="174784" y="12859"/>
                  </a:lnTo>
                  <a:lnTo>
                    <a:pt x="174593" y="128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フリーフォーム: 図形 40"/>
            <p:cNvSpPr/>
            <p:nvPr/>
          </p:nvSpPr>
          <p:spPr>
            <a:xfrm>
              <a:off x="12207960" y="3921480"/>
              <a:ext cx="229680" cy="302400"/>
            </a:xfrm>
            <a:custGeom>
              <a:avLst/>
              <a:gdLst/>
              <a:ahLst/>
              <a:rect l="l" t="t" r="r" b="b"/>
              <a:pathLst>
                <a:path w="183165" h="213360">
                  <a:moveTo>
                    <a:pt x="183166" y="43910"/>
                  </a:moveTo>
                  <a:cubicBezTo>
                    <a:pt x="182689" y="45625"/>
                    <a:pt x="181261" y="46958"/>
                    <a:pt x="179356" y="48197"/>
                  </a:cubicBezTo>
                  <a:cubicBezTo>
                    <a:pt x="170307" y="75819"/>
                    <a:pt x="158687" y="103156"/>
                    <a:pt x="146304" y="122682"/>
                  </a:cubicBezTo>
                  <a:cubicBezTo>
                    <a:pt x="154686" y="127730"/>
                    <a:pt x="165544" y="134779"/>
                    <a:pt x="172498" y="139541"/>
                  </a:cubicBezTo>
                  <a:lnTo>
                    <a:pt x="155162" y="168783"/>
                  </a:lnTo>
                  <a:cubicBezTo>
                    <a:pt x="148304" y="163068"/>
                    <a:pt x="136589" y="154972"/>
                    <a:pt x="128016" y="149543"/>
                  </a:cubicBezTo>
                  <a:cubicBezTo>
                    <a:pt x="107061" y="176403"/>
                    <a:pt x="79915" y="197644"/>
                    <a:pt x="47816" y="213360"/>
                  </a:cubicBezTo>
                  <a:cubicBezTo>
                    <a:pt x="43339" y="206502"/>
                    <a:pt x="31909" y="195263"/>
                    <a:pt x="24289" y="190786"/>
                  </a:cubicBezTo>
                  <a:cubicBezTo>
                    <a:pt x="54483" y="177451"/>
                    <a:pt x="81153" y="157925"/>
                    <a:pt x="101917" y="133922"/>
                  </a:cubicBezTo>
                  <a:cubicBezTo>
                    <a:pt x="89249" y="126302"/>
                    <a:pt x="74771" y="118967"/>
                    <a:pt x="61722" y="113729"/>
                  </a:cubicBezTo>
                  <a:lnTo>
                    <a:pt x="78105" y="90392"/>
                  </a:lnTo>
                  <a:cubicBezTo>
                    <a:pt x="91249" y="95155"/>
                    <a:pt x="105918" y="101632"/>
                    <a:pt x="119729" y="108776"/>
                  </a:cubicBezTo>
                  <a:cubicBezTo>
                    <a:pt x="128968" y="94202"/>
                    <a:pt x="136398" y="78581"/>
                    <a:pt x="141637" y="62103"/>
                  </a:cubicBezTo>
                  <a:lnTo>
                    <a:pt x="75914" y="62103"/>
                  </a:lnTo>
                  <a:cubicBezTo>
                    <a:pt x="61150" y="84963"/>
                    <a:pt x="42863" y="106871"/>
                    <a:pt x="24765" y="121825"/>
                  </a:cubicBezTo>
                  <a:cubicBezTo>
                    <a:pt x="19050" y="116300"/>
                    <a:pt x="7429" y="107537"/>
                    <a:pt x="0" y="103061"/>
                  </a:cubicBezTo>
                  <a:cubicBezTo>
                    <a:pt x="33528" y="78581"/>
                    <a:pt x="58293" y="40005"/>
                    <a:pt x="72390" y="0"/>
                  </a:cubicBezTo>
                  <a:lnTo>
                    <a:pt x="110680" y="8382"/>
                  </a:lnTo>
                  <a:cubicBezTo>
                    <a:pt x="109728" y="10954"/>
                    <a:pt x="107061" y="12383"/>
                    <a:pt x="102775" y="12192"/>
                  </a:cubicBezTo>
                  <a:cubicBezTo>
                    <a:pt x="100393" y="18669"/>
                    <a:pt x="96107" y="27432"/>
                    <a:pt x="92297" y="34576"/>
                  </a:cubicBezTo>
                  <a:lnTo>
                    <a:pt x="155829" y="34576"/>
                  </a:lnTo>
                  <a:lnTo>
                    <a:pt x="160782" y="33147"/>
                  </a:lnTo>
                  <a:lnTo>
                    <a:pt x="183166" y="44101"/>
                  </a:lnTo>
                  <a:lnTo>
                    <a:pt x="183166" y="439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フリーフォーム: 図形 41"/>
            <p:cNvSpPr/>
            <p:nvPr/>
          </p:nvSpPr>
          <p:spPr>
            <a:xfrm>
              <a:off x="12472200" y="3946320"/>
              <a:ext cx="246960" cy="271440"/>
            </a:xfrm>
            <a:custGeom>
              <a:avLst/>
              <a:gdLst/>
              <a:ahLst/>
              <a:rect l="l" t="t" r="r" b="b"/>
              <a:pathLst>
                <a:path w="196881" h="191643">
                  <a:moveTo>
                    <a:pt x="14097" y="0"/>
                  </a:moveTo>
                  <a:cubicBezTo>
                    <a:pt x="37910" y="7334"/>
                    <a:pt x="66485" y="20002"/>
                    <a:pt x="83820" y="31432"/>
                  </a:cubicBezTo>
                  <a:lnTo>
                    <a:pt x="68104" y="58579"/>
                  </a:lnTo>
                  <a:cubicBezTo>
                    <a:pt x="50959" y="47149"/>
                    <a:pt x="22860" y="34100"/>
                    <a:pt x="0" y="25908"/>
                  </a:cubicBezTo>
                  <a:lnTo>
                    <a:pt x="14002" y="0"/>
                  </a:lnTo>
                  <a:lnTo>
                    <a:pt x="14097" y="0"/>
                  </a:lnTo>
                  <a:close/>
                  <a:moveTo>
                    <a:pt x="6001" y="161163"/>
                  </a:moveTo>
                  <a:cubicBezTo>
                    <a:pt x="86201" y="136398"/>
                    <a:pt x="141446" y="89725"/>
                    <a:pt x="169069" y="24289"/>
                  </a:cubicBezTo>
                  <a:cubicBezTo>
                    <a:pt x="177832" y="31432"/>
                    <a:pt x="188119" y="37148"/>
                    <a:pt x="196882" y="41910"/>
                  </a:cubicBezTo>
                  <a:cubicBezTo>
                    <a:pt x="167354" y="106871"/>
                    <a:pt x="110490" y="157639"/>
                    <a:pt x="31623" y="185452"/>
                  </a:cubicBezTo>
                  <a:cubicBezTo>
                    <a:pt x="31147" y="188119"/>
                    <a:pt x="29718" y="190690"/>
                    <a:pt x="27623" y="191643"/>
                  </a:cubicBezTo>
                  <a:lnTo>
                    <a:pt x="6001" y="161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フリーフォーム: 図形 42"/>
            <p:cNvSpPr/>
            <p:nvPr/>
          </p:nvSpPr>
          <p:spPr>
            <a:xfrm>
              <a:off x="12783960" y="3914280"/>
              <a:ext cx="187560" cy="306000"/>
            </a:xfrm>
            <a:custGeom>
              <a:avLst/>
              <a:gdLst/>
              <a:ahLst/>
              <a:rect l="l" t="t" r="r" b="b"/>
              <a:pathLst>
                <a:path w="149637" h="215931">
                  <a:moveTo>
                    <a:pt x="106394" y="140970"/>
                  </a:moveTo>
                  <a:cubicBezTo>
                    <a:pt x="86582" y="129540"/>
                    <a:pt x="55435" y="114776"/>
                    <a:pt x="31909" y="105251"/>
                  </a:cubicBezTo>
                  <a:lnTo>
                    <a:pt x="31909" y="215932"/>
                  </a:lnTo>
                  <a:lnTo>
                    <a:pt x="0" y="215932"/>
                  </a:lnTo>
                  <a:lnTo>
                    <a:pt x="0" y="6667"/>
                  </a:lnTo>
                  <a:lnTo>
                    <a:pt x="39052" y="8573"/>
                  </a:lnTo>
                  <a:cubicBezTo>
                    <a:pt x="38767" y="11430"/>
                    <a:pt x="36862" y="13811"/>
                    <a:pt x="31909" y="14478"/>
                  </a:cubicBezTo>
                  <a:lnTo>
                    <a:pt x="31909" y="82296"/>
                  </a:lnTo>
                  <a:lnTo>
                    <a:pt x="37814" y="74200"/>
                  </a:lnTo>
                  <a:cubicBezTo>
                    <a:pt x="64008" y="83439"/>
                    <a:pt x="99727" y="99155"/>
                    <a:pt x="123254" y="111538"/>
                  </a:cubicBezTo>
                  <a:lnTo>
                    <a:pt x="106394" y="140779"/>
                  </a:lnTo>
                  <a:lnTo>
                    <a:pt x="106394" y="140970"/>
                  </a:lnTo>
                  <a:close/>
                  <a:moveTo>
                    <a:pt x="87344" y="21241"/>
                  </a:moveTo>
                  <a:cubicBezTo>
                    <a:pt x="96393" y="28861"/>
                    <a:pt x="109442" y="42863"/>
                    <a:pt x="117062" y="53626"/>
                  </a:cubicBezTo>
                  <a:lnTo>
                    <a:pt x="103251" y="65246"/>
                  </a:lnTo>
                  <a:cubicBezTo>
                    <a:pt x="97060" y="56198"/>
                    <a:pt x="83534" y="40481"/>
                    <a:pt x="74200" y="32385"/>
                  </a:cubicBezTo>
                  <a:lnTo>
                    <a:pt x="87249" y="21241"/>
                  </a:lnTo>
                  <a:lnTo>
                    <a:pt x="87344" y="21241"/>
                  </a:lnTo>
                  <a:close/>
                  <a:moveTo>
                    <a:pt x="119920" y="95"/>
                  </a:moveTo>
                  <a:cubicBezTo>
                    <a:pt x="129921" y="8668"/>
                    <a:pt x="142970" y="21717"/>
                    <a:pt x="149638" y="31718"/>
                  </a:cubicBezTo>
                  <a:lnTo>
                    <a:pt x="135827" y="43148"/>
                  </a:lnTo>
                  <a:cubicBezTo>
                    <a:pt x="129921" y="34290"/>
                    <a:pt x="116300" y="19050"/>
                    <a:pt x="106775" y="10954"/>
                  </a:cubicBezTo>
                  <a:lnTo>
                    <a:pt x="119920" y="0"/>
                  </a:lnTo>
                  <a:lnTo>
                    <a:pt x="119920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フリーフォーム: 図形 43"/>
            <p:cNvSpPr/>
            <p:nvPr/>
          </p:nvSpPr>
          <p:spPr>
            <a:xfrm>
              <a:off x="12993480" y="3941640"/>
              <a:ext cx="123120" cy="259200"/>
            </a:xfrm>
            <a:custGeom>
              <a:avLst/>
              <a:gdLst/>
              <a:ahLst/>
              <a:rect l="l" t="t" r="r" b="b"/>
              <a:pathLst>
                <a:path w="98107" h="183070">
                  <a:moveTo>
                    <a:pt x="0" y="183071"/>
                  </a:moveTo>
                  <a:lnTo>
                    <a:pt x="0" y="0"/>
                  </a:lnTo>
                  <a:lnTo>
                    <a:pt x="98108" y="0"/>
                  </a:lnTo>
                  <a:lnTo>
                    <a:pt x="98108" y="29527"/>
                  </a:lnTo>
                  <a:lnTo>
                    <a:pt x="35243" y="29527"/>
                  </a:lnTo>
                  <a:lnTo>
                    <a:pt x="35243" y="77819"/>
                  </a:lnTo>
                  <a:lnTo>
                    <a:pt x="93821" y="77819"/>
                  </a:lnTo>
                  <a:lnTo>
                    <a:pt x="93821" y="106585"/>
                  </a:lnTo>
                  <a:lnTo>
                    <a:pt x="35243" y="106585"/>
                  </a:lnTo>
                  <a:lnTo>
                    <a:pt x="35243" y="182975"/>
                  </a:lnTo>
                  <a:lnTo>
                    <a:pt x="0" y="182975"/>
                  </a:lnTo>
                  <a:lnTo>
                    <a:pt x="0" y="1830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3:08:40Z</dcterms:modified>
  <cp:revision>22</cp:revision>
  <dc:subject/>
  <dc:title>PowerPoint プレゼンテーション</dc:title>
</cp:coreProperties>
</file>