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3399750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2698920" y="0"/>
            <a:ext cx="18002160" cy="1800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73"/>
          <p:cNvGrpSpPr/>
          <p:nvPr/>
        </p:nvGrpSpPr>
        <p:grpSpPr>
          <a:xfrm>
            <a:off x="2322000" y="2340000"/>
            <a:ext cx="18754920" cy="13320720"/>
            <a:chOff x="2322000" y="2340000"/>
            <a:chExt cx="18754920" cy="13320720"/>
          </a:xfrm>
        </p:grpSpPr>
        <p:sp>
          <p:nvSpPr>
            <p:cNvPr id="38" name="正方形/長方形 63"/>
            <p:cNvSpPr/>
            <p:nvPr/>
          </p:nvSpPr>
          <p:spPr>
            <a:xfrm rot="10800000">
              <a:off x="2429640" y="2447280"/>
              <a:ext cx="18539280" cy="13105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64"/>
            <p:cNvSpPr/>
            <p:nvPr/>
          </p:nvSpPr>
          <p:spPr>
            <a:xfrm rot="10800000">
              <a:off x="2537640" y="2555280"/>
              <a:ext cx="18323280" cy="12889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65"/>
            <p:cNvSpPr/>
            <p:nvPr/>
          </p:nvSpPr>
          <p:spPr>
            <a:xfrm rot="10800000">
              <a:off x="2322000" y="2340000"/>
              <a:ext cx="18754920" cy="1332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"/>
          <p:cNvGrpSpPr/>
          <p:nvPr/>
        </p:nvGrpSpPr>
        <p:grpSpPr>
          <a:xfrm>
            <a:off x="1994040" y="2013120"/>
            <a:ext cx="19409760" cy="13977360"/>
            <a:chOff x="1994040" y="2013120"/>
            <a:chExt cx="19409760" cy="1397736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20972160" y="2013120"/>
              <a:ext cx="431640" cy="438120"/>
              <a:chOff x="20972160" y="2013120"/>
              <a:chExt cx="431640" cy="438120"/>
            </a:xfrm>
          </p:grpSpPr>
          <p:sp>
            <p:nvSpPr>
              <p:cNvPr id="43" name="フリーフォーム 89"/>
              <p:cNvSpPr/>
              <p:nvPr/>
            </p:nvSpPr>
            <p:spPr>
              <a:xfrm rot="5400000">
                <a:off x="21021120" y="20685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90"/>
              <p:cNvSpPr/>
              <p:nvPr/>
            </p:nvSpPr>
            <p:spPr>
              <a:xfrm rot="5400000">
                <a:off x="21024360" y="19609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20969640" y="15550200"/>
              <a:ext cx="431640" cy="438120"/>
              <a:chOff x="20969640" y="15550200"/>
              <a:chExt cx="431640" cy="438120"/>
            </a:xfrm>
          </p:grpSpPr>
          <p:sp>
            <p:nvSpPr>
              <p:cNvPr id="46" name="フリーフォーム 83"/>
              <p:cNvSpPr/>
              <p:nvPr/>
            </p:nvSpPr>
            <p:spPr>
              <a:xfrm flipH="1" rot="5400000">
                <a:off x="21018600" y="156056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84"/>
              <p:cNvSpPr/>
              <p:nvPr/>
            </p:nvSpPr>
            <p:spPr>
              <a:xfrm flipH="1" rot="5400000">
                <a:off x="21021480" y="156088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1996200" y="2013120"/>
              <a:ext cx="434160" cy="438120"/>
              <a:chOff x="1996200" y="2013120"/>
              <a:chExt cx="434160" cy="438120"/>
            </a:xfrm>
          </p:grpSpPr>
          <p:sp>
            <p:nvSpPr>
              <p:cNvPr id="49" name="フリーフォーム 79"/>
              <p:cNvSpPr/>
              <p:nvPr/>
            </p:nvSpPr>
            <p:spPr>
              <a:xfrm flipV="1" rot="5400000">
                <a:off x="1940040" y="2068920"/>
                <a:ext cx="438120" cy="3258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80"/>
              <p:cNvSpPr/>
              <p:nvPr/>
            </p:nvSpPr>
            <p:spPr>
              <a:xfrm flipV="1" rot="5400000">
                <a:off x="2052720" y="1963800"/>
                <a:ext cx="327240" cy="4280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1994040" y="15552360"/>
              <a:ext cx="436320" cy="438120"/>
              <a:chOff x="1994040" y="15552360"/>
              <a:chExt cx="436320" cy="438120"/>
            </a:xfrm>
          </p:grpSpPr>
          <p:sp>
            <p:nvSpPr>
              <p:cNvPr id="52" name="フリーフォーム 77"/>
              <p:cNvSpPr/>
              <p:nvPr/>
            </p:nvSpPr>
            <p:spPr>
              <a:xfrm flipH="1" flipV="1" rot="5400000">
                <a:off x="1938240" y="15607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78"/>
              <p:cNvSpPr/>
              <p:nvPr/>
            </p:nvSpPr>
            <p:spPr>
              <a:xfrm flipH="1" flipV="1" rot="5400000">
                <a:off x="2050560" y="15610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917640" y="676800"/>
            <a:ext cx="17462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364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9240560" y="615960"/>
            <a:ext cx="3241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9240560" y="615960"/>
            <a:ext cx="3241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93" name="グループ化 1"/>
          <p:cNvGrpSpPr/>
          <p:nvPr/>
        </p:nvGrpSpPr>
        <p:grpSpPr>
          <a:xfrm>
            <a:off x="1994040" y="2013120"/>
            <a:ext cx="19409760" cy="13977360"/>
            <a:chOff x="1994040" y="2013120"/>
            <a:chExt cx="19409760" cy="13977360"/>
          </a:xfrm>
        </p:grpSpPr>
        <p:grpSp>
          <p:nvGrpSpPr>
            <p:cNvPr id="94" name="グループ化 9"/>
            <p:cNvGrpSpPr/>
            <p:nvPr/>
          </p:nvGrpSpPr>
          <p:grpSpPr>
            <a:xfrm>
              <a:off x="20972160" y="2013120"/>
              <a:ext cx="431640" cy="438120"/>
              <a:chOff x="20972160" y="2013120"/>
              <a:chExt cx="431640" cy="438120"/>
            </a:xfrm>
          </p:grpSpPr>
          <p:sp>
            <p:nvSpPr>
              <p:cNvPr id="95" name="フリーフォーム 89"/>
              <p:cNvSpPr/>
              <p:nvPr/>
            </p:nvSpPr>
            <p:spPr>
              <a:xfrm rot="5400000">
                <a:off x="21021120" y="20685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フリーフォーム 90"/>
              <p:cNvSpPr/>
              <p:nvPr/>
            </p:nvSpPr>
            <p:spPr>
              <a:xfrm rot="5400000">
                <a:off x="21024360" y="19609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9"/>
            <p:cNvGrpSpPr/>
            <p:nvPr/>
          </p:nvGrpSpPr>
          <p:grpSpPr>
            <a:xfrm>
              <a:off x="20969640" y="15550200"/>
              <a:ext cx="431640" cy="438120"/>
              <a:chOff x="20969640" y="15550200"/>
              <a:chExt cx="431640" cy="438120"/>
            </a:xfrm>
          </p:grpSpPr>
          <p:sp>
            <p:nvSpPr>
              <p:cNvPr id="98" name="フリーフォーム 83"/>
              <p:cNvSpPr/>
              <p:nvPr/>
            </p:nvSpPr>
            <p:spPr>
              <a:xfrm flipH="1" rot="5400000">
                <a:off x="21018600" y="156056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フリーフォーム 84"/>
              <p:cNvSpPr/>
              <p:nvPr/>
            </p:nvSpPr>
            <p:spPr>
              <a:xfrm flipH="1" rot="5400000">
                <a:off x="21021480" y="156088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9"/>
            <p:cNvGrpSpPr/>
            <p:nvPr/>
          </p:nvGrpSpPr>
          <p:grpSpPr>
            <a:xfrm>
              <a:off x="1996200" y="2013120"/>
              <a:ext cx="434160" cy="438120"/>
              <a:chOff x="1996200" y="2013120"/>
              <a:chExt cx="434160" cy="438120"/>
            </a:xfrm>
          </p:grpSpPr>
          <p:sp>
            <p:nvSpPr>
              <p:cNvPr id="101" name="フリーフォーム 79"/>
              <p:cNvSpPr/>
              <p:nvPr/>
            </p:nvSpPr>
            <p:spPr>
              <a:xfrm flipV="1" rot="5400000">
                <a:off x="1940040" y="2068920"/>
                <a:ext cx="438120" cy="3258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フリーフォーム 80"/>
              <p:cNvSpPr/>
              <p:nvPr/>
            </p:nvSpPr>
            <p:spPr>
              <a:xfrm flipV="1" rot="5400000">
                <a:off x="2052720" y="1963800"/>
                <a:ext cx="327240" cy="4280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9"/>
            <p:cNvGrpSpPr/>
            <p:nvPr/>
          </p:nvGrpSpPr>
          <p:grpSpPr>
            <a:xfrm>
              <a:off x="1994040" y="15552360"/>
              <a:ext cx="436320" cy="438120"/>
              <a:chOff x="1994040" y="15552360"/>
              <a:chExt cx="436320" cy="438120"/>
            </a:xfrm>
          </p:grpSpPr>
          <p:sp>
            <p:nvSpPr>
              <p:cNvPr id="104" name="フリーフォーム 77"/>
              <p:cNvSpPr/>
              <p:nvPr/>
            </p:nvSpPr>
            <p:spPr>
              <a:xfrm flipH="1" flipV="1" rot="5400000">
                <a:off x="1938240" y="15607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フリーフォーム 78"/>
              <p:cNvSpPr/>
              <p:nvPr/>
            </p:nvSpPr>
            <p:spPr>
              <a:xfrm flipH="1" flipV="1" rot="5400000">
                <a:off x="2050560" y="15610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" name="Rectangle 23"/>
          <p:cNvSpPr/>
          <p:nvPr/>
        </p:nvSpPr>
        <p:spPr>
          <a:xfrm>
            <a:off x="917640" y="676800"/>
            <a:ext cx="17462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364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7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3399640" y="0"/>
            <a:ext cx="10983960" cy="773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425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55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425600" indent="-284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95480" indent="-2840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5:07:27Z</dcterms:modified>
  <cp:revision>24</cp:revision>
  <dc:subject/>
  <dc:title>PowerPoint プレゼンテーション</dc:title>
</cp:coreProperties>
</file>