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18000663" cy="233997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2241720" y="1142640"/>
            <a:ext cx="237456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</a:pPr>
            <a:fld id="{5139EE0C-0C67-4F89-931B-E6DAEA6247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241720" y="1143000"/>
            <a:ext cx="2374560" cy="30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ja-JP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</a:pPr>
            <a:fld id="{F7620A93-E304-4A36-BE35-B2CAE9C573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774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444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000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63774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185444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00000" y="933480"/>
            <a:ext cx="16199640" cy="181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3774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5444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000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63774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1185444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00000" y="933480"/>
            <a:ext cx="16199640" cy="181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3774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85444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000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63774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1185444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00000" y="933480"/>
            <a:ext cx="16199640" cy="181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642960" y="0"/>
            <a:ext cx="16714800" cy="2339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32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4673240" y="595440"/>
            <a:ext cx="1974960" cy="51120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73"/>
          <p:cNvGrpSpPr/>
          <p:nvPr/>
        </p:nvGrpSpPr>
        <p:grpSpPr>
          <a:xfrm>
            <a:off x="2340000" y="2322000"/>
            <a:ext cx="13320720" cy="18754920"/>
            <a:chOff x="2340000" y="2322000"/>
            <a:chExt cx="13320720" cy="18754920"/>
          </a:xfrm>
        </p:grpSpPr>
        <p:sp>
          <p:nvSpPr>
            <p:cNvPr id="39" name="正方形/長方形 5"/>
            <p:cNvSpPr/>
            <p:nvPr/>
          </p:nvSpPr>
          <p:spPr>
            <a:xfrm rot="16200000">
              <a:off x="-268560" y="5146920"/>
              <a:ext cx="18539280" cy="13105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6"/>
            <p:cNvSpPr/>
            <p:nvPr/>
          </p:nvSpPr>
          <p:spPr>
            <a:xfrm rot="16200000">
              <a:off x="-160560" y="5254920"/>
              <a:ext cx="18323280" cy="128890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7"/>
            <p:cNvSpPr/>
            <p:nvPr/>
          </p:nvSpPr>
          <p:spPr>
            <a:xfrm rot="16200000">
              <a:off x="-376920" y="5038920"/>
              <a:ext cx="18754920" cy="13320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" name="グループ化 1"/>
          <p:cNvGrpSpPr/>
          <p:nvPr/>
        </p:nvGrpSpPr>
        <p:grpSpPr>
          <a:xfrm>
            <a:off x="2006640" y="1996920"/>
            <a:ext cx="13982400" cy="19438920"/>
            <a:chOff x="2006640" y="1996920"/>
            <a:chExt cx="13982400" cy="19438920"/>
          </a:xfrm>
        </p:grpSpPr>
        <p:grpSp>
          <p:nvGrpSpPr>
            <p:cNvPr id="43" name="グループ化 9"/>
            <p:cNvGrpSpPr/>
            <p:nvPr/>
          </p:nvGrpSpPr>
          <p:grpSpPr>
            <a:xfrm>
              <a:off x="15550920" y="20973600"/>
              <a:ext cx="438120" cy="462240"/>
              <a:chOff x="15550920" y="20973600"/>
              <a:chExt cx="438120" cy="462240"/>
            </a:xfrm>
          </p:grpSpPr>
          <p:sp>
            <p:nvSpPr>
              <p:cNvPr id="44" name="フリーフォーム 23"/>
              <p:cNvSpPr/>
              <p:nvPr/>
            </p:nvSpPr>
            <p:spPr>
              <a:xfrm rot="10800000">
                <a:off x="15550920" y="21076920"/>
                <a:ext cx="438120" cy="3589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フリーフォーム 24"/>
              <p:cNvSpPr/>
              <p:nvPr/>
            </p:nvSpPr>
            <p:spPr>
              <a:xfrm rot="10800000">
                <a:off x="15660360" y="20973600"/>
                <a:ext cx="327240" cy="432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グループ化 9"/>
            <p:cNvGrpSpPr/>
            <p:nvPr/>
          </p:nvGrpSpPr>
          <p:grpSpPr>
            <a:xfrm>
              <a:off x="2008080" y="20973240"/>
              <a:ext cx="438120" cy="431640"/>
              <a:chOff x="2008080" y="20973240"/>
              <a:chExt cx="438120" cy="431640"/>
            </a:xfrm>
          </p:grpSpPr>
          <p:sp>
            <p:nvSpPr>
              <p:cNvPr id="47" name="フリーフォーム 21"/>
              <p:cNvSpPr/>
              <p:nvPr/>
            </p:nvSpPr>
            <p:spPr>
              <a:xfrm flipH="1" rot="10800000">
                <a:off x="2007720" y="2107800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フリーフォーム 22"/>
              <p:cNvSpPr/>
              <p:nvPr/>
            </p:nvSpPr>
            <p:spPr>
              <a:xfrm flipH="1" rot="10800000">
                <a:off x="2013840" y="209732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グループ化 9"/>
            <p:cNvGrpSpPr/>
            <p:nvPr/>
          </p:nvGrpSpPr>
          <p:grpSpPr>
            <a:xfrm>
              <a:off x="15549480" y="1997640"/>
              <a:ext cx="438120" cy="436320"/>
              <a:chOff x="15549480" y="1997640"/>
              <a:chExt cx="438120" cy="436320"/>
            </a:xfrm>
          </p:grpSpPr>
          <p:sp>
            <p:nvSpPr>
              <p:cNvPr id="50" name="フリーフォーム 17"/>
              <p:cNvSpPr/>
              <p:nvPr/>
            </p:nvSpPr>
            <p:spPr>
              <a:xfrm flipV="1" rot="10800000">
                <a:off x="15549480" y="1997640"/>
                <a:ext cx="438120" cy="3261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フリーフォーム 18"/>
              <p:cNvSpPr/>
              <p:nvPr/>
            </p:nvSpPr>
            <p:spPr>
              <a:xfrm flipV="1" rot="10800000">
                <a:off x="15660360" y="2004840"/>
                <a:ext cx="327240" cy="428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グループ化 9"/>
            <p:cNvGrpSpPr/>
            <p:nvPr/>
          </p:nvGrpSpPr>
          <p:grpSpPr>
            <a:xfrm>
              <a:off x="2006640" y="1996920"/>
              <a:ext cx="438120" cy="431640"/>
              <a:chOff x="2006640" y="1996920"/>
              <a:chExt cx="438120" cy="431640"/>
            </a:xfrm>
          </p:grpSpPr>
          <p:sp>
            <p:nvSpPr>
              <p:cNvPr id="53" name="フリーフォーム 15"/>
              <p:cNvSpPr/>
              <p:nvPr/>
            </p:nvSpPr>
            <p:spPr>
              <a:xfrm flipH="1" flipV="1" rot="10800000">
                <a:off x="2006280" y="19969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16"/>
              <p:cNvSpPr/>
              <p:nvPr/>
            </p:nvSpPr>
            <p:spPr>
              <a:xfrm flipH="1" flipV="1" rot="10800000">
                <a:off x="2015640" y="19965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" name="Rectangle 23"/>
          <p:cNvSpPr/>
          <p:nvPr/>
        </p:nvSpPr>
        <p:spPr>
          <a:xfrm>
            <a:off x="1295280" y="613440"/>
            <a:ext cx="1144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3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4 × 515 mm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グループ化 1"/>
          <p:cNvGrpSpPr/>
          <p:nvPr/>
        </p:nvGrpSpPr>
        <p:grpSpPr>
          <a:xfrm>
            <a:off x="2006640" y="1996920"/>
            <a:ext cx="13982400" cy="19438920"/>
            <a:chOff x="2006640" y="1996920"/>
            <a:chExt cx="13982400" cy="19438920"/>
          </a:xfrm>
        </p:grpSpPr>
        <p:grpSp>
          <p:nvGrpSpPr>
            <p:cNvPr id="93" name="グループ化 9"/>
            <p:cNvGrpSpPr/>
            <p:nvPr/>
          </p:nvGrpSpPr>
          <p:grpSpPr>
            <a:xfrm>
              <a:off x="15550920" y="20973600"/>
              <a:ext cx="438120" cy="462240"/>
              <a:chOff x="15550920" y="20973600"/>
              <a:chExt cx="438120" cy="462240"/>
            </a:xfrm>
          </p:grpSpPr>
          <p:sp>
            <p:nvSpPr>
              <p:cNvPr id="94" name="フリーフォーム 23"/>
              <p:cNvSpPr/>
              <p:nvPr/>
            </p:nvSpPr>
            <p:spPr>
              <a:xfrm rot="10800000">
                <a:off x="15550920" y="21076920"/>
                <a:ext cx="438120" cy="3589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フリーフォーム 24"/>
              <p:cNvSpPr/>
              <p:nvPr/>
            </p:nvSpPr>
            <p:spPr>
              <a:xfrm rot="10800000">
                <a:off x="15660360" y="20973600"/>
                <a:ext cx="327240" cy="432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" name="グループ化 9"/>
            <p:cNvGrpSpPr/>
            <p:nvPr/>
          </p:nvGrpSpPr>
          <p:grpSpPr>
            <a:xfrm>
              <a:off x="2008080" y="20973240"/>
              <a:ext cx="438120" cy="431640"/>
              <a:chOff x="2008080" y="20973240"/>
              <a:chExt cx="438120" cy="431640"/>
            </a:xfrm>
          </p:grpSpPr>
          <p:sp>
            <p:nvSpPr>
              <p:cNvPr id="97" name="フリーフォーム 21"/>
              <p:cNvSpPr/>
              <p:nvPr/>
            </p:nvSpPr>
            <p:spPr>
              <a:xfrm flipH="1" rot="10800000">
                <a:off x="2007720" y="2107800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フリーフォーム 22"/>
              <p:cNvSpPr/>
              <p:nvPr/>
            </p:nvSpPr>
            <p:spPr>
              <a:xfrm flipH="1" rot="10800000">
                <a:off x="2013840" y="209732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グループ化 9"/>
            <p:cNvGrpSpPr/>
            <p:nvPr/>
          </p:nvGrpSpPr>
          <p:grpSpPr>
            <a:xfrm>
              <a:off x="15549480" y="1997640"/>
              <a:ext cx="438120" cy="436320"/>
              <a:chOff x="15549480" y="1997640"/>
              <a:chExt cx="438120" cy="436320"/>
            </a:xfrm>
          </p:grpSpPr>
          <p:sp>
            <p:nvSpPr>
              <p:cNvPr id="100" name="フリーフォーム 17"/>
              <p:cNvSpPr/>
              <p:nvPr/>
            </p:nvSpPr>
            <p:spPr>
              <a:xfrm flipV="1" rot="10800000">
                <a:off x="15549480" y="1997640"/>
                <a:ext cx="438120" cy="3261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フリーフォーム 18"/>
              <p:cNvSpPr/>
              <p:nvPr/>
            </p:nvSpPr>
            <p:spPr>
              <a:xfrm flipV="1" rot="10800000">
                <a:off x="15660360" y="2004840"/>
                <a:ext cx="327240" cy="4287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9"/>
            <p:cNvGrpSpPr/>
            <p:nvPr/>
          </p:nvGrpSpPr>
          <p:grpSpPr>
            <a:xfrm>
              <a:off x="2006640" y="1996920"/>
              <a:ext cx="438120" cy="431640"/>
              <a:chOff x="2006640" y="1996920"/>
              <a:chExt cx="438120" cy="431640"/>
            </a:xfrm>
          </p:grpSpPr>
          <p:sp>
            <p:nvSpPr>
              <p:cNvPr id="103" name="フリーフォーム 15"/>
              <p:cNvSpPr/>
              <p:nvPr/>
            </p:nvSpPr>
            <p:spPr>
              <a:xfrm flipH="1" flipV="1" rot="10800000">
                <a:off x="2006280" y="19969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フリーフォーム 16"/>
              <p:cNvSpPr/>
              <p:nvPr/>
            </p:nvSpPr>
            <p:spPr>
              <a:xfrm flipH="1" flipV="1" rot="10800000">
                <a:off x="2015640" y="19965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5" name="図 3" descr="テキスト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8216720" y="0"/>
            <a:ext cx="13798440" cy="9721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3"/>
          <p:cNvSpPr/>
          <p:nvPr/>
        </p:nvSpPr>
        <p:spPr>
          <a:xfrm>
            <a:off x="1295280" y="613440"/>
            <a:ext cx="1144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3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4 × 515 mm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図 9" descr="アイコン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14673240" y="595440"/>
            <a:ext cx="1974960" cy="511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6120" indent="-276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00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30240" indent="-185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01760" indent="-1857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674720" indent="-185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674720" indent="-185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674720" indent="-185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04T05:07:58Z</dcterms:modified>
  <cp:revision>26</cp:revision>
  <dc:subject/>
  <dc:title>PowerPoint プレゼンテーション</dc:title>
</cp:coreProperties>
</file>