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8000663" cy="23399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2241720" y="1142640"/>
            <a:ext cx="23745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fld id="{AB8FAFE0-DC9D-472E-826C-DD38EF5B8E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241720" y="1143000"/>
            <a:ext cx="237456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ja-JP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2260440"/>
                <a:tab algn="l" pos="4521240"/>
                <a:tab algn="l" pos="6781680"/>
                <a:tab algn="l" pos="9042480"/>
              </a:tabLst>
            </a:pPr>
            <a:fld id="{09A9962B-E270-4485-B932-6F71D2E74C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37740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54440" y="547560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000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637740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1854440" y="12564360"/>
            <a:ext cx="52160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00000" y="933480"/>
            <a:ext cx="16199640" cy="181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0880" y="1256436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0880" y="5475600"/>
            <a:ext cx="79052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12564360"/>
            <a:ext cx="16199640" cy="64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642960" y="0"/>
            <a:ext cx="16714800" cy="233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3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4673240" y="595440"/>
            <a:ext cx="1974960" cy="51120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1"/>
          <p:cNvGrpSpPr/>
          <p:nvPr/>
        </p:nvGrpSpPr>
        <p:grpSpPr>
          <a:xfrm>
            <a:off x="18578520" y="0"/>
            <a:ext cx="6985080" cy="18000720"/>
            <a:chOff x="18578520" y="0"/>
            <a:chExt cx="6985080" cy="18000720"/>
          </a:xfrm>
        </p:grpSpPr>
        <p:sp>
          <p:nvSpPr>
            <p:cNvPr id="39" name="正方形/長方形 2"/>
            <p:cNvSpPr/>
            <p:nvPr/>
          </p:nvSpPr>
          <p:spPr>
            <a:xfrm>
              <a:off x="18578520" y="0"/>
              <a:ext cx="6985080" cy="1800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260440"/>
                  <a:tab algn="l" pos="4521240"/>
                  <a:tab algn="l" pos="6781680"/>
                  <a:tab algn="l" pos="904248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8622800" y="0"/>
              <a:ext cx="6889680" cy="10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" name="Rectangle 23"/>
          <p:cNvSpPr/>
          <p:nvPr/>
        </p:nvSpPr>
        <p:spPr>
          <a:xfrm>
            <a:off x="792000" y="613440"/>
            <a:ext cx="13881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515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8"/>
          <p:cNvGrpSpPr/>
          <p:nvPr/>
        </p:nvGrpSpPr>
        <p:grpSpPr>
          <a:xfrm>
            <a:off x="2340000" y="2322360"/>
            <a:ext cx="13320720" cy="18754920"/>
            <a:chOff x="2340000" y="2322360"/>
            <a:chExt cx="13320720" cy="18754920"/>
          </a:xfrm>
        </p:grpSpPr>
        <p:sp>
          <p:nvSpPr>
            <p:cNvPr id="43" name="正方形/長方形 15"/>
            <p:cNvSpPr/>
            <p:nvPr/>
          </p:nvSpPr>
          <p:spPr>
            <a:xfrm>
              <a:off x="2448000" y="2430000"/>
              <a:ext cx="13104720" cy="1853928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260440"/>
                  <a:tab algn="l" pos="4521240"/>
                  <a:tab algn="l" pos="6781680"/>
                  <a:tab algn="l" pos="904248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正方形/長方形 16"/>
            <p:cNvSpPr/>
            <p:nvPr/>
          </p:nvSpPr>
          <p:spPr>
            <a:xfrm>
              <a:off x="2340000" y="2322360"/>
              <a:ext cx="13320720" cy="1875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260440"/>
                  <a:tab algn="l" pos="4521240"/>
                  <a:tab algn="l" pos="6781680"/>
                  <a:tab algn="l" pos="904248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正方形/長方形 17"/>
            <p:cNvSpPr/>
            <p:nvPr/>
          </p:nvSpPr>
          <p:spPr>
            <a:xfrm>
              <a:off x="2808000" y="2790000"/>
              <a:ext cx="12384720" cy="1781928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260440"/>
                  <a:tab algn="l" pos="4521240"/>
                  <a:tab algn="l" pos="6781680"/>
                  <a:tab algn="l" pos="904248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グループ化 33"/>
          <p:cNvGrpSpPr/>
          <p:nvPr/>
        </p:nvGrpSpPr>
        <p:grpSpPr>
          <a:xfrm>
            <a:off x="2016000" y="1998720"/>
            <a:ext cx="13968360" cy="19402200"/>
            <a:chOff x="2016000" y="1998720"/>
            <a:chExt cx="13968360" cy="19402200"/>
          </a:xfrm>
        </p:grpSpPr>
        <p:grpSp>
          <p:nvGrpSpPr>
            <p:cNvPr id="47" name="グループ化 18"/>
            <p:cNvGrpSpPr/>
            <p:nvPr/>
          </p:nvGrpSpPr>
          <p:grpSpPr>
            <a:xfrm>
              <a:off x="2016000" y="20969280"/>
              <a:ext cx="432000" cy="431640"/>
              <a:chOff x="2016000" y="2096928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2016000" y="209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2016000" y="210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3"/>
            <p:cNvGrpSpPr/>
            <p:nvPr/>
          </p:nvGrpSpPr>
          <p:grpSpPr>
            <a:xfrm>
              <a:off x="15552360" y="20969280"/>
              <a:ext cx="432000" cy="431640"/>
              <a:chOff x="15552360" y="20969280"/>
              <a:chExt cx="432000" cy="43164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5660360" y="209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5552360" y="210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6"/>
            <p:cNvGrpSpPr/>
            <p:nvPr/>
          </p:nvGrpSpPr>
          <p:grpSpPr>
            <a:xfrm>
              <a:off x="2016000" y="1998720"/>
              <a:ext cx="432000" cy="431640"/>
              <a:chOff x="2016000" y="1998720"/>
              <a:chExt cx="432000" cy="43164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2016000" y="19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2016000" y="19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30"/>
            <p:cNvGrpSpPr/>
            <p:nvPr/>
          </p:nvGrpSpPr>
          <p:grpSpPr>
            <a:xfrm>
              <a:off x="15552360" y="1998720"/>
              <a:ext cx="432000" cy="431640"/>
              <a:chOff x="15552360" y="1998720"/>
              <a:chExt cx="432000" cy="43164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5660360" y="19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5552360" y="19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792000" y="613440"/>
            <a:ext cx="138812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3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515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9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4673240" y="595440"/>
            <a:ext cx="1974960" cy="511200"/>
          </a:xfrm>
          <a:prstGeom prst="rect">
            <a:avLst/>
          </a:prstGeom>
          <a:ln w="0">
            <a:noFill/>
          </a:ln>
        </p:spPr>
      </p:pic>
      <p:pic>
        <p:nvPicPr>
          <p:cNvPr id="97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8546840" y="0"/>
            <a:ext cx="9528120" cy="1144908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3"/>
          <p:cNvGrpSpPr/>
          <p:nvPr/>
        </p:nvGrpSpPr>
        <p:grpSpPr>
          <a:xfrm>
            <a:off x="2016000" y="1998720"/>
            <a:ext cx="13968360" cy="19402200"/>
            <a:chOff x="2016000" y="1998720"/>
            <a:chExt cx="13968360" cy="19402200"/>
          </a:xfrm>
        </p:grpSpPr>
        <p:grpSp>
          <p:nvGrpSpPr>
            <p:cNvPr id="99" name="グループ化 5"/>
            <p:cNvGrpSpPr/>
            <p:nvPr/>
          </p:nvGrpSpPr>
          <p:grpSpPr>
            <a:xfrm>
              <a:off x="2016000" y="20969280"/>
              <a:ext cx="432000" cy="431640"/>
              <a:chOff x="2016000" y="2096928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2016000" y="209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2016000" y="210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6"/>
            <p:cNvGrpSpPr/>
            <p:nvPr/>
          </p:nvGrpSpPr>
          <p:grpSpPr>
            <a:xfrm>
              <a:off x="15552360" y="20969280"/>
              <a:ext cx="432000" cy="431640"/>
              <a:chOff x="15552360" y="20969280"/>
              <a:chExt cx="432000" cy="43164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15660360" y="209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15552360" y="210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7"/>
            <p:cNvGrpSpPr/>
            <p:nvPr/>
          </p:nvGrpSpPr>
          <p:grpSpPr>
            <a:xfrm>
              <a:off x="2016000" y="1998720"/>
              <a:ext cx="432000" cy="431640"/>
              <a:chOff x="2016000" y="1998720"/>
              <a:chExt cx="432000" cy="43164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2016000" y="19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2016000" y="19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8"/>
            <p:cNvGrpSpPr/>
            <p:nvPr/>
          </p:nvGrpSpPr>
          <p:grpSpPr>
            <a:xfrm>
              <a:off x="15552360" y="1998720"/>
              <a:ext cx="432000" cy="431640"/>
              <a:chOff x="15552360" y="1998720"/>
              <a:chExt cx="432000" cy="43164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15660360" y="19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15552360" y="19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933480"/>
            <a:ext cx="16199640" cy="39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0000" y="5475600"/>
            <a:ext cx="16199640" cy="13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6120" indent="-276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00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30240" indent="-185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01760" indent="-185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74720" indent="-185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グループ化 10"/>
          <p:cNvGrpSpPr/>
          <p:nvPr/>
        </p:nvGrpSpPr>
        <p:grpSpPr>
          <a:xfrm>
            <a:off x="19921680" y="4643280"/>
            <a:ext cx="4298760" cy="8712360"/>
            <a:chOff x="19921680" y="4643280"/>
            <a:chExt cx="4298760" cy="8712360"/>
          </a:xfrm>
        </p:grpSpPr>
        <p:sp>
          <p:nvSpPr>
            <p:cNvPr id="157" name="Freeform 6"/>
            <p:cNvSpPr/>
            <p:nvPr/>
          </p:nvSpPr>
          <p:spPr>
            <a:xfrm>
              <a:off x="19921680" y="4643280"/>
              <a:ext cx="429876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20280240" y="988560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21081960" y="982836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21869280" y="989208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22796640" y="980928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23388840" y="9869760"/>
              <a:ext cx="47592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9T07:30:06Z</dcterms:modified>
  <cp:revision>27</cp:revision>
  <dc:subject/>
  <dc:title>PowerPoint プレゼンテーション</dc:title>
</cp:coreProperties>
</file>