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21599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3595680" y="0"/>
            <a:ext cx="21609000" cy="2160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7"/>
          <p:cNvGrpSpPr/>
          <p:nvPr/>
        </p:nvGrpSpPr>
        <p:grpSpPr>
          <a:xfrm>
            <a:off x="1186920" y="1422000"/>
            <a:ext cx="26425800" cy="18754920"/>
            <a:chOff x="1186920" y="1422000"/>
            <a:chExt cx="26425800" cy="18754920"/>
          </a:xfrm>
        </p:grpSpPr>
        <p:sp>
          <p:nvSpPr>
            <p:cNvPr id="38" name="正方形/長方形 8"/>
            <p:cNvSpPr/>
            <p:nvPr/>
          </p:nvSpPr>
          <p:spPr>
            <a:xfrm rot="10800000">
              <a:off x="1294560" y="1529640"/>
              <a:ext cx="26210160" cy="1853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9"/>
            <p:cNvSpPr/>
            <p:nvPr/>
          </p:nvSpPr>
          <p:spPr>
            <a:xfrm rot="10800000">
              <a:off x="1402560" y="1637640"/>
              <a:ext cx="25994160" cy="1832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0"/>
            <p:cNvSpPr/>
            <p:nvPr/>
          </p:nvSpPr>
          <p:spPr>
            <a:xfrm rot="10800000">
              <a:off x="1186920" y="1421640"/>
              <a:ext cx="26425800" cy="1875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"/>
          <p:cNvGrpSpPr/>
          <p:nvPr/>
        </p:nvGrpSpPr>
        <p:grpSpPr>
          <a:xfrm>
            <a:off x="861840" y="1093680"/>
            <a:ext cx="27077760" cy="19410120"/>
            <a:chOff x="861840" y="1093680"/>
            <a:chExt cx="27077760" cy="1941012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27507960" y="1093680"/>
              <a:ext cx="431640" cy="438120"/>
              <a:chOff x="27507960" y="1093680"/>
              <a:chExt cx="431640" cy="438120"/>
            </a:xfrm>
          </p:grpSpPr>
          <p:sp>
            <p:nvSpPr>
              <p:cNvPr id="43" name="フリーフォーム 34"/>
              <p:cNvSpPr/>
              <p:nvPr/>
            </p:nvSpPr>
            <p:spPr>
              <a:xfrm rot="5400000">
                <a:off x="27556920" y="1149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35"/>
              <p:cNvSpPr/>
              <p:nvPr/>
            </p:nvSpPr>
            <p:spPr>
              <a:xfrm rot="5400000">
                <a:off x="27560160" y="1041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27507960" y="20065680"/>
              <a:ext cx="431640" cy="438120"/>
              <a:chOff x="27507960" y="20065680"/>
              <a:chExt cx="431640" cy="438120"/>
            </a:xfrm>
          </p:grpSpPr>
          <p:sp>
            <p:nvSpPr>
              <p:cNvPr id="46" name="フリーフォーム 32"/>
              <p:cNvSpPr/>
              <p:nvPr/>
            </p:nvSpPr>
            <p:spPr>
              <a:xfrm flipH="1" rot="5400000">
                <a:off x="27556920" y="2012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33"/>
              <p:cNvSpPr/>
              <p:nvPr/>
            </p:nvSpPr>
            <p:spPr>
              <a:xfrm flipH="1" rot="5400000">
                <a:off x="27559800" y="2012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862560" y="1094400"/>
              <a:ext cx="431640" cy="438120"/>
              <a:chOff x="862560" y="1094400"/>
              <a:chExt cx="431640" cy="438120"/>
            </a:xfrm>
          </p:grpSpPr>
          <p:sp>
            <p:nvSpPr>
              <p:cNvPr id="49" name="フリーフォーム 28"/>
              <p:cNvSpPr/>
              <p:nvPr/>
            </p:nvSpPr>
            <p:spPr>
              <a:xfrm flipV="1" rot="5400000">
                <a:off x="806760" y="1149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29"/>
              <p:cNvSpPr/>
              <p:nvPr/>
            </p:nvSpPr>
            <p:spPr>
              <a:xfrm flipV="1" rot="5400000">
                <a:off x="914760" y="104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861840" y="20064960"/>
              <a:ext cx="431640" cy="438120"/>
              <a:chOff x="861840" y="20064960"/>
              <a:chExt cx="431640" cy="438120"/>
            </a:xfrm>
          </p:grpSpPr>
          <p:sp>
            <p:nvSpPr>
              <p:cNvPr id="52" name="フリーフォーム 26"/>
              <p:cNvSpPr/>
              <p:nvPr/>
            </p:nvSpPr>
            <p:spPr>
              <a:xfrm flipH="1" flipV="1" rot="5400000">
                <a:off x="806040" y="201200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27"/>
              <p:cNvSpPr/>
              <p:nvPr/>
            </p:nvSpPr>
            <p:spPr>
              <a:xfrm flipH="1" flipV="1" rot="5400000">
                <a:off x="913680" y="20123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9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9097360" y="0"/>
            <a:ext cx="34566120" cy="14408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861840" y="162000"/>
            <a:ext cx="193374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515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40" descr="挿絵 が含まれている画像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4649200" y="125280"/>
            <a:ext cx="328932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4649200" y="125280"/>
            <a:ext cx="3289320" cy="85248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1"/>
          <p:cNvGrpSpPr/>
          <p:nvPr/>
        </p:nvGrpSpPr>
        <p:grpSpPr>
          <a:xfrm>
            <a:off x="861840" y="1093680"/>
            <a:ext cx="27077760" cy="19410120"/>
            <a:chOff x="861840" y="1093680"/>
            <a:chExt cx="27077760" cy="1941012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27507960" y="1093680"/>
              <a:ext cx="431640" cy="438120"/>
              <a:chOff x="27507960" y="1093680"/>
              <a:chExt cx="431640" cy="438120"/>
            </a:xfrm>
          </p:grpSpPr>
          <p:sp>
            <p:nvSpPr>
              <p:cNvPr id="96" name="フリーフォーム 34"/>
              <p:cNvSpPr/>
              <p:nvPr/>
            </p:nvSpPr>
            <p:spPr>
              <a:xfrm rot="5400000">
                <a:off x="27556920" y="1149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35"/>
              <p:cNvSpPr/>
              <p:nvPr/>
            </p:nvSpPr>
            <p:spPr>
              <a:xfrm rot="5400000">
                <a:off x="27560160" y="10414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27507960" y="20065680"/>
              <a:ext cx="431640" cy="438120"/>
              <a:chOff x="27507960" y="20065680"/>
              <a:chExt cx="431640" cy="438120"/>
            </a:xfrm>
          </p:grpSpPr>
          <p:sp>
            <p:nvSpPr>
              <p:cNvPr id="99" name="フリーフォーム 32"/>
              <p:cNvSpPr/>
              <p:nvPr/>
            </p:nvSpPr>
            <p:spPr>
              <a:xfrm flipH="1" rot="5400000">
                <a:off x="27556920" y="20121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33"/>
              <p:cNvSpPr/>
              <p:nvPr/>
            </p:nvSpPr>
            <p:spPr>
              <a:xfrm flipH="1" rot="5400000">
                <a:off x="27559800" y="20124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862560" y="1094400"/>
              <a:ext cx="431640" cy="438120"/>
              <a:chOff x="862560" y="1094400"/>
              <a:chExt cx="431640" cy="438120"/>
            </a:xfrm>
          </p:grpSpPr>
          <p:sp>
            <p:nvSpPr>
              <p:cNvPr id="102" name="フリーフォーム 28"/>
              <p:cNvSpPr/>
              <p:nvPr/>
            </p:nvSpPr>
            <p:spPr>
              <a:xfrm flipV="1" rot="5400000">
                <a:off x="806760" y="1149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29"/>
              <p:cNvSpPr/>
              <p:nvPr/>
            </p:nvSpPr>
            <p:spPr>
              <a:xfrm flipV="1" rot="5400000">
                <a:off x="914760" y="104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861840" y="20064960"/>
              <a:ext cx="431640" cy="438120"/>
              <a:chOff x="861840" y="20064960"/>
              <a:chExt cx="431640" cy="438120"/>
            </a:xfrm>
          </p:grpSpPr>
          <p:sp>
            <p:nvSpPr>
              <p:cNvPr id="105" name="フリーフォーム 26"/>
              <p:cNvSpPr/>
              <p:nvPr/>
            </p:nvSpPr>
            <p:spPr>
              <a:xfrm flipH="1" flipV="1" rot="5400000">
                <a:off x="806040" y="201200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27"/>
              <p:cNvSpPr/>
              <p:nvPr/>
            </p:nvSpPr>
            <p:spPr>
              <a:xfrm flipH="1" flipV="1" rot="5400000">
                <a:off x="913680" y="2012328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" name="Rectangle 23"/>
          <p:cNvSpPr/>
          <p:nvPr/>
        </p:nvSpPr>
        <p:spPr>
          <a:xfrm>
            <a:off x="861840" y="162000"/>
            <a:ext cx="193374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515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図 7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8800360" y="0"/>
            <a:ext cx="13579560" cy="9567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9280" indent="-7192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lvl="1" marL="215892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lvl="2" marL="359892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503856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4" marL="647856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5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6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24"/>
          <p:cNvSpPr/>
          <p:nvPr/>
        </p:nvSpPr>
        <p:spPr>
          <a:xfrm>
            <a:off x="30697560" y="655956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25"/>
          <p:cNvSpPr/>
          <p:nvPr/>
        </p:nvSpPr>
        <p:spPr>
          <a:xfrm>
            <a:off x="4063356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30"/>
          <p:cNvSpPr/>
          <p:nvPr/>
        </p:nvSpPr>
        <p:spPr>
          <a:xfrm>
            <a:off x="49492080" y="7278840"/>
            <a:ext cx="467964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31"/>
          <p:cNvSpPr/>
          <p:nvPr/>
        </p:nvSpPr>
        <p:spPr>
          <a:xfrm>
            <a:off x="57627720" y="7639200"/>
            <a:ext cx="432144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04T05:05:02Z</dcterms:modified>
  <cp:revision>8</cp:revision>
  <dc:subject/>
  <dc:title>PowerPoint プレゼンテーション</dc:title>
</cp:coreProperties>
</file>