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10040"/>
                <a:tab algn="l" pos="80200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010040"/>
                <a:tab algn="l" pos="80200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308240" y="1142640"/>
            <a:ext cx="4241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10040"/>
                <a:tab algn="l" pos="80200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010040"/>
                <a:tab algn="l" pos="8020080"/>
              </a:tabLst>
            </a:pPr>
            <a:fld id="{DD652D4B-23F1-4A8B-AEC0-EE291FAD91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08240" y="1143000"/>
            <a:ext cx="424152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0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10040"/>
                <a:tab algn="l" pos="8020080"/>
              </a:tabLst>
            </a:pPr>
            <a:fld id="{D5310BC5-7D9D-41CE-BD2C-C5002BAD3C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9513720" y="0"/>
            <a:ext cx="2057256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152360" y="1187280"/>
            <a:ext cx="37295280" cy="26425800"/>
            <a:chOff x="1152360" y="1187280"/>
            <a:chExt cx="37295280" cy="26425800"/>
          </a:xfrm>
        </p:grpSpPr>
        <p:sp>
          <p:nvSpPr>
            <p:cNvPr id="38" name="正方形/長方形 39"/>
            <p:cNvSpPr/>
            <p:nvPr/>
          </p:nvSpPr>
          <p:spPr>
            <a:xfrm>
              <a:off x="1260000" y="1295280"/>
              <a:ext cx="37079640" cy="262098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0"/>
            <p:cNvSpPr/>
            <p:nvPr/>
          </p:nvSpPr>
          <p:spPr>
            <a:xfrm>
              <a:off x="1620000" y="1655280"/>
              <a:ext cx="36359640" cy="254898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1"/>
            <p:cNvSpPr/>
            <p:nvPr/>
          </p:nvSpPr>
          <p:spPr>
            <a:xfrm>
              <a:off x="1152360" y="1187280"/>
              <a:ext cx="37295280" cy="264258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" name="Rectangle 23"/>
          <p:cNvSpPr/>
          <p:nvPr/>
        </p:nvSpPr>
        <p:spPr>
          <a:xfrm>
            <a:off x="1150920" y="79560"/>
            <a:ext cx="254174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30 × 728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21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6361800" y="55440"/>
            <a:ext cx="2412720" cy="62568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24"/>
          <p:cNvGrpSpPr/>
          <p:nvPr/>
        </p:nvGrpSpPr>
        <p:grpSpPr>
          <a:xfrm>
            <a:off x="826920" y="863640"/>
            <a:ext cx="37946160" cy="27073080"/>
            <a:chOff x="826920" y="863640"/>
            <a:chExt cx="37946160" cy="27073080"/>
          </a:xfrm>
        </p:grpSpPr>
        <p:grpSp>
          <p:nvGrpSpPr>
            <p:cNvPr id="44" name="グループ化 30"/>
            <p:cNvGrpSpPr/>
            <p:nvPr/>
          </p:nvGrpSpPr>
          <p:grpSpPr>
            <a:xfrm>
              <a:off x="826920" y="27504000"/>
              <a:ext cx="431640" cy="431640"/>
              <a:chOff x="826920" y="27504000"/>
              <a:chExt cx="431640" cy="431640"/>
            </a:xfrm>
          </p:grpSpPr>
          <p:sp>
            <p:nvSpPr>
              <p:cNvPr id="45" name="Freeform 37"/>
              <p:cNvSpPr/>
              <p:nvPr/>
            </p:nvSpPr>
            <p:spPr>
              <a:xfrm>
                <a:off x="826920" y="2750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Freeform 38"/>
              <p:cNvSpPr/>
              <p:nvPr/>
            </p:nvSpPr>
            <p:spPr>
              <a:xfrm>
                <a:off x="826920" y="2761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グループ化 31"/>
            <p:cNvGrpSpPr/>
            <p:nvPr/>
          </p:nvGrpSpPr>
          <p:grpSpPr>
            <a:xfrm>
              <a:off x="38340000" y="27505080"/>
              <a:ext cx="433080" cy="431640"/>
              <a:chOff x="38340000" y="27505080"/>
              <a:chExt cx="433080" cy="431640"/>
            </a:xfrm>
          </p:grpSpPr>
          <p:sp>
            <p:nvSpPr>
              <p:cNvPr id="48" name="Freeform 41"/>
              <p:cNvSpPr/>
              <p:nvPr/>
            </p:nvSpPr>
            <p:spPr>
              <a:xfrm>
                <a:off x="38449440" y="27505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42"/>
              <p:cNvSpPr/>
              <p:nvPr/>
            </p:nvSpPr>
            <p:spPr>
              <a:xfrm>
                <a:off x="38340000" y="276130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32"/>
            <p:cNvGrpSpPr/>
            <p:nvPr/>
          </p:nvGrpSpPr>
          <p:grpSpPr>
            <a:xfrm>
              <a:off x="827280" y="863640"/>
              <a:ext cx="431640" cy="433080"/>
              <a:chOff x="827280" y="863640"/>
              <a:chExt cx="431640" cy="433080"/>
            </a:xfrm>
          </p:grpSpPr>
          <p:sp>
            <p:nvSpPr>
              <p:cNvPr id="51" name="Freeform 45"/>
              <p:cNvSpPr/>
              <p:nvPr/>
            </p:nvSpPr>
            <p:spPr>
              <a:xfrm>
                <a:off x="827280" y="863640"/>
                <a:ext cx="324000" cy="43308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6"/>
              <p:cNvSpPr/>
              <p:nvPr/>
            </p:nvSpPr>
            <p:spPr>
              <a:xfrm>
                <a:off x="827280" y="865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33"/>
            <p:cNvGrpSpPr/>
            <p:nvPr/>
          </p:nvGrpSpPr>
          <p:grpSpPr>
            <a:xfrm>
              <a:off x="38341080" y="864720"/>
              <a:ext cx="431640" cy="431640"/>
              <a:chOff x="38341080" y="864720"/>
              <a:chExt cx="431640" cy="431640"/>
            </a:xfrm>
          </p:grpSpPr>
          <p:sp>
            <p:nvSpPr>
              <p:cNvPr id="54" name="Freeform 47"/>
              <p:cNvSpPr/>
              <p:nvPr/>
            </p:nvSpPr>
            <p:spPr>
              <a:xfrm>
                <a:off x="38448720" y="864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38341080" y="864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743360" y="28167120"/>
            <a:ext cx="34566120" cy="14407920"/>
          </a:xfrm>
          <a:prstGeom prst="rect">
            <a:avLst/>
          </a:prstGeom>
          <a:ln w="0">
            <a:noFill/>
          </a:ln>
        </p:spPr>
      </p:pic>
      <p:grpSp>
        <p:nvGrpSpPr>
          <p:cNvPr id="57" name="グループ化 15"/>
          <p:cNvGrpSpPr/>
          <p:nvPr/>
        </p:nvGrpSpPr>
        <p:grpSpPr>
          <a:xfrm>
            <a:off x="40743360" y="0"/>
            <a:ext cx="34566120" cy="27159120"/>
            <a:chOff x="40743360" y="0"/>
            <a:chExt cx="34566120" cy="27159120"/>
          </a:xfrm>
        </p:grpSpPr>
        <p:sp>
          <p:nvSpPr>
            <p:cNvPr id="58" name="正方形/長方形 27"/>
            <p:cNvSpPr/>
            <p:nvPr/>
          </p:nvSpPr>
          <p:spPr>
            <a:xfrm>
              <a:off x="40743360" y="0"/>
              <a:ext cx="34566120" cy="27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4078764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6361800" y="55440"/>
            <a:ext cx="2412720" cy="625680"/>
          </a:xfrm>
          <a:prstGeom prst="rect">
            <a:avLst/>
          </a:prstGeom>
          <a:ln w="0">
            <a:noFill/>
          </a:ln>
        </p:spPr>
      </p:pic>
      <p:grpSp>
        <p:nvGrpSpPr>
          <p:cNvPr id="97" name="グループ化 1"/>
          <p:cNvGrpSpPr/>
          <p:nvPr/>
        </p:nvGrpSpPr>
        <p:grpSpPr>
          <a:xfrm>
            <a:off x="826920" y="863640"/>
            <a:ext cx="37946160" cy="27073080"/>
            <a:chOff x="826920" y="863640"/>
            <a:chExt cx="37946160" cy="27073080"/>
          </a:xfrm>
        </p:grpSpPr>
        <p:grpSp>
          <p:nvGrpSpPr>
            <p:cNvPr id="98" name="グループ化 30"/>
            <p:cNvGrpSpPr/>
            <p:nvPr/>
          </p:nvGrpSpPr>
          <p:grpSpPr>
            <a:xfrm>
              <a:off x="826920" y="27504000"/>
              <a:ext cx="431640" cy="431640"/>
              <a:chOff x="826920" y="27504000"/>
              <a:chExt cx="431640" cy="43164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826920" y="2750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826920" y="27612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31"/>
            <p:cNvGrpSpPr/>
            <p:nvPr/>
          </p:nvGrpSpPr>
          <p:grpSpPr>
            <a:xfrm>
              <a:off x="38340000" y="27505080"/>
              <a:ext cx="433080" cy="431640"/>
              <a:chOff x="38340000" y="27505080"/>
              <a:chExt cx="433080" cy="43164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38449440" y="27505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38340000" y="276130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32"/>
            <p:cNvGrpSpPr/>
            <p:nvPr/>
          </p:nvGrpSpPr>
          <p:grpSpPr>
            <a:xfrm>
              <a:off x="827280" y="863640"/>
              <a:ext cx="431640" cy="433080"/>
              <a:chOff x="827280" y="863640"/>
              <a:chExt cx="431640" cy="43308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827280" y="863640"/>
                <a:ext cx="324000" cy="43308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827280" y="865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33"/>
            <p:cNvGrpSpPr/>
            <p:nvPr/>
          </p:nvGrpSpPr>
          <p:grpSpPr>
            <a:xfrm>
              <a:off x="38341080" y="864720"/>
              <a:ext cx="431640" cy="431640"/>
              <a:chOff x="38341080" y="864720"/>
              <a:chExt cx="431640" cy="43164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38448720" y="864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38341080" y="864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Rectangle 23"/>
          <p:cNvSpPr/>
          <p:nvPr/>
        </p:nvSpPr>
        <p:spPr>
          <a:xfrm>
            <a:off x="1150920" y="79560"/>
            <a:ext cx="254174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30 × 728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図 17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40466880" y="-55440"/>
            <a:ext cx="23966640" cy="28800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楕円 28"/>
          <p:cNvSpPr/>
          <p:nvPr/>
        </p:nvSpPr>
        <p:spPr>
          <a:xfrm>
            <a:off x="42343560" y="34726680"/>
            <a:ext cx="6480000" cy="71974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楕円 29"/>
          <p:cNvSpPr/>
          <p:nvPr/>
        </p:nvSpPr>
        <p:spPr>
          <a:xfrm>
            <a:off x="52279560" y="350852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楕円 30"/>
          <p:cNvSpPr/>
          <p:nvPr/>
        </p:nvSpPr>
        <p:spPr>
          <a:xfrm>
            <a:off x="61137720" y="35444160"/>
            <a:ext cx="4680000" cy="57625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楕円 31"/>
          <p:cNvSpPr/>
          <p:nvPr/>
        </p:nvSpPr>
        <p:spPr>
          <a:xfrm>
            <a:off x="69273720" y="35805960"/>
            <a:ext cx="4321080" cy="50389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3"/>
          <p:cNvGrpSpPr/>
          <p:nvPr/>
        </p:nvGrpSpPr>
        <p:grpSpPr>
          <a:xfrm>
            <a:off x="53562240" y="5486400"/>
            <a:ext cx="8928000" cy="19080000"/>
            <a:chOff x="53562240" y="5486400"/>
            <a:chExt cx="8928000" cy="19080000"/>
          </a:xfrm>
        </p:grpSpPr>
        <p:sp>
          <p:nvSpPr>
            <p:cNvPr id="162" name="Freeform 4"/>
            <p:cNvSpPr/>
            <p:nvPr/>
          </p:nvSpPr>
          <p:spPr>
            <a:xfrm>
              <a:off x="53562240" y="5486400"/>
              <a:ext cx="892800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54130680" y="1792224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55845000" y="1779552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57527280" y="1793808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59514840" y="1775736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60744600" y="1790964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9T05:38:29Z</dcterms:modified>
  <cp:revision>25</cp:revision>
  <dc:subject/>
  <dc:title>PowerPoint プレゼンテーション</dc:title>
</cp:coreProperties>
</file>