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0" y="0"/>
            <a:ext cx="7559640" cy="907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008000" y="1457280"/>
            <a:ext cx="5543640" cy="7777080"/>
            <a:chOff x="1008000" y="1457280"/>
            <a:chExt cx="5543640" cy="7777080"/>
          </a:xfrm>
        </p:grpSpPr>
        <p:sp>
          <p:nvSpPr>
            <p:cNvPr id="38" name="正方形/長方形 3"/>
            <p:cNvSpPr/>
            <p:nvPr/>
          </p:nvSpPr>
          <p:spPr>
            <a:xfrm>
              <a:off x="1116000" y="1565280"/>
              <a:ext cx="5328000" cy="756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1475640" y="1925280"/>
              <a:ext cx="4607640" cy="6841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1008000" y="1457280"/>
              <a:ext cx="554364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7920000" y="0"/>
            <a:ext cx="5759640" cy="10691640"/>
            <a:chOff x="7920000" y="0"/>
            <a:chExt cx="5759640" cy="10691640"/>
          </a:xfrm>
        </p:grpSpPr>
        <p:sp>
          <p:nvSpPr>
            <p:cNvPr id="42" name="正方形/長方形 8"/>
            <p:cNvSpPr/>
            <p:nvPr/>
          </p:nvSpPr>
          <p:spPr>
            <a:xfrm>
              <a:off x="7920000" y="0"/>
              <a:ext cx="5759640" cy="1069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20640"/>
                  <a:tab algn="l" pos="1241280"/>
                  <a:tab algn="l" pos="1862280"/>
                  <a:tab algn="l" pos="2482920"/>
                  <a:tab algn="l" pos="3103560"/>
                  <a:tab algn="l" pos="3724200"/>
                  <a:tab algn="l" pos="4344840"/>
                  <a:tab algn="l" pos="4965840"/>
                  <a:tab algn="l" pos="5586480"/>
                  <a:tab algn="l" pos="6207120"/>
                  <a:tab algn="l" pos="6827760"/>
                  <a:tab algn="l" pos="7448400"/>
                  <a:tab algn="l" pos="8069400"/>
                  <a:tab algn="l" pos="8690040"/>
                  <a:tab algn="l" pos="9310680"/>
                  <a:tab algn="l" pos="9931320"/>
                  <a:tab algn="l" pos="105519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7964280" y="0"/>
              <a:ext cx="552924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385920" y="26532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210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6002280" y="243000"/>
            <a:ext cx="1171800" cy="303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6"/>
          <p:cNvGrpSpPr/>
          <p:nvPr/>
        </p:nvGrpSpPr>
        <p:grpSpPr>
          <a:xfrm>
            <a:off x="684360" y="1133640"/>
            <a:ext cx="6191280" cy="8424720"/>
            <a:chOff x="684360" y="1133640"/>
            <a:chExt cx="6191280" cy="842472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684360" y="9126360"/>
              <a:ext cx="432000" cy="431640"/>
              <a:chOff x="684360" y="912636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684360" y="9126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684360" y="9234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6443640" y="9126360"/>
              <a:ext cx="432000" cy="432000"/>
              <a:chOff x="6443640" y="9126360"/>
              <a:chExt cx="43200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6551640" y="912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6443640" y="9235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684360" y="1134000"/>
              <a:ext cx="432000" cy="432720"/>
              <a:chOff x="684360" y="113400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684360" y="1134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684360" y="1134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6443640" y="1133640"/>
              <a:ext cx="432000" cy="432000"/>
              <a:chOff x="6443640" y="1133640"/>
              <a:chExt cx="43200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6551640" y="113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6443640" y="113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25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6002280" y="246240"/>
            <a:ext cx="1171800" cy="303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385920" y="26532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210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26"/>
          <p:cNvGrpSpPr/>
          <p:nvPr/>
        </p:nvGrpSpPr>
        <p:grpSpPr>
          <a:xfrm>
            <a:off x="684360" y="1133640"/>
            <a:ext cx="6191280" cy="8424720"/>
            <a:chOff x="684360" y="1133640"/>
            <a:chExt cx="6191280" cy="8424720"/>
          </a:xfrm>
        </p:grpSpPr>
        <p:grpSp>
          <p:nvGrpSpPr>
            <p:cNvPr id="98" name="グループ化 23"/>
            <p:cNvGrpSpPr/>
            <p:nvPr/>
          </p:nvGrpSpPr>
          <p:grpSpPr>
            <a:xfrm>
              <a:off x="684360" y="9126360"/>
              <a:ext cx="432000" cy="431640"/>
              <a:chOff x="684360" y="9126360"/>
              <a:chExt cx="432000" cy="43164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684360" y="9126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684360" y="9234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24"/>
            <p:cNvGrpSpPr/>
            <p:nvPr/>
          </p:nvGrpSpPr>
          <p:grpSpPr>
            <a:xfrm>
              <a:off x="6443640" y="9126360"/>
              <a:ext cx="432000" cy="432000"/>
              <a:chOff x="6443640" y="9126360"/>
              <a:chExt cx="432000" cy="43200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6551640" y="912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6443640" y="9235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5"/>
            <p:cNvGrpSpPr/>
            <p:nvPr/>
          </p:nvGrpSpPr>
          <p:grpSpPr>
            <a:xfrm>
              <a:off x="684360" y="1134000"/>
              <a:ext cx="432000" cy="432720"/>
              <a:chOff x="684360" y="1134000"/>
              <a:chExt cx="432000" cy="43272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684360" y="1134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684360" y="1134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6"/>
            <p:cNvGrpSpPr/>
            <p:nvPr/>
          </p:nvGrpSpPr>
          <p:grpSpPr>
            <a:xfrm>
              <a:off x="6443640" y="1133640"/>
              <a:ext cx="432000" cy="432000"/>
              <a:chOff x="6443640" y="1133640"/>
              <a:chExt cx="432000" cy="43200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6551640" y="113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6443640" y="113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7920000" y="0"/>
            <a:ext cx="575964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1600" indent="-201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39560" indent="-1681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1120" indent="-133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52560" indent="-13356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225440" indent="-133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225440" indent="-133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225440" indent="-13320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9585360" y="2919240"/>
            <a:ext cx="2430360" cy="4859640"/>
            <a:chOff x="9585360" y="2919240"/>
            <a:chExt cx="2430360" cy="4859640"/>
          </a:xfrm>
        </p:grpSpPr>
        <p:sp>
          <p:nvSpPr>
            <p:cNvPr id="150" name="Freeform 6"/>
            <p:cNvSpPr/>
            <p:nvPr/>
          </p:nvSpPr>
          <p:spPr>
            <a:xfrm>
              <a:off x="9585360" y="2919240"/>
              <a:ext cx="2430360" cy="485964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9750240" y="562284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0207440" y="5591160"/>
              <a:ext cx="39024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0655280" y="562608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1187000" y="557856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1542680" y="5616720"/>
              <a:ext cx="30132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1:58:08Z</dcterms:modified>
  <cp:revision>31</cp:revision>
  <dc:subject/>
  <dc:title>PowerPoint プレゼンテーション</dc:title>
</cp:coreProperties>
</file>