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28800425" cy="215995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2591964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440000" y="11598120"/>
            <a:ext cx="2591964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0000" y="1159812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14721480" y="1159812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203480" y="505440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8966960" y="505440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440000" y="1159812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0203480" y="1159812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18966960" y="1159812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0000" y="5054400"/>
            <a:ext cx="2591964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149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2591964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40000" y="861840"/>
            <a:ext cx="25919640" cy="167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149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0000" y="1159812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440000" y="5054400"/>
            <a:ext cx="2591964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149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721480" y="1159812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0000" y="11598120"/>
            <a:ext cx="2591964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2591964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0000" y="11598120"/>
            <a:ext cx="2591964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0000" y="1159812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4721480" y="1159812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203480" y="505440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8966960" y="505440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0000" y="1159812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10203480" y="1159812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18966960" y="1159812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40000" y="5054400"/>
            <a:ext cx="2591964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149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2591964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2591964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40000" y="861840"/>
            <a:ext cx="25919640" cy="167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149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40000" y="1159812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4721480" y="1159812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40000" y="11598120"/>
            <a:ext cx="2591964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2591964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40000" y="11598120"/>
            <a:ext cx="2591964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40000" y="1159812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4721480" y="1159812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0203480" y="505440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8966960" y="505440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40000" y="1159812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10203480" y="1159812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18966960" y="1159812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440000" y="861840"/>
            <a:ext cx="25919640" cy="167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149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440000" y="1159812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721480" y="1159812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40000" y="11598120"/>
            <a:ext cx="2591964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2" descr="グラフィカル ユーザー インターフェイス, テキスト, アプリケーション&#10;&#10;AI によって生成されたコンテンツは間違っている可能性があります。"/>
          <p:cNvPicPr/>
          <p:nvPr/>
        </p:nvPicPr>
        <p:blipFill>
          <a:blip r:embed="rId2"/>
          <a:srcRect l="0" t="0" r="0" b="28576"/>
          <a:stretch/>
        </p:blipFill>
        <p:spPr>
          <a:xfrm>
            <a:off x="3598920" y="0"/>
            <a:ext cx="21602520" cy="2159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グループ化 1"/>
          <p:cNvGrpSpPr/>
          <p:nvPr/>
        </p:nvGrpSpPr>
        <p:grpSpPr>
          <a:xfrm>
            <a:off x="3600000" y="3132000"/>
            <a:ext cx="21599640" cy="15335280"/>
            <a:chOff x="3600000" y="3132000"/>
            <a:chExt cx="21599640" cy="15335280"/>
          </a:xfrm>
        </p:grpSpPr>
        <p:sp>
          <p:nvSpPr>
            <p:cNvPr id="38" name="正方形/長方形 7"/>
            <p:cNvSpPr/>
            <p:nvPr/>
          </p:nvSpPr>
          <p:spPr>
            <a:xfrm rot="10800000">
              <a:off x="3708000" y="3239280"/>
              <a:ext cx="21384000" cy="1511964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" name="正方形/長方形 8"/>
            <p:cNvSpPr/>
            <p:nvPr/>
          </p:nvSpPr>
          <p:spPr>
            <a:xfrm rot="10800000">
              <a:off x="3816000" y="3347280"/>
              <a:ext cx="21168000" cy="1490364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正方形/長方形 9"/>
            <p:cNvSpPr/>
            <p:nvPr/>
          </p:nvSpPr>
          <p:spPr>
            <a:xfrm rot="10800000">
              <a:off x="3600000" y="3131640"/>
              <a:ext cx="21599640" cy="1533528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" name="グループ化 1"/>
          <p:cNvGrpSpPr/>
          <p:nvPr/>
        </p:nvGrpSpPr>
        <p:grpSpPr>
          <a:xfrm>
            <a:off x="3273480" y="2803680"/>
            <a:ext cx="22254840" cy="15990480"/>
            <a:chOff x="3273480" y="2803680"/>
            <a:chExt cx="22254840" cy="15990480"/>
          </a:xfrm>
        </p:grpSpPr>
        <p:grpSp>
          <p:nvGrpSpPr>
            <p:cNvPr id="42" name="グループ化 9"/>
            <p:cNvGrpSpPr/>
            <p:nvPr/>
          </p:nvGrpSpPr>
          <p:grpSpPr>
            <a:xfrm>
              <a:off x="25096680" y="2805480"/>
              <a:ext cx="431640" cy="438120"/>
              <a:chOff x="25096680" y="2805480"/>
              <a:chExt cx="431640" cy="438120"/>
            </a:xfrm>
          </p:grpSpPr>
          <p:sp>
            <p:nvSpPr>
              <p:cNvPr id="43" name="フリーフォーム 27"/>
              <p:cNvSpPr/>
              <p:nvPr/>
            </p:nvSpPr>
            <p:spPr>
              <a:xfrm rot="5400000">
                <a:off x="25145640" y="286092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" name="フリーフォーム 28"/>
              <p:cNvSpPr/>
              <p:nvPr/>
            </p:nvSpPr>
            <p:spPr>
              <a:xfrm rot="5400000">
                <a:off x="25148880" y="275328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" name="グループ化 9"/>
            <p:cNvGrpSpPr/>
            <p:nvPr/>
          </p:nvGrpSpPr>
          <p:grpSpPr>
            <a:xfrm>
              <a:off x="25096680" y="18355680"/>
              <a:ext cx="431640" cy="438120"/>
              <a:chOff x="25096680" y="18355680"/>
              <a:chExt cx="431640" cy="438120"/>
            </a:xfrm>
          </p:grpSpPr>
          <p:sp>
            <p:nvSpPr>
              <p:cNvPr id="46" name="フリーフォーム 25"/>
              <p:cNvSpPr/>
              <p:nvPr/>
            </p:nvSpPr>
            <p:spPr>
              <a:xfrm flipH="1" rot="5400000">
                <a:off x="25145640" y="1841112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フリーフォーム 26"/>
              <p:cNvSpPr/>
              <p:nvPr/>
            </p:nvSpPr>
            <p:spPr>
              <a:xfrm flipH="1" rot="5400000">
                <a:off x="25148520" y="1841436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" name="グループ化 9"/>
            <p:cNvGrpSpPr/>
            <p:nvPr/>
          </p:nvGrpSpPr>
          <p:grpSpPr>
            <a:xfrm>
              <a:off x="3275640" y="2803680"/>
              <a:ext cx="431640" cy="438120"/>
              <a:chOff x="3275640" y="2803680"/>
              <a:chExt cx="431640" cy="438120"/>
            </a:xfrm>
          </p:grpSpPr>
          <p:sp>
            <p:nvSpPr>
              <p:cNvPr id="49" name="フリーフォーム 21"/>
              <p:cNvSpPr/>
              <p:nvPr/>
            </p:nvSpPr>
            <p:spPr>
              <a:xfrm flipV="1" rot="5400000">
                <a:off x="3219840" y="285876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フリーフォーム 22"/>
              <p:cNvSpPr/>
              <p:nvPr/>
            </p:nvSpPr>
            <p:spPr>
              <a:xfrm flipV="1" rot="5400000">
                <a:off x="3327840" y="275112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" name="グループ化 9"/>
            <p:cNvGrpSpPr/>
            <p:nvPr/>
          </p:nvGrpSpPr>
          <p:grpSpPr>
            <a:xfrm>
              <a:off x="3273480" y="18356040"/>
              <a:ext cx="431640" cy="438120"/>
              <a:chOff x="3273480" y="18356040"/>
              <a:chExt cx="431640" cy="438120"/>
            </a:xfrm>
          </p:grpSpPr>
          <p:sp>
            <p:nvSpPr>
              <p:cNvPr id="52" name="フリーフォーム 19"/>
              <p:cNvSpPr/>
              <p:nvPr/>
            </p:nvSpPr>
            <p:spPr>
              <a:xfrm flipH="1" flipV="1" rot="5400000">
                <a:off x="3217680" y="1841112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フリーフォーム 20"/>
              <p:cNvSpPr/>
              <p:nvPr/>
            </p:nvSpPr>
            <p:spPr>
              <a:xfrm flipH="1" flipV="1" rot="5400000">
                <a:off x="3325320" y="1841436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4" name="Rectangle 23"/>
          <p:cNvSpPr/>
          <p:nvPr/>
        </p:nvSpPr>
        <p:spPr>
          <a:xfrm>
            <a:off x="2133720" y="916920"/>
            <a:ext cx="2159928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2_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</a:t>
            </a:r>
            <a:r>
              <a:rPr b="0" lang="en-US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94 × 420 mm 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図 23" descr="挿絵 が含まれている画像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22317120" y="817560"/>
            <a:ext cx="3774960" cy="976320"/>
          </a:xfrm>
          <a:prstGeom prst="rect">
            <a:avLst/>
          </a:prstGeom>
          <a:ln w="0">
            <a:noFill/>
          </a:ln>
        </p:spPr>
      </p:pic>
      <p:pic>
        <p:nvPicPr>
          <p:cNvPr id="56" name="図 9" descr="テキスト, 手紙&#10;&#10;AI によって生成されたコンテンツは間違っている可能性があります。"/>
          <p:cNvPicPr/>
          <p:nvPr/>
        </p:nvPicPr>
        <p:blipFill>
          <a:blip r:embed="rId3"/>
          <a:stretch/>
        </p:blipFill>
        <p:spPr>
          <a:xfrm>
            <a:off x="29846520" y="0"/>
            <a:ext cx="34566120" cy="1440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図 5" descr="アイコン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22317120" y="817560"/>
            <a:ext cx="3774960" cy="976320"/>
          </a:xfrm>
          <a:prstGeom prst="rect">
            <a:avLst/>
          </a:prstGeom>
          <a:ln w="0">
            <a:noFill/>
          </a:ln>
        </p:spPr>
      </p:pic>
      <p:grpSp>
        <p:nvGrpSpPr>
          <p:cNvPr id="94" name="グループ化 1"/>
          <p:cNvGrpSpPr/>
          <p:nvPr/>
        </p:nvGrpSpPr>
        <p:grpSpPr>
          <a:xfrm>
            <a:off x="3273480" y="2803680"/>
            <a:ext cx="22254840" cy="15990480"/>
            <a:chOff x="3273480" y="2803680"/>
            <a:chExt cx="22254840" cy="15990480"/>
          </a:xfrm>
        </p:grpSpPr>
        <p:grpSp>
          <p:nvGrpSpPr>
            <p:cNvPr id="95" name="グループ化 9"/>
            <p:cNvGrpSpPr/>
            <p:nvPr/>
          </p:nvGrpSpPr>
          <p:grpSpPr>
            <a:xfrm>
              <a:off x="25096680" y="2805480"/>
              <a:ext cx="431640" cy="438120"/>
              <a:chOff x="25096680" y="2805480"/>
              <a:chExt cx="431640" cy="438120"/>
            </a:xfrm>
          </p:grpSpPr>
          <p:sp>
            <p:nvSpPr>
              <p:cNvPr id="96" name="フリーフォーム 27"/>
              <p:cNvSpPr/>
              <p:nvPr/>
            </p:nvSpPr>
            <p:spPr>
              <a:xfrm rot="5400000">
                <a:off x="25145640" y="286092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フリーフォーム 28"/>
              <p:cNvSpPr/>
              <p:nvPr/>
            </p:nvSpPr>
            <p:spPr>
              <a:xfrm rot="5400000">
                <a:off x="25148880" y="275328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8" name="グループ化 9"/>
            <p:cNvGrpSpPr/>
            <p:nvPr/>
          </p:nvGrpSpPr>
          <p:grpSpPr>
            <a:xfrm>
              <a:off x="25096680" y="18355680"/>
              <a:ext cx="431640" cy="438120"/>
              <a:chOff x="25096680" y="18355680"/>
              <a:chExt cx="431640" cy="438120"/>
            </a:xfrm>
          </p:grpSpPr>
          <p:sp>
            <p:nvSpPr>
              <p:cNvPr id="99" name="フリーフォーム 25"/>
              <p:cNvSpPr/>
              <p:nvPr/>
            </p:nvSpPr>
            <p:spPr>
              <a:xfrm flipH="1" rot="5400000">
                <a:off x="25145640" y="1841112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フリーフォーム 26"/>
              <p:cNvSpPr/>
              <p:nvPr/>
            </p:nvSpPr>
            <p:spPr>
              <a:xfrm flipH="1" rot="5400000">
                <a:off x="25148520" y="1841436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1" name="グループ化 9"/>
            <p:cNvGrpSpPr/>
            <p:nvPr/>
          </p:nvGrpSpPr>
          <p:grpSpPr>
            <a:xfrm>
              <a:off x="3275640" y="2803680"/>
              <a:ext cx="431640" cy="438120"/>
              <a:chOff x="3275640" y="2803680"/>
              <a:chExt cx="431640" cy="438120"/>
            </a:xfrm>
          </p:grpSpPr>
          <p:sp>
            <p:nvSpPr>
              <p:cNvPr id="102" name="フリーフォーム 21"/>
              <p:cNvSpPr/>
              <p:nvPr/>
            </p:nvSpPr>
            <p:spPr>
              <a:xfrm flipV="1" rot="5400000">
                <a:off x="3219840" y="285876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フリーフォーム 22"/>
              <p:cNvSpPr/>
              <p:nvPr/>
            </p:nvSpPr>
            <p:spPr>
              <a:xfrm flipV="1" rot="5400000">
                <a:off x="3327840" y="275112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4" name="グループ化 9"/>
            <p:cNvGrpSpPr/>
            <p:nvPr/>
          </p:nvGrpSpPr>
          <p:grpSpPr>
            <a:xfrm>
              <a:off x="3273480" y="18356040"/>
              <a:ext cx="431640" cy="438120"/>
              <a:chOff x="3273480" y="18356040"/>
              <a:chExt cx="431640" cy="438120"/>
            </a:xfrm>
          </p:grpSpPr>
          <p:sp>
            <p:nvSpPr>
              <p:cNvPr id="105" name="フリーフォーム 19"/>
              <p:cNvSpPr/>
              <p:nvPr/>
            </p:nvSpPr>
            <p:spPr>
              <a:xfrm flipH="1" flipV="1" rot="5400000">
                <a:off x="3217680" y="1841112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フリーフォーム 20"/>
              <p:cNvSpPr/>
              <p:nvPr/>
            </p:nvSpPr>
            <p:spPr>
              <a:xfrm flipH="1" flipV="1" rot="5400000">
                <a:off x="3325320" y="1841436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7" name="Rectangle 23"/>
          <p:cNvSpPr/>
          <p:nvPr/>
        </p:nvSpPr>
        <p:spPr>
          <a:xfrm>
            <a:off x="2133720" y="916920"/>
            <a:ext cx="2159928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2_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</a:t>
            </a:r>
            <a:r>
              <a:rPr b="0" lang="en-US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94 × 420 mm 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図 10" descr="テキスト&#10;&#10;AI によって生成されたコンテンツは間違っている可能性があります。"/>
          <p:cNvPicPr/>
          <p:nvPr/>
        </p:nvPicPr>
        <p:blipFill>
          <a:blip r:embed="rId3"/>
          <a:stretch/>
        </p:blipFill>
        <p:spPr>
          <a:xfrm>
            <a:off x="29103480" y="0"/>
            <a:ext cx="12987360" cy="91504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440000" y="5054400"/>
            <a:ext cx="2591964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719280" indent="-719280">
              <a:lnSpc>
                <a:spcPct val="90000"/>
              </a:lnSpc>
              <a:spcBef>
                <a:spcPts val="3149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lvl="1" marL="2158920" indent="-71892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  <a:p>
            <a:pPr lvl="2" marL="3598920" indent="-71928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5759280"/>
                <a:tab algn="l" pos="863928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  <a:p>
            <a:pPr lvl="3" marL="5038560" indent="-71892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5759280"/>
                <a:tab algn="l" pos="863928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lvl="4" marL="6478560" indent="-71928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863928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lvl="5" marL="6478560" indent="-7192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lvl="6" marL="6478560" indent="-7192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楕円 37"/>
          <p:cNvSpPr/>
          <p:nvPr/>
        </p:nvSpPr>
        <p:spPr>
          <a:xfrm>
            <a:off x="31446720" y="6559560"/>
            <a:ext cx="6480360" cy="719928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2332080"/>
                <a:tab algn="l" pos="4664160"/>
                <a:tab algn="l" pos="6996240"/>
                <a:tab algn="l" pos="932832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楕円 38"/>
          <p:cNvSpPr/>
          <p:nvPr/>
        </p:nvSpPr>
        <p:spPr>
          <a:xfrm>
            <a:off x="41383080" y="6919920"/>
            <a:ext cx="5400720" cy="648000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2332080"/>
                <a:tab algn="l" pos="4664160"/>
                <a:tab algn="l" pos="6996240"/>
                <a:tab algn="l" pos="932832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楕円 39"/>
          <p:cNvSpPr/>
          <p:nvPr/>
        </p:nvSpPr>
        <p:spPr>
          <a:xfrm>
            <a:off x="50241240" y="7278840"/>
            <a:ext cx="4680000" cy="576072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2332080"/>
                <a:tab algn="l" pos="4664160"/>
                <a:tab algn="l" pos="6996240"/>
                <a:tab algn="l" pos="932832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楕円 40"/>
          <p:cNvSpPr/>
          <p:nvPr/>
        </p:nvSpPr>
        <p:spPr>
          <a:xfrm>
            <a:off x="58377240" y="7639200"/>
            <a:ext cx="4321080" cy="504000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2332080"/>
                <a:tab algn="l" pos="4664160"/>
                <a:tab algn="l" pos="6996240"/>
                <a:tab algn="l" pos="932832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2T04:44:34Z</dcterms:created>
  <dc:creator>biztel</dc:creator>
  <dc:description/>
  <dc:language>en-US</dc:language>
  <cp:lastModifiedBy>CR0096</cp:lastModifiedBy>
  <dcterms:modified xsi:type="dcterms:W3CDTF">2025-07-04T03:57:13Z</dcterms:modified>
  <cp:revision>10</cp:revision>
  <dc:subject/>
  <dc:title>PowerPoint プレゼンテーション</dc:title>
</cp:coreProperties>
</file>