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396001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20348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8966960" y="926640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44000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1020348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8966960" y="21262680"/>
            <a:ext cx="834588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1580040"/>
            <a:ext cx="25919640" cy="30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2126268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9266400"/>
            <a:ext cx="1264860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21262680"/>
            <a:ext cx="25919640" cy="109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257040" y="0"/>
            <a:ext cx="28286280" cy="396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2"/>
          <p:cNvGrpSpPr/>
          <p:nvPr/>
        </p:nvGrpSpPr>
        <p:grpSpPr>
          <a:xfrm>
            <a:off x="3600000" y="4554360"/>
            <a:ext cx="21599640" cy="30491280"/>
            <a:chOff x="3600000" y="4554360"/>
            <a:chExt cx="21599640" cy="30491280"/>
          </a:xfrm>
        </p:grpSpPr>
        <p:sp>
          <p:nvSpPr>
            <p:cNvPr id="38" name="正方形/長方形 123"/>
            <p:cNvSpPr/>
            <p:nvPr/>
          </p:nvSpPr>
          <p:spPr>
            <a:xfrm rot="5400000">
              <a:off x="-737640" y="9107640"/>
              <a:ext cx="30275640" cy="21384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124"/>
            <p:cNvSpPr/>
            <p:nvPr/>
          </p:nvSpPr>
          <p:spPr>
            <a:xfrm rot="5400000">
              <a:off x="-377280" y="9468000"/>
              <a:ext cx="29554920" cy="20663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125"/>
            <p:cNvSpPr/>
            <p:nvPr/>
          </p:nvSpPr>
          <p:spPr>
            <a:xfrm rot="5400000">
              <a:off x="-845640" y="9000000"/>
              <a:ext cx="30491280" cy="21599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" name="図 9" descr="テキスト, 手紙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0097440" y="28167120"/>
            <a:ext cx="34566120" cy="14407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3"/>
          <p:cNvSpPr/>
          <p:nvPr/>
        </p:nvSpPr>
        <p:spPr>
          <a:xfrm>
            <a:off x="2519280" y="2078640"/>
            <a:ext cx="19369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1_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 × 841 mm 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22" descr="挿絵 が含まれている画像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2487040" y="2014560"/>
            <a:ext cx="3041640" cy="78588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15"/>
          <p:cNvGrpSpPr/>
          <p:nvPr/>
        </p:nvGrpSpPr>
        <p:grpSpPr>
          <a:xfrm>
            <a:off x="30097440" y="0"/>
            <a:ext cx="34566120" cy="27159120"/>
            <a:chOff x="30097440" y="0"/>
            <a:chExt cx="34566120" cy="27159120"/>
          </a:xfrm>
        </p:grpSpPr>
        <p:sp>
          <p:nvSpPr>
            <p:cNvPr id="45" name="正方形/長方形 4"/>
            <p:cNvSpPr/>
            <p:nvPr/>
          </p:nvSpPr>
          <p:spPr>
            <a:xfrm>
              <a:off x="30097440" y="0"/>
              <a:ext cx="34566120" cy="27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10040"/>
                  <a:tab algn="l" pos="802008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30141720" y="0"/>
              <a:ext cx="34307640" cy="50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グループ化 24"/>
          <p:cNvGrpSpPr/>
          <p:nvPr/>
        </p:nvGrpSpPr>
        <p:grpSpPr>
          <a:xfrm>
            <a:off x="3274920" y="4229280"/>
            <a:ext cx="22250520" cy="31138560"/>
            <a:chOff x="3274920" y="4229280"/>
            <a:chExt cx="22250520" cy="31138560"/>
          </a:xfrm>
        </p:grpSpPr>
        <p:grpSp>
          <p:nvGrpSpPr>
            <p:cNvPr id="48" name="グループ化 2"/>
            <p:cNvGrpSpPr/>
            <p:nvPr/>
          </p:nvGrpSpPr>
          <p:grpSpPr>
            <a:xfrm>
              <a:off x="3276360" y="34935840"/>
              <a:ext cx="432000" cy="431640"/>
              <a:chOff x="3276360" y="34935840"/>
              <a:chExt cx="43200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3276360" y="349358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3276360" y="350442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3"/>
            <p:cNvGrpSpPr/>
            <p:nvPr/>
          </p:nvGrpSpPr>
          <p:grpSpPr>
            <a:xfrm>
              <a:off x="25093440" y="34935840"/>
              <a:ext cx="432000" cy="432000"/>
              <a:chOff x="25093440" y="34935840"/>
              <a:chExt cx="432000" cy="43200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25201440" y="349358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25093440" y="350445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5"/>
            <p:cNvGrpSpPr/>
            <p:nvPr/>
          </p:nvGrpSpPr>
          <p:grpSpPr>
            <a:xfrm>
              <a:off x="3274920" y="4229280"/>
              <a:ext cx="432000" cy="432720"/>
              <a:chOff x="3274920" y="4229280"/>
              <a:chExt cx="432000" cy="43272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3274920" y="42292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3274920" y="4230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6"/>
            <p:cNvGrpSpPr/>
            <p:nvPr/>
          </p:nvGrpSpPr>
          <p:grpSpPr>
            <a:xfrm>
              <a:off x="25093440" y="4230000"/>
              <a:ext cx="432000" cy="432000"/>
              <a:chOff x="25093440" y="4230000"/>
              <a:chExt cx="432000" cy="43200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25201440" y="4230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25093440" y="423000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8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2487040" y="2014560"/>
            <a:ext cx="3041640" cy="785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3"/>
          <p:cNvSpPr/>
          <p:nvPr/>
        </p:nvSpPr>
        <p:spPr>
          <a:xfrm>
            <a:off x="2519280" y="2078640"/>
            <a:ext cx="19369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1_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94 × 841 mm </a:t>
            </a:r>
            <a:r>
              <a:rPr b="0" lang="ja-JP" sz="4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図 2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9451240" y="-23760"/>
            <a:ext cx="28086120" cy="33750360"/>
          </a:xfrm>
          <a:prstGeom prst="rect">
            <a:avLst/>
          </a:prstGeom>
          <a:ln w="0">
            <a:noFill/>
          </a:ln>
        </p:spPr>
      </p:pic>
      <p:grpSp>
        <p:nvGrpSpPr>
          <p:cNvPr id="99" name="グループ化 2"/>
          <p:cNvGrpSpPr/>
          <p:nvPr/>
        </p:nvGrpSpPr>
        <p:grpSpPr>
          <a:xfrm>
            <a:off x="3274920" y="4229280"/>
            <a:ext cx="22250520" cy="31138560"/>
            <a:chOff x="3274920" y="4229280"/>
            <a:chExt cx="22250520" cy="31138560"/>
          </a:xfrm>
        </p:grpSpPr>
        <p:grpSp>
          <p:nvGrpSpPr>
            <p:cNvPr id="100" name="グループ化 3"/>
            <p:cNvGrpSpPr/>
            <p:nvPr/>
          </p:nvGrpSpPr>
          <p:grpSpPr>
            <a:xfrm>
              <a:off x="3276360" y="34935840"/>
              <a:ext cx="432000" cy="431640"/>
              <a:chOff x="3276360" y="34935840"/>
              <a:chExt cx="432000" cy="431640"/>
            </a:xfrm>
          </p:grpSpPr>
          <p:sp>
            <p:nvSpPr>
              <p:cNvPr id="101" name="Freeform 37"/>
              <p:cNvSpPr/>
              <p:nvPr/>
            </p:nvSpPr>
            <p:spPr>
              <a:xfrm>
                <a:off x="3276360" y="349358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3276360" y="350442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4"/>
            <p:cNvGrpSpPr/>
            <p:nvPr/>
          </p:nvGrpSpPr>
          <p:grpSpPr>
            <a:xfrm>
              <a:off x="25093440" y="34935840"/>
              <a:ext cx="432000" cy="432000"/>
              <a:chOff x="25093440" y="34935840"/>
              <a:chExt cx="432000" cy="43200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25201440" y="349358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25093440" y="350445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5"/>
            <p:cNvGrpSpPr/>
            <p:nvPr/>
          </p:nvGrpSpPr>
          <p:grpSpPr>
            <a:xfrm>
              <a:off x="3274920" y="4229280"/>
              <a:ext cx="432000" cy="432720"/>
              <a:chOff x="3274920" y="4229280"/>
              <a:chExt cx="432000" cy="432720"/>
            </a:xfrm>
          </p:grpSpPr>
          <p:sp>
            <p:nvSpPr>
              <p:cNvPr id="107" name="Freeform 45"/>
              <p:cNvSpPr/>
              <p:nvPr/>
            </p:nvSpPr>
            <p:spPr>
              <a:xfrm>
                <a:off x="3274920" y="42292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3274920" y="42300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グループ化 6"/>
            <p:cNvGrpSpPr/>
            <p:nvPr/>
          </p:nvGrpSpPr>
          <p:grpSpPr>
            <a:xfrm>
              <a:off x="25093440" y="4230000"/>
              <a:ext cx="432000" cy="432000"/>
              <a:chOff x="25093440" y="4230000"/>
              <a:chExt cx="432000" cy="432000"/>
            </a:xfrm>
          </p:grpSpPr>
          <p:sp>
            <p:nvSpPr>
              <p:cNvPr id="110" name="Freeform 47"/>
              <p:cNvSpPr/>
              <p:nvPr/>
            </p:nvSpPr>
            <p:spPr>
              <a:xfrm>
                <a:off x="25201440" y="4230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25093440" y="423000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0" y="1580040"/>
            <a:ext cx="25919640" cy="66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440000" y="9266400"/>
            <a:ext cx="25919640" cy="22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366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95240" indent="-3045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25440" indent="-244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716120" indent="-244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208240" indent="-2444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1"/>
          <p:cNvSpPr/>
          <p:nvPr/>
        </p:nvSpPr>
        <p:spPr>
          <a:xfrm>
            <a:off x="31697640" y="34726680"/>
            <a:ext cx="6480000" cy="71974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2"/>
          <p:cNvSpPr/>
          <p:nvPr/>
        </p:nvSpPr>
        <p:spPr>
          <a:xfrm>
            <a:off x="41633640" y="35085240"/>
            <a:ext cx="5400720" cy="648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3"/>
          <p:cNvSpPr/>
          <p:nvPr/>
        </p:nvSpPr>
        <p:spPr>
          <a:xfrm>
            <a:off x="50492160" y="35444160"/>
            <a:ext cx="4679640" cy="57625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4"/>
          <p:cNvSpPr/>
          <p:nvPr/>
        </p:nvSpPr>
        <p:spPr>
          <a:xfrm>
            <a:off x="58627800" y="35805960"/>
            <a:ext cx="4321440" cy="50389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13"/>
          <p:cNvGrpSpPr/>
          <p:nvPr/>
        </p:nvGrpSpPr>
        <p:grpSpPr>
          <a:xfrm>
            <a:off x="42916320" y="5486400"/>
            <a:ext cx="8928360" cy="19080000"/>
            <a:chOff x="42916320" y="5486400"/>
            <a:chExt cx="8928360" cy="19080000"/>
          </a:xfrm>
        </p:grpSpPr>
        <p:sp>
          <p:nvSpPr>
            <p:cNvPr id="155" name="Freeform 4"/>
            <p:cNvSpPr/>
            <p:nvPr/>
          </p:nvSpPr>
          <p:spPr>
            <a:xfrm>
              <a:off x="42916320" y="5486400"/>
              <a:ext cx="8928360" cy="19080000"/>
            </a:xfrm>
            <a:custGeom>
              <a:avLst/>
              <a:gdLst/>
              <a:ahLst/>
              <a:rect l="l" t="t" r="r" b="b"/>
              <a:pathLst>
                <a:path w="5620" h="12021">
                  <a:moveTo>
                    <a:pt x="4225" y="7485"/>
                  </a:moveTo>
                  <a:lnTo>
                    <a:pt x="4225" y="6011"/>
                  </a:lnTo>
                  <a:lnTo>
                    <a:pt x="4225" y="0"/>
                  </a:lnTo>
                  <a:lnTo>
                    <a:pt x="1393" y="0"/>
                  </a:lnTo>
                  <a:lnTo>
                    <a:pt x="1393" y="7485"/>
                  </a:lnTo>
                  <a:lnTo>
                    <a:pt x="0" y="7485"/>
                  </a:lnTo>
                  <a:lnTo>
                    <a:pt x="0" y="9103"/>
                  </a:lnTo>
                  <a:lnTo>
                    <a:pt x="1393" y="9103"/>
                  </a:lnTo>
                  <a:lnTo>
                    <a:pt x="1393" y="12021"/>
                  </a:lnTo>
                  <a:lnTo>
                    <a:pt x="4225" y="12021"/>
                  </a:lnTo>
                  <a:lnTo>
                    <a:pt x="4225" y="9103"/>
                  </a:lnTo>
                  <a:lnTo>
                    <a:pt x="5620" y="9103"/>
                  </a:lnTo>
                  <a:lnTo>
                    <a:pt x="5620" y="7485"/>
                  </a:lnTo>
                  <a:lnTo>
                    <a:pt x="4225" y="7485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43484760" y="17922240"/>
              <a:ext cx="1644120" cy="1539360"/>
            </a:xfrm>
            <a:custGeom>
              <a:avLst/>
              <a:gdLst/>
              <a:ahLst/>
              <a:rect l="l" t="t" r="r" b="b"/>
              <a:pathLst>
                <a:path w="518" h="485">
                  <a:moveTo>
                    <a:pt x="440" y="33"/>
                  </a:moveTo>
                  <a:cubicBezTo>
                    <a:pt x="438" y="38"/>
                    <a:pt x="434" y="41"/>
                    <a:pt x="429" y="43"/>
                  </a:cubicBezTo>
                  <a:cubicBezTo>
                    <a:pt x="396" y="120"/>
                    <a:pt x="365" y="176"/>
                    <a:pt x="317" y="242"/>
                  </a:cubicBezTo>
                  <a:cubicBezTo>
                    <a:pt x="376" y="290"/>
                    <a:pt x="464" y="369"/>
                    <a:pt x="518" y="426"/>
                  </a:cubicBezTo>
                  <a:cubicBezTo>
                    <a:pt x="451" y="485"/>
                    <a:pt x="451" y="485"/>
                    <a:pt x="451" y="485"/>
                  </a:cubicBezTo>
                  <a:cubicBezTo>
                    <a:pt x="404" y="429"/>
                    <a:pt x="319" y="344"/>
                    <a:pt x="268" y="301"/>
                  </a:cubicBezTo>
                  <a:cubicBezTo>
                    <a:pt x="212" y="365"/>
                    <a:pt x="134" y="438"/>
                    <a:pt x="56" y="485"/>
                  </a:cubicBezTo>
                  <a:cubicBezTo>
                    <a:pt x="44" y="468"/>
                    <a:pt x="17" y="441"/>
                    <a:pt x="0" y="427"/>
                  </a:cubicBezTo>
                  <a:cubicBezTo>
                    <a:pt x="149" y="346"/>
                    <a:pt x="271" y="202"/>
                    <a:pt x="325" y="77"/>
                  </a:cubicBezTo>
                  <a:cubicBezTo>
                    <a:pt x="55" y="77"/>
                    <a:pt x="55" y="77"/>
                    <a:pt x="55" y="77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368" y="5"/>
                    <a:pt x="368" y="5"/>
                    <a:pt x="368" y="5"/>
                  </a:cubicBezTo>
                  <a:cubicBezTo>
                    <a:pt x="381" y="0"/>
                    <a:pt x="381" y="0"/>
                    <a:pt x="381" y="0"/>
                  </a:cubicBezTo>
                  <a:lnTo>
                    <a:pt x="44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45199080" y="17795520"/>
              <a:ext cx="1466280" cy="1707840"/>
            </a:xfrm>
            <a:custGeom>
              <a:avLst/>
              <a:gdLst/>
              <a:ahLst/>
              <a:rect l="l" t="t" r="r" b="b"/>
              <a:pathLst>
                <a:path w="462" h="538">
                  <a:moveTo>
                    <a:pt x="462" y="111"/>
                  </a:moveTo>
                  <a:cubicBezTo>
                    <a:pt x="461" y="115"/>
                    <a:pt x="457" y="119"/>
                    <a:pt x="452" y="122"/>
                  </a:cubicBezTo>
                  <a:cubicBezTo>
                    <a:pt x="430" y="192"/>
                    <a:pt x="400" y="261"/>
                    <a:pt x="369" y="310"/>
                  </a:cubicBezTo>
                  <a:cubicBezTo>
                    <a:pt x="390" y="322"/>
                    <a:pt x="418" y="340"/>
                    <a:pt x="435" y="352"/>
                  </a:cubicBezTo>
                  <a:cubicBezTo>
                    <a:pt x="391" y="426"/>
                    <a:pt x="391" y="426"/>
                    <a:pt x="391" y="426"/>
                  </a:cubicBezTo>
                  <a:cubicBezTo>
                    <a:pt x="374" y="412"/>
                    <a:pt x="344" y="391"/>
                    <a:pt x="323" y="378"/>
                  </a:cubicBezTo>
                  <a:cubicBezTo>
                    <a:pt x="270" y="445"/>
                    <a:pt x="202" y="499"/>
                    <a:pt x="121" y="538"/>
                  </a:cubicBezTo>
                  <a:cubicBezTo>
                    <a:pt x="109" y="521"/>
                    <a:pt x="80" y="493"/>
                    <a:pt x="61" y="481"/>
                  </a:cubicBezTo>
                  <a:cubicBezTo>
                    <a:pt x="137" y="448"/>
                    <a:pt x="205" y="399"/>
                    <a:pt x="257" y="338"/>
                  </a:cubicBezTo>
                  <a:cubicBezTo>
                    <a:pt x="225" y="319"/>
                    <a:pt x="188" y="300"/>
                    <a:pt x="155" y="287"/>
                  </a:cubicBezTo>
                  <a:cubicBezTo>
                    <a:pt x="197" y="228"/>
                    <a:pt x="197" y="228"/>
                    <a:pt x="197" y="228"/>
                  </a:cubicBezTo>
                  <a:cubicBezTo>
                    <a:pt x="230" y="240"/>
                    <a:pt x="267" y="256"/>
                    <a:pt x="302" y="274"/>
                  </a:cubicBezTo>
                  <a:cubicBezTo>
                    <a:pt x="325" y="238"/>
                    <a:pt x="344" y="198"/>
                    <a:pt x="357" y="157"/>
                  </a:cubicBezTo>
                  <a:cubicBezTo>
                    <a:pt x="191" y="157"/>
                    <a:pt x="191" y="157"/>
                    <a:pt x="191" y="157"/>
                  </a:cubicBezTo>
                  <a:cubicBezTo>
                    <a:pt x="154" y="214"/>
                    <a:pt x="108" y="270"/>
                    <a:pt x="62" y="307"/>
                  </a:cubicBezTo>
                  <a:cubicBezTo>
                    <a:pt x="48" y="294"/>
                    <a:pt x="19" y="271"/>
                    <a:pt x="0" y="260"/>
                  </a:cubicBezTo>
                  <a:cubicBezTo>
                    <a:pt x="85" y="198"/>
                    <a:pt x="147" y="101"/>
                    <a:pt x="182" y="0"/>
                  </a:cubicBezTo>
                  <a:cubicBezTo>
                    <a:pt x="279" y="21"/>
                    <a:pt x="279" y="21"/>
                    <a:pt x="279" y="21"/>
                  </a:cubicBezTo>
                  <a:cubicBezTo>
                    <a:pt x="277" y="28"/>
                    <a:pt x="270" y="31"/>
                    <a:pt x="259" y="31"/>
                  </a:cubicBezTo>
                  <a:cubicBezTo>
                    <a:pt x="253" y="47"/>
                    <a:pt x="242" y="69"/>
                    <a:pt x="233" y="87"/>
                  </a:cubicBezTo>
                  <a:cubicBezTo>
                    <a:pt x="393" y="87"/>
                    <a:pt x="393" y="87"/>
                    <a:pt x="393" y="87"/>
                  </a:cubicBezTo>
                  <a:cubicBezTo>
                    <a:pt x="406" y="84"/>
                    <a:pt x="406" y="84"/>
                    <a:pt x="406" y="84"/>
                  </a:cubicBezTo>
                  <a:lnTo>
                    <a:pt x="46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46881720" y="17938080"/>
              <a:ext cx="1578960" cy="1533240"/>
            </a:xfrm>
            <a:custGeom>
              <a:avLst/>
              <a:gdLst/>
              <a:ahLst/>
              <a:rect l="l" t="t" r="r" b="b"/>
              <a:pathLst>
                <a:path w="497" h="483">
                  <a:moveTo>
                    <a:pt x="36" y="0"/>
                  </a:moveTo>
                  <a:cubicBezTo>
                    <a:pt x="96" y="18"/>
                    <a:pt x="168" y="50"/>
                    <a:pt x="212" y="79"/>
                  </a:cubicBezTo>
                  <a:cubicBezTo>
                    <a:pt x="172" y="147"/>
                    <a:pt x="172" y="147"/>
                    <a:pt x="172" y="147"/>
                  </a:cubicBezTo>
                  <a:cubicBezTo>
                    <a:pt x="129" y="118"/>
                    <a:pt x="58" y="85"/>
                    <a:pt x="0" y="65"/>
                  </a:cubicBezTo>
                  <a:lnTo>
                    <a:pt x="36" y="0"/>
                  </a:lnTo>
                  <a:close/>
                  <a:moveTo>
                    <a:pt x="15" y="406"/>
                  </a:moveTo>
                  <a:cubicBezTo>
                    <a:pt x="218" y="343"/>
                    <a:pt x="357" y="226"/>
                    <a:pt x="426" y="61"/>
                  </a:cubicBezTo>
                  <a:cubicBezTo>
                    <a:pt x="449" y="79"/>
                    <a:pt x="474" y="93"/>
                    <a:pt x="497" y="105"/>
                  </a:cubicBezTo>
                  <a:cubicBezTo>
                    <a:pt x="422" y="269"/>
                    <a:pt x="279" y="397"/>
                    <a:pt x="80" y="467"/>
                  </a:cubicBezTo>
                  <a:cubicBezTo>
                    <a:pt x="79" y="474"/>
                    <a:pt x="75" y="480"/>
                    <a:pt x="70" y="483"/>
                  </a:cubicBezTo>
                  <a:lnTo>
                    <a:pt x="15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48869280" y="17757360"/>
              <a:ext cx="1200960" cy="1726920"/>
            </a:xfrm>
            <a:custGeom>
              <a:avLst/>
              <a:gdLst/>
              <a:ahLst/>
              <a:rect l="l" t="t" r="r" b="b"/>
              <a:pathLst>
                <a:path w="378" h="544">
                  <a:moveTo>
                    <a:pt x="268" y="355"/>
                  </a:moveTo>
                  <a:cubicBezTo>
                    <a:pt x="219" y="327"/>
                    <a:pt x="140" y="289"/>
                    <a:pt x="81" y="265"/>
                  </a:cubicBezTo>
                  <a:cubicBezTo>
                    <a:pt x="81" y="544"/>
                    <a:pt x="81" y="544"/>
                    <a:pt x="81" y="544"/>
                  </a:cubicBezTo>
                  <a:cubicBezTo>
                    <a:pt x="0" y="544"/>
                    <a:pt x="0" y="544"/>
                    <a:pt x="0" y="54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9"/>
                    <a:pt x="93" y="35"/>
                    <a:pt x="81" y="37"/>
                  </a:cubicBezTo>
                  <a:cubicBezTo>
                    <a:pt x="81" y="208"/>
                    <a:pt x="81" y="208"/>
                    <a:pt x="81" y="208"/>
                  </a:cubicBezTo>
                  <a:cubicBezTo>
                    <a:pt x="96" y="187"/>
                    <a:pt x="96" y="187"/>
                    <a:pt x="96" y="187"/>
                  </a:cubicBezTo>
                  <a:cubicBezTo>
                    <a:pt x="162" y="211"/>
                    <a:pt x="252" y="250"/>
                    <a:pt x="311" y="282"/>
                  </a:cubicBezTo>
                  <a:lnTo>
                    <a:pt x="268" y="355"/>
                  </a:lnTo>
                  <a:close/>
                  <a:moveTo>
                    <a:pt x="220" y="54"/>
                  </a:moveTo>
                  <a:cubicBezTo>
                    <a:pt x="243" y="73"/>
                    <a:pt x="276" y="108"/>
                    <a:pt x="295" y="135"/>
                  </a:cubicBezTo>
                  <a:cubicBezTo>
                    <a:pt x="261" y="165"/>
                    <a:pt x="261" y="165"/>
                    <a:pt x="261" y="165"/>
                  </a:cubicBezTo>
                  <a:cubicBezTo>
                    <a:pt x="245" y="142"/>
                    <a:pt x="211" y="102"/>
                    <a:pt x="187" y="82"/>
                  </a:cubicBezTo>
                  <a:lnTo>
                    <a:pt x="220" y="54"/>
                  </a:lnTo>
                  <a:close/>
                  <a:moveTo>
                    <a:pt x="303" y="0"/>
                  </a:moveTo>
                  <a:cubicBezTo>
                    <a:pt x="328" y="22"/>
                    <a:pt x="361" y="55"/>
                    <a:pt x="378" y="80"/>
                  </a:cubicBezTo>
                  <a:cubicBezTo>
                    <a:pt x="343" y="109"/>
                    <a:pt x="343" y="109"/>
                    <a:pt x="343" y="109"/>
                  </a:cubicBezTo>
                  <a:cubicBezTo>
                    <a:pt x="328" y="87"/>
                    <a:pt x="294" y="48"/>
                    <a:pt x="270" y="28"/>
                  </a:cubicBezTo>
                  <a:lnTo>
                    <a:pt x="3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50099040" y="17909640"/>
              <a:ext cx="1180080" cy="1466280"/>
            </a:xfrm>
            <a:custGeom>
              <a:avLst/>
              <a:gdLst/>
              <a:ahLst/>
              <a:rect l="l" t="t" r="r" b="b"/>
              <a:pathLst>
                <a:path w="372" h="462">
                  <a:moveTo>
                    <a:pt x="372" y="462"/>
                  </a:moveTo>
                  <a:cubicBezTo>
                    <a:pt x="279" y="462"/>
                    <a:pt x="279" y="462"/>
                    <a:pt x="279" y="462"/>
                  </a:cubicBezTo>
                  <a:cubicBezTo>
                    <a:pt x="246" y="340"/>
                    <a:pt x="246" y="340"/>
                    <a:pt x="246" y="340"/>
                  </a:cubicBezTo>
                  <a:cubicBezTo>
                    <a:pt x="122" y="340"/>
                    <a:pt x="122" y="340"/>
                    <a:pt x="122" y="340"/>
                  </a:cubicBezTo>
                  <a:cubicBezTo>
                    <a:pt x="90" y="462"/>
                    <a:pt x="90" y="462"/>
                    <a:pt x="90" y="462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243" y="0"/>
                    <a:pt x="243" y="0"/>
                    <a:pt x="243" y="0"/>
                  </a:cubicBezTo>
                  <a:lnTo>
                    <a:pt x="372" y="462"/>
                  </a:lnTo>
                  <a:close/>
                  <a:moveTo>
                    <a:pt x="233" y="273"/>
                  </a:moveTo>
                  <a:cubicBezTo>
                    <a:pt x="205" y="168"/>
                    <a:pt x="205" y="168"/>
                    <a:pt x="205" y="168"/>
                  </a:cubicBezTo>
                  <a:cubicBezTo>
                    <a:pt x="198" y="139"/>
                    <a:pt x="190" y="102"/>
                    <a:pt x="184" y="73"/>
                  </a:cubicBezTo>
                  <a:cubicBezTo>
                    <a:pt x="183" y="73"/>
                    <a:pt x="183" y="73"/>
                    <a:pt x="183" y="73"/>
                  </a:cubicBezTo>
                  <a:cubicBezTo>
                    <a:pt x="177" y="102"/>
                    <a:pt x="169" y="140"/>
                    <a:pt x="162" y="167"/>
                  </a:cubicBezTo>
                  <a:cubicBezTo>
                    <a:pt x="135" y="273"/>
                    <a:pt x="135" y="273"/>
                    <a:pt x="135" y="273"/>
                  </a:cubicBezTo>
                  <a:lnTo>
                    <a:pt x="23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0:31:43Z</dcterms:modified>
  <cp:revision>28</cp:revision>
  <dc:subject/>
  <dc:title>PowerPoint プレゼンテーション</dc:title>
</cp:coreProperties>
</file>