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50407888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5888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19740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52036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785888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319740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520360" y="1580040"/>
            <a:ext cx="45366120" cy="30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785888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319740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52036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785888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3319740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520360" y="1580040"/>
            <a:ext cx="45366120" cy="30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785888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3197400" y="926712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52036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785888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3197400" y="21264480"/>
            <a:ext cx="146077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520360" y="1580040"/>
            <a:ext cx="45366120" cy="30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66280" y="2126448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2036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766280" y="9267120"/>
            <a:ext cx="2213856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0360" y="21264480"/>
            <a:ext cx="45366120" cy="10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074320" y="44280"/>
            <a:ext cx="28257480" cy="3956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5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41451120" y="1203480"/>
            <a:ext cx="5585040" cy="144432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51"/>
          <p:cNvGrpSpPr/>
          <p:nvPr/>
        </p:nvGrpSpPr>
        <p:grpSpPr>
          <a:xfrm>
            <a:off x="3692160" y="4556160"/>
            <a:ext cx="43021080" cy="30492720"/>
            <a:chOff x="3692160" y="4556160"/>
            <a:chExt cx="43021080" cy="30492720"/>
          </a:xfrm>
        </p:grpSpPr>
        <p:sp>
          <p:nvSpPr>
            <p:cNvPr id="39" name="正方形/長方形 118"/>
            <p:cNvSpPr/>
            <p:nvPr/>
          </p:nvSpPr>
          <p:spPr>
            <a:xfrm rot="5400000">
              <a:off x="9956160" y="-1707840"/>
              <a:ext cx="30492720" cy="43021080"/>
            </a:xfrm>
            <a:prstGeom prst="rect">
              <a:avLst/>
            </a:pr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19"/>
            <p:cNvSpPr/>
            <p:nvPr/>
          </p:nvSpPr>
          <p:spPr>
            <a:xfrm>
              <a:off x="4160160" y="5024160"/>
              <a:ext cx="42084720" cy="29556360"/>
            </a:xfrm>
            <a:prstGeom prst="rect">
              <a:avLst/>
            </a:prstGeom>
            <a:noFill/>
            <a:ln w="3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120"/>
            <p:cNvSpPr/>
            <p:nvPr/>
          </p:nvSpPr>
          <p:spPr>
            <a:xfrm rot="5400000">
              <a:off x="10063800" y="-1600200"/>
              <a:ext cx="30277080" cy="4280544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" name="Rectangle 23"/>
          <p:cNvSpPr/>
          <p:nvPr/>
        </p:nvSpPr>
        <p:spPr>
          <a:xfrm>
            <a:off x="1224000" y="1292040"/>
            <a:ext cx="38457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89 × 841 mm 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51917760" y="27346320"/>
            <a:ext cx="34566120" cy="1440648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3"/>
          <p:cNvGrpSpPr/>
          <p:nvPr/>
        </p:nvGrpSpPr>
        <p:grpSpPr>
          <a:xfrm>
            <a:off x="51917760" y="0"/>
            <a:ext cx="34566120" cy="25757280"/>
            <a:chOff x="51917760" y="0"/>
            <a:chExt cx="34566120" cy="25757280"/>
          </a:xfrm>
        </p:grpSpPr>
        <p:sp>
          <p:nvSpPr>
            <p:cNvPr id="45" name="正方形/長方形 2"/>
            <p:cNvSpPr/>
            <p:nvPr/>
          </p:nvSpPr>
          <p:spPr>
            <a:xfrm>
              <a:off x="51917760" y="0"/>
              <a:ext cx="34566120" cy="257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52188120" y="0"/>
              <a:ext cx="32848920" cy="48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グループ化 46"/>
          <p:cNvGrpSpPr/>
          <p:nvPr/>
        </p:nvGrpSpPr>
        <p:grpSpPr>
          <a:xfrm>
            <a:off x="3368520" y="4232160"/>
            <a:ext cx="43669080" cy="31140360"/>
            <a:chOff x="3368520" y="4232160"/>
            <a:chExt cx="43669080" cy="31140360"/>
          </a:xfrm>
        </p:grpSpPr>
        <p:grpSp>
          <p:nvGrpSpPr>
            <p:cNvPr id="48" name="グループ化 34"/>
            <p:cNvGrpSpPr/>
            <p:nvPr/>
          </p:nvGrpSpPr>
          <p:grpSpPr>
            <a:xfrm>
              <a:off x="3368520" y="34940520"/>
              <a:ext cx="432000" cy="431640"/>
              <a:chOff x="3368520" y="3494052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3368520" y="349405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3368520" y="350488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35"/>
            <p:cNvGrpSpPr/>
            <p:nvPr/>
          </p:nvGrpSpPr>
          <p:grpSpPr>
            <a:xfrm>
              <a:off x="46605600" y="34940520"/>
              <a:ext cx="432000" cy="432000"/>
              <a:chOff x="46605600" y="34940520"/>
              <a:chExt cx="432000" cy="43200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46713600" y="349405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46605600" y="350492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36"/>
            <p:cNvGrpSpPr/>
            <p:nvPr/>
          </p:nvGrpSpPr>
          <p:grpSpPr>
            <a:xfrm>
              <a:off x="3368520" y="4232160"/>
              <a:ext cx="432000" cy="432720"/>
              <a:chOff x="3368520" y="4232160"/>
              <a:chExt cx="432000" cy="43272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3368520" y="42321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3368520" y="42328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37"/>
            <p:cNvGrpSpPr/>
            <p:nvPr/>
          </p:nvGrpSpPr>
          <p:grpSpPr>
            <a:xfrm>
              <a:off x="46605600" y="4232160"/>
              <a:ext cx="432000" cy="432000"/>
              <a:chOff x="46605600" y="4232160"/>
              <a:chExt cx="432000" cy="43200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46713600" y="42321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46605600" y="42321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7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41452920" y="1203480"/>
            <a:ext cx="5584680" cy="1444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3"/>
          <p:cNvSpPr/>
          <p:nvPr/>
        </p:nvSpPr>
        <p:spPr>
          <a:xfrm>
            <a:off x="1224000" y="1292040"/>
            <a:ext cx="38457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89 × 841 mm </a:t>
            </a:r>
            <a:r>
              <a:rPr b="0" lang="ja-JP" sz="8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51414480" y="0"/>
            <a:ext cx="28085760" cy="33750360"/>
          </a:xfrm>
          <a:prstGeom prst="rect">
            <a:avLst/>
          </a:prstGeom>
          <a:ln w="0">
            <a:noFill/>
          </a:ln>
        </p:spPr>
      </p:pic>
      <p:grpSp>
        <p:nvGrpSpPr>
          <p:cNvPr id="99" name="グループ化 1"/>
          <p:cNvGrpSpPr/>
          <p:nvPr/>
        </p:nvGrpSpPr>
        <p:grpSpPr>
          <a:xfrm>
            <a:off x="3368520" y="4232160"/>
            <a:ext cx="43669080" cy="31140360"/>
            <a:chOff x="3368520" y="4232160"/>
            <a:chExt cx="43669080" cy="31140360"/>
          </a:xfrm>
        </p:grpSpPr>
        <p:grpSp>
          <p:nvGrpSpPr>
            <p:cNvPr id="100" name="グループ化 3"/>
            <p:cNvGrpSpPr/>
            <p:nvPr/>
          </p:nvGrpSpPr>
          <p:grpSpPr>
            <a:xfrm>
              <a:off x="3368520" y="34940520"/>
              <a:ext cx="432000" cy="431640"/>
              <a:chOff x="3368520" y="34940520"/>
              <a:chExt cx="43200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3368520" y="349405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3368520" y="350488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"/>
            <p:cNvGrpSpPr/>
            <p:nvPr/>
          </p:nvGrpSpPr>
          <p:grpSpPr>
            <a:xfrm>
              <a:off x="46605600" y="34940520"/>
              <a:ext cx="432000" cy="432000"/>
              <a:chOff x="46605600" y="34940520"/>
              <a:chExt cx="432000" cy="43200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46713600" y="349405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46605600" y="350492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5"/>
            <p:cNvGrpSpPr/>
            <p:nvPr/>
          </p:nvGrpSpPr>
          <p:grpSpPr>
            <a:xfrm>
              <a:off x="3368520" y="4232160"/>
              <a:ext cx="432000" cy="432720"/>
              <a:chOff x="3368520" y="4232160"/>
              <a:chExt cx="432000" cy="43272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3368520" y="42321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3368520" y="42328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6"/>
            <p:cNvGrpSpPr/>
            <p:nvPr/>
          </p:nvGrpSpPr>
          <p:grpSpPr>
            <a:xfrm>
              <a:off x="46605600" y="4232160"/>
              <a:ext cx="432000" cy="432000"/>
              <a:chOff x="46605600" y="4232160"/>
              <a:chExt cx="432000" cy="43200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46713600" y="42321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46605600" y="42321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360" y="1580040"/>
            <a:ext cx="45366120" cy="66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2520360" y="9267120"/>
            <a:ext cx="45366120" cy="229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1120" indent="-1851120">
              <a:spcBef>
                <a:spcPts val="4326"/>
              </a:spcBef>
              <a:buClr>
                <a:srgbClr val="000000"/>
              </a:buClr>
              <a:buFont typeface="Arial"/>
              <a:buChar char="•"/>
              <a:tabLst>
                <a:tab algn="l" pos="4937040"/>
                <a:tab algn="l" pos="9874080"/>
              </a:tabLst>
            </a:pPr>
            <a:r>
              <a:rPr b="0" lang="en-US" sz="17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  <a:p>
            <a:pPr lvl="1" marL="4011480" indent="-154296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937040"/>
                <a:tab algn="l" pos="9874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6172200" indent="-1233360"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98740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  <a:p>
            <a:pPr lvl="3" marL="8640720" indent="-123336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987408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11109240" indent="-1233360">
              <a:spcBef>
                <a:spcPts val="27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11109240" indent="-12333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11109240" indent="-12333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1"/>
          <p:cNvSpPr/>
          <p:nvPr/>
        </p:nvSpPr>
        <p:spPr>
          <a:xfrm>
            <a:off x="53517960" y="33904080"/>
            <a:ext cx="6480000" cy="719964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2"/>
          <p:cNvSpPr/>
          <p:nvPr/>
        </p:nvSpPr>
        <p:spPr>
          <a:xfrm>
            <a:off x="63453960" y="34264440"/>
            <a:ext cx="540072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3"/>
          <p:cNvSpPr/>
          <p:nvPr/>
        </p:nvSpPr>
        <p:spPr>
          <a:xfrm>
            <a:off x="72312120" y="3462336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4"/>
          <p:cNvSpPr/>
          <p:nvPr/>
        </p:nvSpPr>
        <p:spPr>
          <a:xfrm>
            <a:off x="80448120" y="3498372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3"/>
          <p:cNvGrpSpPr/>
          <p:nvPr/>
        </p:nvGrpSpPr>
        <p:grpSpPr>
          <a:xfrm>
            <a:off x="64739880" y="5054760"/>
            <a:ext cx="8928000" cy="19080000"/>
            <a:chOff x="64739880" y="5054760"/>
            <a:chExt cx="8928000" cy="19080000"/>
          </a:xfrm>
        </p:grpSpPr>
        <p:sp>
          <p:nvSpPr>
            <p:cNvPr id="155" name="Freeform 4"/>
            <p:cNvSpPr/>
            <p:nvPr/>
          </p:nvSpPr>
          <p:spPr>
            <a:xfrm>
              <a:off x="64739880" y="5054760"/>
              <a:ext cx="8928000" cy="19080000"/>
            </a:xfrm>
            <a:custGeom>
              <a:avLst/>
              <a:gdLst/>
              <a:ahLst/>
              <a:rect l="l" t="t" r="r" b="b"/>
              <a:pathLst>
                <a:path w="5620" h="12021">
                  <a:moveTo>
                    <a:pt x="4225" y="7485"/>
                  </a:moveTo>
                  <a:lnTo>
                    <a:pt x="4225" y="6011"/>
                  </a:lnTo>
                  <a:lnTo>
                    <a:pt x="4225" y="0"/>
                  </a:lnTo>
                  <a:lnTo>
                    <a:pt x="1393" y="0"/>
                  </a:lnTo>
                  <a:lnTo>
                    <a:pt x="1393" y="7485"/>
                  </a:lnTo>
                  <a:lnTo>
                    <a:pt x="0" y="7485"/>
                  </a:lnTo>
                  <a:lnTo>
                    <a:pt x="0" y="9103"/>
                  </a:lnTo>
                  <a:lnTo>
                    <a:pt x="1393" y="9103"/>
                  </a:lnTo>
                  <a:lnTo>
                    <a:pt x="1393" y="12021"/>
                  </a:lnTo>
                  <a:lnTo>
                    <a:pt x="4225" y="12021"/>
                  </a:lnTo>
                  <a:lnTo>
                    <a:pt x="4225" y="9103"/>
                  </a:lnTo>
                  <a:lnTo>
                    <a:pt x="5620" y="9103"/>
                  </a:lnTo>
                  <a:lnTo>
                    <a:pt x="5620" y="7485"/>
                  </a:lnTo>
                  <a:lnTo>
                    <a:pt x="4225" y="7485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65308320" y="17490600"/>
              <a:ext cx="1644120" cy="1539360"/>
            </a:xfrm>
            <a:custGeom>
              <a:avLst/>
              <a:gdLst/>
              <a:ahLst/>
              <a:rect l="l" t="t" r="r" b="b"/>
              <a:pathLst>
                <a:path w="518" h="485">
                  <a:moveTo>
                    <a:pt x="440" y="33"/>
                  </a:moveTo>
                  <a:cubicBezTo>
                    <a:pt x="438" y="38"/>
                    <a:pt x="434" y="41"/>
                    <a:pt x="429" y="43"/>
                  </a:cubicBezTo>
                  <a:cubicBezTo>
                    <a:pt x="396" y="120"/>
                    <a:pt x="365" y="176"/>
                    <a:pt x="317" y="242"/>
                  </a:cubicBezTo>
                  <a:cubicBezTo>
                    <a:pt x="376" y="290"/>
                    <a:pt x="464" y="369"/>
                    <a:pt x="518" y="426"/>
                  </a:cubicBezTo>
                  <a:cubicBezTo>
                    <a:pt x="451" y="485"/>
                    <a:pt x="451" y="485"/>
                    <a:pt x="451" y="485"/>
                  </a:cubicBezTo>
                  <a:cubicBezTo>
                    <a:pt x="404" y="429"/>
                    <a:pt x="319" y="344"/>
                    <a:pt x="268" y="301"/>
                  </a:cubicBezTo>
                  <a:cubicBezTo>
                    <a:pt x="212" y="365"/>
                    <a:pt x="134" y="438"/>
                    <a:pt x="56" y="485"/>
                  </a:cubicBezTo>
                  <a:cubicBezTo>
                    <a:pt x="44" y="468"/>
                    <a:pt x="17" y="441"/>
                    <a:pt x="0" y="427"/>
                  </a:cubicBezTo>
                  <a:cubicBezTo>
                    <a:pt x="149" y="346"/>
                    <a:pt x="271" y="202"/>
                    <a:pt x="325" y="77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8" y="5"/>
                    <a:pt x="368" y="5"/>
                    <a:pt x="368" y="5"/>
                  </a:cubicBezTo>
                  <a:cubicBezTo>
                    <a:pt x="381" y="0"/>
                    <a:pt x="381" y="0"/>
                    <a:pt x="381" y="0"/>
                  </a:cubicBezTo>
                  <a:lnTo>
                    <a:pt x="44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67022640" y="17363880"/>
              <a:ext cx="1466280" cy="1707840"/>
            </a:xfrm>
            <a:custGeom>
              <a:avLst/>
              <a:gdLst/>
              <a:ahLst/>
              <a:rect l="l" t="t" r="r" b="b"/>
              <a:pathLst>
                <a:path w="462" h="538">
                  <a:moveTo>
                    <a:pt x="462" y="111"/>
                  </a:moveTo>
                  <a:cubicBezTo>
                    <a:pt x="461" y="115"/>
                    <a:pt x="457" y="119"/>
                    <a:pt x="452" y="122"/>
                  </a:cubicBezTo>
                  <a:cubicBezTo>
                    <a:pt x="430" y="192"/>
                    <a:pt x="400" y="261"/>
                    <a:pt x="369" y="310"/>
                  </a:cubicBezTo>
                  <a:cubicBezTo>
                    <a:pt x="390" y="322"/>
                    <a:pt x="418" y="340"/>
                    <a:pt x="435" y="352"/>
                  </a:cubicBezTo>
                  <a:cubicBezTo>
                    <a:pt x="391" y="426"/>
                    <a:pt x="391" y="426"/>
                    <a:pt x="391" y="426"/>
                  </a:cubicBezTo>
                  <a:cubicBezTo>
                    <a:pt x="374" y="412"/>
                    <a:pt x="344" y="391"/>
                    <a:pt x="323" y="378"/>
                  </a:cubicBezTo>
                  <a:cubicBezTo>
                    <a:pt x="270" y="445"/>
                    <a:pt x="202" y="499"/>
                    <a:pt x="121" y="538"/>
                  </a:cubicBezTo>
                  <a:cubicBezTo>
                    <a:pt x="109" y="521"/>
                    <a:pt x="80" y="493"/>
                    <a:pt x="61" y="481"/>
                  </a:cubicBezTo>
                  <a:cubicBezTo>
                    <a:pt x="137" y="448"/>
                    <a:pt x="205" y="399"/>
                    <a:pt x="257" y="338"/>
                  </a:cubicBezTo>
                  <a:cubicBezTo>
                    <a:pt x="225" y="319"/>
                    <a:pt x="188" y="300"/>
                    <a:pt x="155" y="287"/>
                  </a:cubicBezTo>
                  <a:cubicBezTo>
                    <a:pt x="197" y="228"/>
                    <a:pt x="197" y="228"/>
                    <a:pt x="197" y="228"/>
                  </a:cubicBezTo>
                  <a:cubicBezTo>
                    <a:pt x="230" y="240"/>
                    <a:pt x="267" y="256"/>
                    <a:pt x="302" y="274"/>
                  </a:cubicBezTo>
                  <a:cubicBezTo>
                    <a:pt x="325" y="238"/>
                    <a:pt x="344" y="198"/>
                    <a:pt x="357" y="157"/>
                  </a:cubicBezTo>
                  <a:cubicBezTo>
                    <a:pt x="191" y="157"/>
                    <a:pt x="191" y="157"/>
                    <a:pt x="191" y="157"/>
                  </a:cubicBezTo>
                  <a:cubicBezTo>
                    <a:pt x="154" y="214"/>
                    <a:pt x="108" y="270"/>
                    <a:pt x="62" y="307"/>
                  </a:cubicBezTo>
                  <a:cubicBezTo>
                    <a:pt x="48" y="294"/>
                    <a:pt x="19" y="271"/>
                    <a:pt x="0" y="260"/>
                  </a:cubicBezTo>
                  <a:cubicBezTo>
                    <a:pt x="85" y="198"/>
                    <a:pt x="147" y="101"/>
                    <a:pt x="182" y="0"/>
                  </a:cubicBezTo>
                  <a:cubicBezTo>
                    <a:pt x="279" y="21"/>
                    <a:pt x="279" y="21"/>
                    <a:pt x="279" y="21"/>
                  </a:cubicBezTo>
                  <a:cubicBezTo>
                    <a:pt x="277" y="28"/>
                    <a:pt x="270" y="31"/>
                    <a:pt x="259" y="31"/>
                  </a:cubicBezTo>
                  <a:cubicBezTo>
                    <a:pt x="253" y="47"/>
                    <a:pt x="242" y="69"/>
                    <a:pt x="233" y="87"/>
                  </a:cubicBezTo>
                  <a:cubicBezTo>
                    <a:pt x="393" y="87"/>
                    <a:pt x="393" y="87"/>
                    <a:pt x="393" y="87"/>
                  </a:cubicBezTo>
                  <a:cubicBezTo>
                    <a:pt x="406" y="84"/>
                    <a:pt x="406" y="84"/>
                    <a:pt x="406" y="84"/>
                  </a:cubicBezTo>
                  <a:lnTo>
                    <a:pt x="46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68704920" y="17506440"/>
              <a:ext cx="1578960" cy="1533240"/>
            </a:xfrm>
            <a:custGeom>
              <a:avLst/>
              <a:gdLst/>
              <a:ahLst/>
              <a:rect l="l" t="t" r="r" b="b"/>
              <a:pathLst>
                <a:path w="497" h="483">
                  <a:moveTo>
                    <a:pt x="36" y="0"/>
                  </a:moveTo>
                  <a:cubicBezTo>
                    <a:pt x="96" y="18"/>
                    <a:pt x="168" y="50"/>
                    <a:pt x="212" y="79"/>
                  </a:cubicBezTo>
                  <a:cubicBezTo>
                    <a:pt x="172" y="147"/>
                    <a:pt x="172" y="147"/>
                    <a:pt x="172" y="147"/>
                  </a:cubicBezTo>
                  <a:cubicBezTo>
                    <a:pt x="129" y="118"/>
                    <a:pt x="58" y="85"/>
                    <a:pt x="0" y="65"/>
                  </a:cubicBezTo>
                  <a:lnTo>
                    <a:pt x="36" y="0"/>
                  </a:lnTo>
                  <a:close/>
                  <a:moveTo>
                    <a:pt x="15" y="406"/>
                  </a:moveTo>
                  <a:cubicBezTo>
                    <a:pt x="218" y="343"/>
                    <a:pt x="357" y="226"/>
                    <a:pt x="426" y="61"/>
                  </a:cubicBezTo>
                  <a:cubicBezTo>
                    <a:pt x="449" y="79"/>
                    <a:pt x="474" y="93"/>
                    <a:pt x="497" y="105"/>
                  </a:cubicBezTo>
                  <a:cubicBezTo>
                    <a:pt x="422" y="269"/>
                    <a:pt x="279" y="397"/>
                    <a:pt x="80" y="467"/>
                  </a:cubicBezTo>
                  <a:cubicBezTo>
                    <a:pt x="79" y="474"/>
                    <a:pt x="75" y="480"/>
                    <a:pt x="70" y="483"/>
                  </a:cubicBezTo>
                  <a:lnTo>
                    <a:pt x="15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70692480" y="17325720"/>
              <a:ext cx="1200960" cy="172692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268" y="355"/>
                  </a:moveTo>
                  <a:cubicBezTo>
                    <a:pt x="219" y="327"/>
                    <a:pt x="140" y="289"/>
                    <a:pt x="81" y="265"/>
                  </a:cubicBezTo>
                  <a:cubicBezTo>
                    <a:pt x="81" y="544"/>
                    <a:pt x="81" y="544"/>
                    <a:pt x="81" y="544"/>
                  </a:cubicBezTo>
                  <a:cubicBezTo>
                    <a:pt x="0" y="544"/>
                    <a:pt x="0" y="544"/>
                    <a:pt x="0" y="5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9"/>
                    <a:pt x="93" y="35"/>
                    <a:pt x="81" y="37"/>
                  </a:cubicBezTo>
                  <a:cubicBezTo>
                    <a:pt x="81" y="208"/>
                    <a:pt x="81" y="208"/>
                    <a:pt x="81" y="208"/>
                  </a:cubicBezTo>
                  <a:cubicBezTo>
                    <a:pt x="96" y="187"/>
                    <a:pt x="96" y="187"/>
                    <a:pt x="96" y="187"/>
                  </a:cubicBezTo>
                  <a:cubicBezTo>
                    <a:pt x="162" y="211"/>
                    <a:pt x="252" y="250"/>
                    <a:pt x="311" y="282"/>
                  </a:cubicBezTo>
                  <a:lnTo>
                    <a:pt x="268" y="355"/>
                  </a:lnTo>
                  <a:close/>
                  <a:moveTo>
                    <a:pt x="220" y="54"/>
                  </a:moveTo>
                  <a:cubicBezTo>
                    <a:pt x="243" y="73"/>
                    <a:pt x="276" y="108"/>
                    <a:pt x="295" y="135"/>
                  </a:cubicBezTo>
                  <a:cubicBezTo>
                    <a:pt x="261" y="165"/>
                    <a:pt x="261" y="165"/>
                    <a:pt x="261" y="165"/>
                  </a:cubicBezTo>
                  <a:cubicBezTo>
                    <a:pt x="245" y="142"/>
                    <a:pt x="211" y="102"/>
                    <a:pt x="187" y="82"/>
                  </a:cubicBezTo>
                  <a:lnTo>
                    <a:pt x="220" y="54"/>
                  </a:lnTo>
                  <a:close/>
                  <a:moveTo>
                    <a:pt x="303" y="0"/>
                  </a:moveTo>
                  <a:cubicBezTo>
                    <a:pt x="328" y="22"/>
                    <a:pt x="361" y="55"/>
                    <a:pt x="378" y="80"/>
                  </a:cubicBezTo>
                  <a:cubicBezTo>
                    <a:pt x="343" y="109"/>
                    <a:pt x="343" y="109"/>
                    <a:pt x="343" y="109"/>
                  </a:cubicBezTo>
                  <a:cubicBezTo>
                    <a:pt x="328" y="87"/>
                    <a:pt x="294" y="48"/>
                    <a:pt x="270" y="28"/>
                  </a:cubicBez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71922240" y="17478000"/>
              <a:ext cx="1180080" cy="1466280"/>
            </a:xfrm>
            <a:custGeom>
              <a:avLst/>
              <a:gdLst/>
              <a:ahLst/>
              <a:rect l="l" t="t" r="r" b="b"/>
              <a:pathLst>
                <a:path w="372" h="462">
                  <a:moveTo>
                    <a:pt x="372" y="462"/>
                  </a:moveTo>
                  <a:cubicBezTo>
                    <a:pt x="279" y="462"/>
                    <a:pt x="279" y="462"/>
                    <a:pt x="279" y="462"/>
                  </a:cubicBezTo>
                  <a:cubicBezTo>
                    <a:pt x="246" y="340"/>
                    <a:pt x="246" y="340"/>
                    <a:pt x="246" y="340"/>
                  </a:cubicBezTo>
                  <a:cubicBezTo>
                    <a:pt x="122" y="340"/>
                    <a:pt x="122" y="340"/>
                    <a:pt x="122" y="340"/>
                  </a:cubicBezTo>
                  <a:cubicBezTo>
                    <a:pt x="90" y="462"/>
                    <a:pt x="90" y="462"/>
                    <a:pt x="90" y="462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243" y="0"/>
                    <a:pt x="243" y="0"/>
                    <a:pt x="243" y="0"/>
                  </a:cubicBezTo>
                  <a:lnTo>
                    <a:pt x="372" y="462"/>
                  </a:lnTo>
                  <a:close/>
                  <a:moveTo>
                    <a:pt x="233" y="273"/>
                  </a:moveTo>
                  <a:cubicBezTo>
                    <a:pt x="205" y="168"/>
                    <a:pt x="205" y="168"/>
                    <a:pt x="205" y="168"/>
                  </a:cubicBezTo>
                  <a:cubicBezTo>
                    <a:pt x="198" y="139"/>
                    <a:pt x="190" y="102"/>
                    <a:pt x="184" y="73"/>
                  </a:cubicBezTo>
                  <a:cubicBezTo>
                    <a:pt x="183" y="73"/>
                    <a:pt x="183" y="73"/>
                    <a:pt x="183" y="73"/>
                  </a:cubicBezTo>
                  <a:cubicBezTo>
                    <a:pt x="177" y="102"/>
                    <a:pt x="169" y="140"/>
                    <a:pt x="162" y="167"/>
                  </a:cubicBezTo>
                  <a:cubicBezTo>
                    <a:pt x="135" y="273"/>
                    <a:pt x="135" y="273"/>
                    <a:pt x="135" y="273"/>
                  </a:cubicBezTo>
                  <a:lnTo>
                    <a:pt x="23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07:25:23Z</dcterms:created>
  <dc:creator>KAO</dc:creator>
  <dc:description/>
  <dc:language>en-US</dc:language>
  <cp:lastModifiedBy>CR0096</cp:lastModifiedBy>
  <dcterms:modified xsi:type="dcterms:W3CDTF">2025-07-28T00:21:48Z</dcterms:modified>
  <cp:revision>13</cp:revision>
  <dc:subject/>
  <dc:title>PowerPoint プレゼンテーション</dc:title>
</cp:coreProperties>
</file>