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0799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647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000" y="5799240"/>
            <a:ext cx="647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028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60000" y="579924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80280" y="579924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550960" y="252720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41920" y="252720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60000" y="579924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550960" y="579924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741920" y="5799240"/>
            <a:ext cx="208620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60000" y="-514080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50"/>
              </a:spcBef>
              <a:buNone/>
              <a:tabLst>
                <a:tab algn="l" pos="0"/>
              </a:tabLst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647964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316188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80280" y="2527200"/>
            <a:ext cx="316188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60000" y="-618912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50"/>
              </a:spcBef>
              <a:tabLst>
                <a:tab algn="l" pos="0"/>
              </a:tabLst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80280" y="2527200"/>
            <a:ext cx="316188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579924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3161880" cy="62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8028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80280" y="579924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-9467280"/>
            <a:ext cx="6479640" cy="216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0280" y="2527200"/>
            <a:ext cx="31618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000" y="5799240"/>
            <a:ext cx="647964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9950"/>
              </a:spcBef>
              <a:buNone/>
            </a:pPr>
            <a:endParaRPr b="0" lang="en-US" sz="39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76"/>
          <p:cNvGrpSpPr/>
          <p:nvPr/>
        </p:nvGrpSpPr>
        <p:grpSpPr>
          <a:xfrm>
            <a:off x="477720" y="273960"/>
            <a:ext cx="6351840" cy="292680"/>
            <a:chOff x="477720" y="273960"/>
            <a:chExt cx="6351840" cy="292680"/>
          </a:xfrm>
        </p:grpSpPr>
        <p:sp>
          <p:nvSpPr>
            <p:cNvPr id="1" name="Rectangle 23"/>
            <p:cNvSpPr/>
            <p:nvPr/>
          </p:nvSpPr>
          <p:spPr>
            <a:xfrm>
              <a:off x="477720" y="273960"/>
              <a:ext cx="62377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880" rIns="47880" tIns="23760" bIns="23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1484280"/>
                  <a:tab algn="r" pos="2968560"/>
                  <a:tab algn="l" pos="3009960"/>
                  <a:tab algn="l" pos="3511440"/>
                  <a:tab algn="l" pos="4013280"/>
                  <a:tab algn="l" pos="4514760"/>
                  <a:tab algn="l" pos="5016600"/>
                  <a:tab algn="l" pos="5518080"/>
                  <a:tab algn="l" pos="6019920"/>
                  <a:tab algn="l" pos="6521400"/>
                  <a:tab algn="l" pos="7023240"/>
                  <a:tab algn="l" pos="7524720"/>
                  <a:tab algn="l" pos="8026560"/>
                  <a:tab algn="l" pos="8528040"/>
                  <a:tab algn="l" pos="9029880"/>
                  <a:tab algn="l" pos="9531360"/>
                  <a:tab algn="l" pos="10032840"/>
                  <a:tab algn="l" pos="1053468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POP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：スイング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POP_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丸型・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M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0 × 197 mm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楕円 75"/>
            <p:cNvSpPr/>
            <p:nvPr/>
          </p:nvSpPr>
          <p:spPr>
            <a:xfrm>
              <a:off x="6600960" y="338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521000"/>
                  <a:tab algn="l" pos="3041640"/>
                  <a:tab algn="l" pos="4562640"/>
                  <a:tab algn="l" pos="6083280"/>
                  <a:tab algn="l" pos="7604280"/>
                  <a:tab algn="l" pos="9124920"/>
                  <a:tab algn="l" pos="106459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図 78" descr=""/>
          <p:cNvPicPr/>
          <p:nvPr/>
        </p:nvPicPr>
        <p:blipFill>
          <a:blip r:embed="rId2"/>
          <a:stretch/>
        </p:blipFill>
        <p:spPr>
          <a:xfrm>
            <a:off x="611280" y="687240"/>
            <a:ext cx="6218280" cy="2811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28"/>
          <p:cNvGrpSpPr/>
          <p:nvPr/>
        </p:nvGrpSpPr>
        <p:grpSpPr>
          <a:xfrm>
            <a:off x="1871640" y="1746360"/>
            <a:ext cx="3456000" cy="7307280"/>
            <a:chOff x="1871640" y="1746360"/>
            <a:chExt cx="3456000" cy="7307280"/>
          </a:xfrm>
        </p:grpSpPr>
        <p:sp>
          <p:nvSpPr>
            <p:cNvPr id="5" name="Freeform 73"/>
            <p:cNvSpPr/>
            <p:nvPr/>
          </p:nvSpPr>
          <p:spPr>
            <a:xfrm>
              <a:off x="1979280" y="1856160"/>
              <a:ext cx="3240360" cy="7089480"/>
            </a:xfrm>
            <a:custGeom>
              <a:avLst/>
              <a:gdLst/>
              <a:ahLst/>
              <a:rect l="l" t="t" r="r" b="b"/>
              <a:pathLst>
                <a:path w="1021" h="2234">
                  <a:moveTo>
                    <a:pt x="335" y="0"/>
                  </a:moveTo>
                  <a:cubicBezTo>
                    <a:pt x="335" y="136"/>
                    <a:pt x="335" y="136"/>
                    <a:pt x="335" y="136"/>
                  </a:cubicBezTo>
                  <a:cubicBezTo>
                    <a:pt x="425" y="136"/>
                    <a:pt x="425" y="136"/>
                    <a:pt x="425" y="136"/>
                  </a:cubicBezTo>
                  <a:cubicBezTo>
                    <a:pt x="438" y="136"/>
                    <a:pt x="448" y="146"/>
                    <a:pt x="448" y="159"/>
                  </a:cubicBezTo>
                  <a:cubicBezTo>
                    <a:pt x="448" y="1197"/>
                    <a:pt x="448" y="1197"/>
                    <a:pt x="448" y="1197"/>
                  </a:cubicBezTo>
                  <a:cubicBezTo>
                    <a:pt x="448" y="1207"/>
                    <a:pt x="441" y="1216"/>
                    <a:pt x="431" y="1219"/>
                  </a:cubicBezTo>
                  <a:cubicBezTo>
                    <a:pt x="182" y="1259"/>
                    <a:pt x="1" y="1471"/>
                    <a:pt x="0" y="1723"/>
                  </a:cubicBezTo>
                  <a:cubicBezTo>
                    <a:pt x="1" y="2006"/>
                    <a:pt x="228" y="2233"/>
                    <a:pt x="510" y="2234"/>
                  </a:cubicBezTo>
                  <a:cubicBezTo>
                    <a:pt x="793" y="2233"/>
                    <a:pt x="1020" y="2006"/>
                    <a:pt x="1021" y="1723"/>
                  </a:cubicBezTo>
                  <a:cubicBezTo>
                    <a:pt x="1020" y="1471"/>
                    <a:pt x="838" y="1259"/>
                    <a:pt x="590" y="1219"/>
                  </a:cubicBezTo>
                  <a:cubicBezTo>
                    <a:pt x="590" y="1219"/>
                    <a:pt x="590" y="1219"/>
                    <a:pt x="590" y="1219"/>
                  </a:cubicBezTo>
                  <a:cubicBezTo>
                    <a:pt x="580" y="1216"/>
                    <a:pt x="573" y="1207"/>
                    <a:pt x="573" y="1197"/>
                  </a:cubicBezTo>
                  <a:cubicBezTo>
                    <a:pt x="573" y="159"/>
                    <a:pt x="573" y="159"/>
                    <a:pt x="573" y="159"/>
                  </a:cubicBezTo>
                  <a:cubicBezTo>
                    <a:pt x="573" y="146"/>
                    <a:pt x="583" y="136"/>
                    <a:pt x="595" y="136"/>
                  </a:cubicBezTo>
                  <a:cubicBezTo>
                    <a:pt x="686" y="136"/>
                    <a:pt x="686" y="136"/>
                    <a:pt x="686" y="136"/>
                  </a:cubicBezTo>
                  <a:cubicBezTo>
                    <a:pt x="686" y="0"/>
                    <a:pt x="686" y="0"/>
                    <a:pt x="686" y="0"/>
                  </a:cubicBezTo>
                  <a:lnTo>
                    <a:pt x="335" y="0"/>
                  </a:lnTo>
                  <a:close/>
                </a:path>
              </a:pathLst>
            </a:custGeom>
            <a:noFill/>
            <a:ln w="3240">
              <a:solidFill>
                <a:srgbClr val="ff3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74"/>
            <p:cNvSpPr/>
            <p:nvPr/>
          </p:nvSpPr>
          <p:spPr>
            <a:xfrm>
              <a:off x="2087280" y="2395440"/>
              <a:ext cx="3024360" cy="6442200"/>
            </a:xfrm>
            <a:custGeom>
              <a:avLst/>
              <a:gdLst/>
              <a:ahLst/>
              <a:rect l="l" t="t" r="r" b="b"/>
              <a:pathLst>
                <a:path w="953" h="2030">
                  <a:moveTo>
                    <a:pt x="476" y="2030"/>
                  </a:moveTo>
                  <a:cubicBezTo>
                    <a:pt x="349" y="2029"/>
                    <a:pt x="229" y="1980"/>
                    <a:pt x="140" y="1890"/>
                  </a:cubicBezTo>
                  <a:cubicBezTo>
                    <a:pt x="50" y="1800"/>
                    <a:pt x="0" y="1681"/>
                    <a:pt x="0" y="1553"/>
                  </a:cubicBezTo>
                  <a:cubicBezTo>
                    <a:pt x="1" y="1318"/>
                    <a:pt x="170" y="1120"/>
                    <a:pt x="402" y="1082"/>
                  </a:cubicBezTo>
                  <a:cubicBezTo>
                    <a:pt x="404" y="1082"/>
                    <a:pt x="404" y="1082"/>
                    <a:pt x="404" y="1082"/>
                  </a:cubicBezTo>
                  <a:cubicBezTo>
                    <a:pt x="405" y="1082"/>
                    <a:pt x="405" y="1082"/>
                    <a:pt x="405" y="1082"/>
                  </a:cubicBezTo>
                  <a:cubicBezTo>
                    <a:pt x="430" y="1075"/>
                    <a:pt x="448" y="1053"/>
                    <a:pt x="448" y="1027"/>
                  </a:cubicBezTo>
                  <a:cubicBezTo>
                    <a:pt x="448" y="0"/>
                    <a:pt x="448" y="0"/>
                    <a:pt x="448" y="0"/>
                  </a:cubicBezTo>
                  <a:cubicBezTo>
                    <a:pt x="505" y="0"/>
                    <a:pt x="505" y="0"/>
                    <a:pt x="505" y="0"/>
                  </a:cubicBezTo>
                  <a:cubicBezTo>
                    <a:pt x="505" y="1027"/>
                    <a:pt x="505" y="1027"/>
                    <a:pt x="505" y="1027"/>
                  </a:cubicBezTo>
                  <a:cubicBezTo>
                    <a:pt x="505" y="1053"/>
                    <a:pt x="522" y="1075"/>
                    <a:pt x="548" y="1082"/>
                  </a:cubicBezTo>
                  <a:cubicBezTo>
                    <a:pt x="548" y="1082"/>
                    <a:pt x="548" y="1082"/>
                    <a:pt x="548" y="1082"/>
                  </a:cubicBezTo>
                  <a:cubicBezTo>
                    <a:pt x="550" y="1082"/>
                    <a:pt x="550" y="1082"/>
                    <a:pt x="550" y="1082"/>
                  </a:cubicBezTo>
                  <a:cubicBezTo>
                    <a:pt x="551" y="1082"/>
                    <a:pt x="551" y="1082"/>
                    <a:pt x="551" y="1082"/>
                  </a:cubicBezTo>
                  <a:cubicBezTo>
                    <a:pt x="783" y="1120"/>
                    <a:pt x="952" y="1318"/>
                    <a:pt x="953" y="1553"/>
                  </a:cubicBezTo>
                  <a:cubicBezTo>
                    <a:pt x="952" y="1681"/>
                    <a:pt x="903" y="1800"/>
                    <a:pt x="813" y="1890"/>
                  </a:cubicBezTo>
                  <a:cubicBezTo>
                    <a:pt x="724" y="1980"/>
                    <a:pt x="604" y="2029"/>
                    <a:pt x="476" y="2030"/>
                  </a:cubicBezTo>
                  <a:close/>
                </a:path>
              </a:pathLst>
            </a:custGeom>
            <a:noFill/>
            <a:ln w="3240">
              <a:solidFill>
                <a:srgbClr val="9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Rectangle 75"/>
            <p:cNvSpPr/>
            <p:nvPr/>
          </p:nvSpPr>
          <p:spPr>
            <a:xfrm>
              <a:off x="1871640" y="1747800"/>
              <a:ext cx="3456000" cy="73058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" name="グループ化 19"/>
            <p:cNvGrpSpPr/>
            <p:nvPr/>
          </p:nvGrpSpPr>
          <p:grpSpPr>
            <a:xfrm>
              <a:off x="2933640" y="1746360"/>
              <a:ext cx="1332000" cy="540720"/>
              <a:chOff x="2933640" y="1746360"/>
              <a:chExt cx="1332000" cy="540720"/>
            </a:xfrm>
          </p:grpSpPr>
          <p:grpSp>
            <p:nvGrpSpPr>
              <p:cNvPr id="9" name="グループ化 1"/>
              <p:cNvGrpSpPr/>
              <p:nvPr/>
            </p:nvGrpSpPr>
            <p:grpSpPr>
              <a:xfrm>
                <a:off x="2933640" y="1746360"/>
                <a:ext cx="1332000" cy="540720"/>
                <a:chOff x="2933640" y="1746360"/>
                <a:chExt cx="1332000" cy="540720"/>
              </a:xfrm>
            </p:grpSpPr>
            <p:sp>
              <p:nvSpPr>
                <p:cNvPr id="10" name="Line 27"/>
                <p:cNvSpPr/>
                <p:nvPr/>
              </p:nvSpPr>
              <p:spPr>
                <a:xfrm>
                  <a:off x="3993840" y="2182680"/>
                  <a:ext cx="271800" cy="104400"/>
                </a:xfrm>
                <a:prstGeom prst="line">
                  <a:avLst/>
                </a:prstGeom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" name="Line 28"/>
                <p:cNvSpPr/>
                <p:nvPr/>
              </p:nvSpPr>
              <p:spPr>
                <a:xfrm>
                  <a:off x="2933640" y="1746360"/>
                  <a:ext cx="259560" cy="104400"/>
                </a:xfrm>
                <a:prstGeom prst="line">
                  <a:avLst/>
                </a:prstGeom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Line 29"/>
                <p:cNvSpPr/>
                <p:nvPr/>
              </p:nvSpPr>
              <p:spPr>
                <a:xfrm flipH="1">
                  <a:off x="2933640" y="2182680"/>
                  <a:ext cx="270000" cy="104400"/>
                </a:xfrm>
                <a:prstGeom prst="line">
                  <a:avLst/>
                </a:prstGeom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Line 30"/>
                <p:cNvSpPr/>
                <p:nvPr/>
              </p:nvSpPr>
              <p:spPr>
                <a:xfrm flipH="1">
                  <a:off x="3993480" y="1746360"/>
                  <a:ext cx="271800" cy="104400"/>
                </a:xfrm>
                <a:prstGeom prst="line">
                  <a:avLst/>
                </a:prstGeom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" name="Rectangle 31"/>
                <p:cNvSpPr/>
                <p:nvPr/>
              </p:nvSpPr>
              <p:spPr>
                <a:xfrm>
                  <a:off x="2933640" y="1746360"/>
                  <a:ext cx="1332000" cy="540720"/>
                </a:xfrm>
                <a:prstGeom prst="rect">
                  <a:avLst/>
                </a:prstGeom>
                <a:noFill/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" name="Rectangle 23"/>
              <p:cNvSpPr/>
              <p:nvPr/>
            </p:nvSpPr>
            <p:spPr>
              <a:xfrm>
                <a:off x="3011400" y="1840680"/>
                <a:ext cx="1176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880" rIns="47880" tIns="23760" bIns="2376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1484280"/>
                    <a:tab algn="r" pos="2968560"/>
                    <a:tab algn="l" pos="3009960"/>
                    <a:tab algn="l" pos="3511440"/>
                    <a:tab algn="l" pos="4013280"/>
                    <a:tab algn="l" pos="4514760"/>
                    <a:tab algn="l" pos="5016600"/>
                    <a:tab algn="l" pos="5518080"/>
                    <a:tab algn="l" pos="6019920"/>
                    <a:tab algn="l" pos="6521400"/>
                    <a:tab algn="l" pos="7023240"/>
                    <a:tab algn="l" pos="7524720"/>
                    <a:tab algn="l" pos="8026560"/>
                    <a:tab algn="l" pos="8528040"/>
                    <a:tab algn="l" pos="9029880"/>
                    <a:tab algn="l" pos="9531360"/>
                    <a:tab algn="l" pos="10032840"/>
                    <a:tab algn="l" pos="10534680"/>
                  </a:tabLst>
                </a:pPr>
                <a:r>
                  <a:rPr b="0" lang="ja-JP" sz="1000" spc="-1" strike="noStrike">
                    <a:solidFill>
                      <a:srgbClr val="00b0f0"/>
                    </a:solidFill>
                    <a:latin typeface="ＭＳ ゴシック"/>
                    <a:ea typeface="ＭＳ ゴシック"/>
                  </a:rPr>
                  <a:t>貼り付け部分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1484280"/>
                    <a:tab algn="r" pos="2968560"/>
                    <a:tab algn="l" pos="3009960"/>
                    <a:tab algn="l" pos="3511440"/>
                    <a:tab algn="l" pos="4013280"/>
                    <a:tab algn="l" pos="4514760"/>
                    <a:tab algn="l" pos="5016600"/>
                    <a:tab algn="l" pos="5518080"/>
                    <a:tab algn="l" pos="6019920"/>
                    <a:tab algn="l" pos="6521400"/>
                    <a:tab algn="l" pos="7023240"/>
                    <a:tab algn="l" pos="7524720"/>
                    <a:tab algn="l" pos="8026560"/>
                    <a:tab algn="l" pos="8528040"/>
                    <a:tab algn="l" pos="9029880"/>
                    <a:tab algn="l" pos="9531360"/>
                    <a:tab algn="l" pos="10032840"/>
                    <a:tab algn="l" pos="10534680"/>
                  </a:tabLst>
                </a:pPr>
                <a:r>
                  <a:rPr b="0" lang="zh-TW" sz="1000" spc="-1" strike="noStrike">
                    <a:solidFill>
                      <a:srgbClr val="00b0f0"/>
                    </a:solidFill>
                    <a:latin typeface="ＭＳ ゴシック"/>
                    <a:ea typeface="ＭＳ ゴシック"/>
                  </a:rPr>
                  <a:t>（印刷不可範囲）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" name="グループ化 30"/>
          <p:cNvGrpSpPr/>
          <p:nvPr/>
        </p:nvGrpSpPr>
        <p:grpSpPr>
          <a:xfrm>
            <a:off x="1546200" y="1409760"/>
            <a:ext cx="4106880" cy="7967160"/>
            <a:chOff x="1546200" y="1409760"/>
            <a:chExt cx="4106880" cy="7967160"/>
          </a:xfrm>
        </p:grpSpPr>
        <p:grpSp>
          <p:nvGrpSpPr>
            <p:cNvPr id="17" name="グループ化 4"/>
            <p:cNvGrpSpPr/>
            <p:nvPr/>
          </p:nvGrpSpPr>
          <p:grpSpPr>
            <a:xfrm>
              <a:off x="1546920" y="1409760"/>
              <a:ext cx="3668040" cy="7535880"/>
              <a:chOff x="1546920" y="1409760"/>
              <a:chExt cx="3668040" cy="7535880"/>
            </a:xfrm>
          </p:grpSpPr>
          <p:cxnSp>
            <p:nvCxnSpPr>
              <p:cNvPr id="18" name="直線矢印コネクタ 57"/>
              <p:cNvCxnSpPr/>
              <p:nvPr/>
            </p:nvCxnSpPr>
            <p:spPr>
              <a:xfrm>
                <a:off x="3400200" y="1580760"/>
                <a:ext cx="39600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sp>
            <p:nvSpPr>
              <p:cNvPr id="19" name="テキスト ボックス 207"/>
              <p:cNvSpPr/>
              <p:nvPr/>
            </p:nvSpPr>
            <p:spPr>
              <a:xfrm>
                <a:off x="2416320" y="1416240"/>
                <a:ext cx="546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21000"/>
                    <a:tab algn="l" pos="3041640"/>
                    <a:tab algn="l" pos="4562640"/>
                    <a:tab algn="l" pos="6083280"/>
                    <a:tab algn="l" pos="7604280"/>
                    <a:tab algn="l" pos="9124920"/>
                    <a:tab algn="l" pos="106459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39.5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" name="直線矢印コネクタ 61"/>
              <p:cNvCxnSpPr/>
              <p:nvPr/>
            </p:nvCxnSpPr>
            <p:spPr>
              <a:xfrm flipV="1">
                <a:off x="1710720" y="1853640"/>
                <a:ext cx="1080" cy="38520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cxnSp>
            <p:nvCxnSpPr>
              <p:cNvPr id="21" name="直線矢印コネクタ 63"/>
              <p:cNvCxnSpPr/>
              <p:nvPr/>
            </p:nvCxnSpPr>
            <p:spPr>
              <a:xfrm flipV="1">
                <a:off x="1710720" y="5705280"/>
                <a:ext cx="1080" cy="32407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sp>
            <p:nvSpPr>
              <p:cNvPr id="22" name="テキスト ボックス 207"/>
              <p:cNvSpPr/>
              <p:nvPr/>
            </p:nvSpPr>
            <p:spPr>
              <a:xfrm rot="16200000">
                <a:off x="1492200" y="3549240"/>
                <a:ext cx="56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21000"/>
                    <a:tab algn="l" pos="3041640"/>
                    <a:tab algn="l" pos="4562640"/>
                    <a:tab algn="l" pos="6083280"/>
                    <a:tab algn="l" pos="7604280"/>
                    <a:tab algn="l" pos="9124920"/>
                    <a:tab algn="l" pos="106459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107mm           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3" name="直線矢印コネクタ 65"/>
              <p:cNvCxnSpPr/>
              <p:nvPr/>
            </p:nvCxnSpPr>
            <p:spPr>
              <a:xfrm>
                <a:off x="3793680" y="1580760"/>
                <a:ext cx="142164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cxnSp>
            <p:nvCxnSpPr>
              <p:cNvPr id="24" name="直線矢印コネクタ 66"/>
              <p:cNvCxnSpPr/>
              <p:nvPr/>
            </p:nvCxnSpPr>
            <p:spPr>
              <a:xfrm>
                <a:off x="1978920" y="1580760"/>
                <a:ext cx="142164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</p:cxnSp>
          <p:sp>
            <p:nvSpPr>
              <p:cNvPr id="25" name="Line 137"/>
              <p:cNvSpPr/>
              <p:nvPr/>
            </p:nvSpPr>
            <p:spPr>
              <a:xfrm>
                <a:off x="3399840" y="1418400"/>
                <a:ext cx="0" cy="304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Line 137"/>
              <p:cNvSpPr/>
              <p:nvPr/>
            </p:nvSpPr>
            <p:spPr>
              <a:xfrm>
                <a:off x="3793680" y="1418400"/>
                <a:ext cx="0" cy="304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Line 137"/>
              <p:cNvSpPr/>
              <p:nvPr/>
            </p:nvSpPr>
            <p:spPr>
              <a:xfrm>
                <a:off x="1546920" y="570492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テキスト ボックス 207"/>
              <p:cNvSpPr/>
              <p:nvPr/>
            </p:nvSpPr>
            <p:spPr>
              <a:xfrm>
                <a:off x="3375000" y="1409760"/>
                <a:ext cx="42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21000"/>
                    <a:tab algn="l" pos="3041640"/>
                    <a:tab algn="l" pos="4562640"/>
                    <a:tab algn="l" pos="6083280"/>
                    <a:tab algn="l" pos="7604280"/>
                    <a:tab algn="l" pos="9124920"/>
                    <a:tab algn="l" pos="106459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11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テキスト ボックス 207"/>
              <p:cNvSpPr/>
              <p:nvPr/>
            </p:nvSpPr>
            <p:spPr>
              <a:xfrm>
                <a:off x="4231440" y="1418400"/>
                <a:ext cx="546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21000"/>
                    <a:tab algn="l" pos="3041640"/>
                    <a:tab algn="l" pos="4562640"/>
                    <a:tab algn="l" pos="6083280"/>
                    <a:tab algn="l" pos="7604280"/>
                    <a:tab algn="l" pos="9124920"/>
                    <a:tab algn="l" pos="106459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39.5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テキスト ボックス 207"/>
              <p:cNvSpPr/>
              <p:nvPr/>
            </p:nvSpPr>
            <p:spPr>
              <a:xfrm rot="16200000">
                <a:off x="1492200" y="7095240"/>
                <a:ext cx="56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21000"/>
                    <a:tab algn="l" pos="3041640"/>
                    <a:tab algn="l" pos="4562640"/>
                    <a:tab algn="l" pos="6083280"/>
                    <a:tab algn="l" pos="7604280"/>
                    <a:tab algn="l" pos="9124920"/>
                    <a:tab algn="l" pos="106459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90mm           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グループ化 29"/>
            <p:cNvGrpSpPr/>
            <p:nvPr/>
          </p:nvGrpSpPr>
          <p:grpSpPr>
            <a:xfrm>
              <a:off x="1546200" y="1418400"/>
              <a:ext cx="4106880" cy="7958520"/>
              <a:chOff x="1546200" y="1418400"/>
              <a:chExt cx="4106880" cy="7958520"/>
            </a:xfrm>
          </p:grpSpPr>
          <p:grpSp>
            <p:nvGrpSpPr>
              <p:cNvPr id="32" name="グループ化 1"/>
              <p:cNvGrpSpPr/>
              <p:nvPr/>
            </p:nvGrpSpPr>
            <p:grpSpPr>
              <a:xfrm>
                <a:off x="1546200" y="1424880"/>
                <a:ext cx="431640" cy="431640"/>
                <a:chOff x="1546200" y="1424880"/>
                <a:chExt cx="431640" cy="431640"/>
              </a:xfrm>
            </p:grpSpPr>
            <p:sp>
              <p:nvSpPr>
                <p:cNvPr id="33" name="フリーフォーム 43"/>
                <p:cNvSpPr/>
                <p:nvPr/>
              </p:nvSpPr>
              <p:spPr>
                <a:xfrm>
                  <a:off x="1546200" y="142488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フリーフォーム 44"/>
                <p:cNvSpPr/>
                <p:nvPr/>
              </p:nvSpPr>
              <p:spPr>
                <a:xfrm>
                  <a:off x="1546200" y="1424880"/>
                  <a:ext cx="32400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" name="グループ化 20"/>
              <p:cNvGrpSpPr/>
              <p:nvPr/>
            </p:nvGrpSpPr>
            <p:grpSpPr>
              <a:xfrm>
                <a:off x="5217840" y="1423440"/>
                <a:ext cx="431640" cy="431640"/>
                <a:chOff x="5217840" y="1423440"/>
                <a:chExt cx="431640" cy="431640"/>
              </a:xfrm>
            </p:grpSpPr>
            <p:sp>
              <p:nvSpPr>
                <p:cNvPr id="36" name="フリーフォーム 43"/>
                <p:cNvSpPr/>
                <p:nvPr/>
              </p:nvSpPr>
              <p:spPr>
                <a:xfrm rot="5400000">
                  <a:off x="5271840" y="147744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" name="フリーフォーム 44"/>
                <p:cNvSpPr/>
                <p:nvPr/>
              </p:nvSpPr>
              <p:spPr>
                <a:xfrm rot="5400000">
                  <a:off x="5271840" y="136944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" name="グループ化 23"/>
              <p:cNvGrpSpPr/>
              <p:nvPr/>
            </p:nvGrpSpPr>
            <p:grpSpPr>
              <a:xfrm>
                <a:off x="5217840" y="8945280"/>
                <a:ext cx="431640" cy="431640"/>
                <a:chOff x="5217840" y="8945280"/>
                <a:chExt cx="431640" cy="431640"/>
              </a:xfrm>
            </p:grpSpPr>
            <p:sp>
              <p:nvSpPr>
                <p:cNvPr id="39" name="フリーフォーム 43"/>
                <p:cNvSpPr/>
                <p:nvPr/>
              </p:nvSpPr>
              <p:spPr>
                <a:xfrm rot="10800000">
                  <a:off x="5217840" y="905328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" name="フリーフォーム 44"/>
                <p:cNvSpPr/>
                <p:nvPr/>
              </p:nvSpPr>
              <p:spPr>
                <a:xfrm rot="10800000">
                  <a:off x="5325840" y="894528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" name="グループ化 20"/>
              <p:cNvGrpSpPr/>
              <p:nvPr/>
            </p:nvGrpSpPr>
            <p:grpSpPr>
              <a:xfrm>
                <a:off x="1546920" y="8944560"/>
                <a:ext cx="431640" cy="431640"/>
                <a:chOff x="1546920" y="8944560"/>
                <a:chExt cx="431640" cy="431640"/>
              </a:xfrm>
            </p:grpSpPr>
            <p:sp>
              <p:nvSpPr>
                <p:cNvPr id="42" name="フリーフォーム 43"/>
                <p:cNvSpPr/>
                <p:nvPr/>
              </p:nvSpPr>
              <p:spPr>
                <a:xfrm rot="16200000">
                  <a:off x="1492920" y="8998560"/>
                  <a:ext cx="431640" cy="323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フリーフォーム 44"/>
                <p:cNvSpPr/>
                <p:nvPr/>
              </p:nvSpPr>
              <p:spPr>
                <a:xfrm rot="16200000">
                  <a:off x="1600920" y="8998200"/>
                  <a:ext cx="323640" cy="431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" name="グループ化 1"/>
              <p:cNvGrpSpPr/>
              <p:nvPr/>
            </p:nvGrpSpPr>
            <p:grpSpPr>
              <a:xfrm>
                <a:off x="3141360" y="1418400"/>
                <a:ext cx="915840" cy="304560"/>
                <a:chOff x="3141360" y="1418400"/>
                <a:chExt cx="915840" cy="304560"/>
              </a:xfrm>
            </p:grpSpPr>
            <p:sp>
              <p:nvSpPr>
                <p:cNvPr id="45" name="Line 136"/>
                <p:cNvSpPr/>
                <p:nvPr/>
              </p:nvSpPr>
              <p:spPr>
                <a:xfrm>
                  <a:off x="3141360" y="1647000"/>
                  <a:ext cx="9158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Line 137"/>
                <p:cNvSpPr/>
                <p:nvPr/>
              </p:nvSpPr>
              <p:spPr>
                <a:xfrm>
                  <a:off x="3600000" y="1418400"/>
                  <a:ext cx="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" name="グループ化 10"/>
              <p:cNvGrpSpPr/>
              <p:nvPr/>
            </p:nvGrpSpPr>
            <p:grpSpPr>
              <a:xfrm>
                <a:off x="3141360" y="9070560"/>
                <a:ext cx="915840" cy="304560"/>
                <a:chOff x="3141360" y="9070560"/>
                <a:chExt cx="915840" cy="304560"/>
              </a:xfrm>
            </p:grpSpPr>
            <p:sp>
              <p:nvSpPr>
                <p:cNvPr id="48" name="Line 136"/>
                <p:cNvSpPr/>
                <p:nvPr/>
              </p:nvSpPr>
              <p:spPr>
                <a:xfrm flipH="1">
                  <a:off x="3141360" y="9146520"/>
                  <a:ext cx="9158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Line 137"/>
                <p:cNvSpPr/>
                <p:nvPr/>
              </p:nvSpPr>
              <p:spPr>
                <a:xfrm flipV="1">
                  <a:off x="3598560" y="9070560"/>
                  <a:ext cx="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" name="グループ化 13"/>
              <p:cNvGrpSpPr/>
              <p:nvPr/>
            </p:nvGrpSpPr>
            <p:grpSpPr>
              <a:xfrm>
                <a:off x="5348520" y="4941720"/>
                <a:ext cx="304560" cy="915840"/>
                <a:chOff x="5348520" y="4941720"/>
                <a:chExt cx="304560" cy="915840"/>
              </a:xfrm>
            </p:grpSpPr>
            <p:sp>
              <p:nvSpPr>
                <p:cNvPr id="51" name="Line 136"/>
                <p:cNvSpPr/>
                <p:nvPr/>
              </p:nvSpPr>
              <p:spPr>
                <a:xfrm>
                  <a:off x="5424480" y="4941720"/>
                  <a:ext cx="0" cy="915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" name="Line 137"/>
                <p:cNvSpPr/>
                <p:nvPr/>
              </p:nvSpPr>
              <p:spPr>
                <a:xfrm flipH="1">
                  <a:off x="5348520" y="5400360"/>
                  <a:ext cx="3045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" name="グループ化 2"/>
              <p:cNvGrpSpPr/>
              <p:nvPr/>
            </p:nvGrpSpPr>
            <p:grpSpPr>
              <a:xfrm>
                <a:off x="1546920" y="4941720"/>
                <a:ext cx="304560" cy="915840"/>
                <a:chOff x="1546920" y="4941720"/>
                <a:chExt cx="304560" cy="915840"/>
              </a:xfrm>
            </p:grpSpPr>
            <p:sp>
              <p:nvSpPr>
                <p:cNvPr id="54" name="Line 136"/>
                <p:cNvSpPr/>
                <p:nvPr/>
              </p:nvSpPr>
              <p:spPr>
                <a:xfrm flipV="1">
                  <a:off x="1775520" y="4941720"/>
                  <a:ext cx="0" cy="915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" name="Line 137"/>
                <p:cNvSpPr/>
                <p:nvPr/>
              </p:nvSpPr>
              <p:spPr>
                <a:xfrm>
                  <a:off x="1546920" y="5398920"/>
                  <a:ext cx="3045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56" name="図 2" descr="ダイアグラム&#10;&#10;自動的に生成された説明"/>
          <p:cNvPicPr/>
          <p:nvPr/>
        </p:nvPicPr>
        <p:blipFill>
          <a:blip r:embed="rId3"/>
          <a:stretch/>
        </p:blipFill>
        <p:spPr>
          <a:xfrm>
            <a:off x="7440480" y="-1440"/>
            <a:ext cx="3794400" cy="1079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3T03:18:39Z</dcterms:created>
  <dc:creator>川越</dc:creator>
  <dc:description/>
  <dc:language>en-US</dc:language>
  <cp:lastModifiedBy>Eximage-24</cp:lastModifiedBy>
  <dcterms:modified xsi:type="dcterms:W3CDTF">2025-01-30T03:18:11Z</dcterms:modified>
  <cp:revision>72</cp:revision>
  <dc:subject/>
  <dc:title>PowerPoint プレゼンテーション</dc:title>
</cp:coreProperties>
</file>