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199313" cy="107997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60000" y="-9467280"/>
            <a:ext cx="6479640" cy="216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60000" y="2527200"/>
            <a:ext cx="6479640" cy="29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3000"/>
          </a:bodyPr>
          <a:p>
            <a:pPr indent="0">
              <a:spcBef>
                <a:spcPts val="9950"/>
              </a:spcBef>
              <a:buNone/>
            </a:pPr>
            <a:endParaRPr b="0" lang="en-US" sz="39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0000" y="5799240"/>
            <a:ext cx="6479640" cy="29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3000"/>
          </a:bodyPr>
          <a:p>
            <a:pPr indent="0">
              <a:spcBef>
                <a:spcPts val="9950"/>
              </a:spcBef>
              <a:buNone/>
            </a:pPr>
            <a:endParaRPr b="0" lang="en-US" sz="39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60000" y="-9467280"/>
            <a:ext cx="6479640" cy="216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60000" y="2527200"/>
            <a:ext cx="3161880" cy="29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indent="0">
              <a:spcBef>
                <a:spcPts val="9950"/>
              </a:spcBef>
              <a:buNone/>
            </a:pPr>
            <a:endParaRPr b="0" lang="en-US" sz="39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0280" y="2527200"/>
            <a:ext cx="3161880" cy="29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indent="0">
              <a:spcBef>
                <a:spcPts val="9950"/>
              </a:spcBef>
              <a:buNone/>
            </a:pPr>
            <a:endParaRPr b="0" lang="en-US" sz="39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60000" y="5799240"/>
            <a:ext cx="3161880" cy="29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indent="0">
              <a:spcBef>
                <a:spcPts val="9950"/>
              </a:spcBef>
              <a:buNone/>
            </a:pPr>
            <a:endParaRPr b="0" lang="en-US" sz="39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680280" y="5799240"/>
            <a:ext cx="3161880" cy="29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indent="0">
              <a:spcBef>
                <a:spcPts val="9950"/>
              </a:spcBef>
              <a:buNone/>
            </a:pPr>
            <a:endParaRPr b="0" lang="en-US" sz="39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60000" y="-9467280"/>
            <a:ext cx="6479640" cy="216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60000" y="2527200"/>
            <a:ext cx="2086200" cy="29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2000"/>
          </a:bodyPr>
          <a:p>
            <a:pPr indent="0">
              <a:spcBef>
                <a:spcPts val="9950"/>
              </a:spcBef>
              <a:buNone/>
            </a:pPr>
            <a:endParaRPr b="0" lang="en-US" sz="39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550960" y="2527200"/>
            <a:ext cx="2086200" cy="29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2000"/>
          </a:bodyPr>
          <a:p>
            <a:pPr indent="0">
              <a:spcBef>
                <a:spcPts val="9950"/>
              </a:spcBef>
              <a:buNone/>
            </a:pPr>
            <a:endParaRPr b="0" lang="en-US" sz="39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741920" y="2527200"/>
            <a:ext cx="2086200" cy="29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2000"/>
          </a:bodyPr>
          <a:p>
            <a:pPr indent="0">
              <a:spcBef>
                <a:spcPts val="9950"/>
              </a:spcBef>
              <a:buNone/>
            </a:pPr>
            <a:endParaRPr b="0" lang="en-US" sz="39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360000" y="5799240"/>
            <a:ext cx="2086200" cy="29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2000"/>
          </a:bodyPr>
          <a:p>
            <a:pPr indent="0">
              <a:spcBef>
                <a:spcPts val="9950"/>
              </a:spcBef>
              <a:buNone/>
            </a:pPr>
            <a:endParaRPr b="0" lang="en-US" sz="39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2550960" y="5799240"/>
            <a:ext cx="2086200" cy="29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2000"/>
          </a:bodyPr>
          <a:p>
            <a:pPr indent="0">
              <a:spcBef>
                <a:spcPts val="9950"/>
              </a:spcBef>
              <a:buNone/>
            </a:pPr>
            <a:endParaRPr b="0" lang="en-US" sz="39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4741920" y="5799240"/>
            <a:ext cx="2086200" cy="29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2000"/>
          </a:bodyPr>
          <a:p>
            <a:pPr indent="0">
              <a:spcBef>
                <a:spcPts val="9950"/>
              </a:spcBef>
              <a:buNone/>
            </a:pPr>
            <a:endParaRPr b="0" lang="en-US" sz="39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0000" y="-9467280"/>
            <a:ext cx="6479640" cy="216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60000" y="-5140800"/>
            <a:ext cx="6479640" cy="216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950"/>
              </a:spcBef>
              <a:buNone/>
              <a:tabLst>
                <a:tab algn="l" pos="0"/>
              </a:tabLst>
            </a:pPr>
            <a:endParaRPr b="0" lang="en-US" sz="39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0000" y="-9467280"/>
            <a:ext cx="6479640" cy="216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60000" y="2527200"/>
            <a:ext cx="6479640" cy="62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4000"/>
          </a:bodyPr>
          <a:p>
            <a:pPr indent="0">
              <a:spcBef>
                <a:spcPts val="9950"/>
              </a:spcBef>
              <a:buNone/>
            </a:pPr>
            <a:endParaRPr b="0" lang="en-US" sz="39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60000" y="-9467280"/>
            <a:ext cx="6479640" cy="216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60000" y="2527200"/>
            <a:ext cx="3161880" cy="62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4000"/>
          </a:bodyPr>
          <a:p>
            <a:pPr indent="0">
              <a:spcBef>
                <a:spcPts val="9950"/>
              </a:spcBef>
              <a:buNone/>
            </a:pPr>
            <a:endParaRPr b="0" lang="en-US" sz="39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680280" y="2527200"/>
            <a:ext cx="3161880" cy="62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4000"/>
          </a:bodyPr>
          <a:p>
            <a:pPr indent="0">
              <a:spcBef>
                <a:spcPts val="9950"/>
              </a:spcBef>
              <a:buNone/>
            </a:pPr>
            <a:endParaRPr b="0" lang="en-US" sz="39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60000" y="-9467280"/>
            <a:ext cx="6479640" cy="216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360000" y="-6189120"/>
            <a:ext cx="6479640" cy="216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950"/>
              </a:spcBef>
              <a:tabLst>
                <a:tab algn="l" pos="0"/>
              </a:tabLst>
            </a:pPr>
            <a:endParaRPr b="0" lang="en-US" sz="39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0000" y="-9467280"/>
            <a:ext cx="6479640" cy="216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60000" y="2527200"/>
            <a:ext cx="3161880" cy="29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indent="0">
              <a:spcBef>
                <a:spcPts val="9950"/>
              </a:spcBef>
              <a:buNone/>
            </a:pPr>
            <a:endParaRPr b="0" lang="en-US" sz="39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680280" y="2527200"/>
            <a:ext cx="3161880" cy="62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4000"/>
          </a:bodyPr>
          <a:p>
            <a:pPr indent="0">
              <a:spcBef>
                <a:spcPts val="9950"/>
              </a:spcBef>
              <a:buNone/>
            </a:pPr>
            <a:endParaRPr b="0" lang="en-US" sz="39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60000" y="5799240"/>
            <a:ext cx="3161880" cy="29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indent="0">
              <a:spcBef>
                <a:spcPts val="9950"/>
              </a:spcBef>
              <a:buNone/>
            </a:pPr>
            <a:endParaRPr b="0" lang="en-US" sz="39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0000" y="-9467280"/>
            <a:ext cx="6479640" cy="216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60000" y="2527200"/>
            <a:ext cx="3161880" cy="62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4000"/>
          </a:bodyPr>
          <a:p>
            <a:pPr indent="0">
              <a:spcBef>
                <a:spcPts val="9950"/>
              </a:spcBef>
              <a:buNone/>
            </a:pPr>
            <a:endParaRPr b="0" lang="en-US" sz="39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80280" y="2527200"/>
            <a:ext cx="3161880" cy="29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indent="0">
              <a:spcBef>
                <a:spcPts val="9950"/>
              </a:spcBef>
              <a:buNone/>
            </a:pPr>
            <a:endParaRPr b="0" lang="en-US" sz="39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680280" y="5799240"/>
            <a:ext cx="3161880" cy="29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indent="0">
              <a:spcBef>
                <a:spcPts val="9950"/>
              </a:spcBef>
              <a:buNone/>
            </a:pPr>
            <a:endParaRPr b="0" lang="en-US" sz="39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0000" y="-9467280"/>
            <a:ext cx="6479640" cy="216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60000" y="2527200"/>
            <a:ext cx="3161880" cy="29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indent="0">
              <a:spcBef>
                <a:spcPts val="9950"/>
              </a:spcBef>
              <a:buNone/>
            </a:pPr>
            <a:endParaRPr b="0" lang="en-US" sz="39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80280" y="2527200"/>
            <a:ext cx="3161880" cy="29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indent="0">
              <a:spcBef>
                <a:spcPts val="9950"/>
              </a:spcBef>
              <a:buNone/>
            </a:pPr>
            <a:endParaRPr b="0" lang="en-US" sz="39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60000" y="5799240"/>
            <a:ext cx="6479640" cy="29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3000"/>
          </a:bodyPr>
          <a:p>
            <a:pPr indent="0">
              <a:spcBef>
                <a:spcPts val="9950"/>
              </a:spcBef>
              <a:buNone/>
            </a:pPr>
            <a:endParaRPr b="0" lang="en-US" sz="39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1"/>
          <p:cNvGrpSpPr/>
          <p:nvPr/>
        </p:nvGrpSpPr>
        <p:grpSpPr>
          <a:xfrm>
            <a:off x="1692360" y="2286000"/>
            <a:ext cx="3814560" cy="6227640"/>
            <a:chOff x="1692360" y="2286000"/>
            <a:chExt cx="3814560" cy="6227640"/>
          </a:xfrm>
        </p:grpSpPr>
        <p:sp>
          <p:nvSpPr>
            <p:cNvPr id="1" name="Freeform 5"/>
            <p:cNvSpPr/>
            <p:nvPr/>
          </p:nvSpPr>
          <p:spPr>
            <a:xfrm>
              <a:off x="1800360" y="2394720"/>
              <a:ext cx="3598560" cy="6010560"/>
            </a:xfrm>
            <a:custGeom>
              <a:avLst/>
              <a:gdLst/>
              <a:ahLst/>
              <a:rect l="l" t="t" r="r" b="b"/>
              <a:pathLst>
                <a:path w="1134" h="1894">
                  <a:moveTo>
                    <a:pt x="1134" y="1214"/>
                  </a:moveTo>
                  <a:cubicBezTo>
                    <a:pt x="1134" y="1182"/>
                    <a:pt x="1109" y="1157"/>
                    <a:pt x="1077" y="1157"/>
                  </a:cubicBezTo>
                  <a:cubicBezTo>
                    <a:pt x="641" y="1157"/>
                    <a:pt x="641" y="1157"/>
                    <a:pt x="641" y="1157"/>
                  </a:cubicBezTo>
                  <a:cubicBezTo>
                    <a:pt x="628" y="1157"/>
                    <a:pt x="618" y="1147"/>
                    <a:pt x="618" y="1134"/>
                  </a:cubicBezTo>
                  <a:cubicBezTo>
                    <a:pt x="618" y="159"/>
                    <a:pt x="618" y="159"/>
                    <a:pt x="618" y="159"/>
                  </a:cubicBezTo>
                  <a:cubicBezTo>
                    <a:pt x="618" y="147"/>
                    <a:pt x="628" y="136"/>
                    <a:pt x="641" y="136"/>
                  </a:cubicBezTo>
                  <a:cubicBezTo>
                    <a:pt x="732" y="136"/>
                    <a:pt x="732" y="136"/>
                    <a:pt x="732" y="136"/>
                  </a:cubicBezTo>
                  <a:cubicBezTo>
                    <a:pt x="732" y="0"/>
                    <a:pt x="732" y="0"/>
                    <a:pt x="732" y="0"/>
                  </a:cubicBezTo>
                  <a:cubicBezTo>
                    <a:pt x="403" y="0"/>
                    <a:pt x="403" y="0"/>
                    <a:pt x="403" y="0"/>
                  </a:cubicBezTo>
                  <a:cubicBezTo>
                    <a:pt x="403" y="136"/>
                    <a:pt x="403" y="136"/>
                    <a:pt x="403" y="136"/>
                  </a:cubicBezTo>
                  <a:cubicBezTo>
                    <a:pt x="494" y="136"/>
                    <a:pt x="494" y="136"/>
                    <a:pt x="494" y="136"/>
                  </a:cubicBezTo>
                  <a:cubicBezTo>
                    <a:pt x="506" y="136"/>
                    <a:pt x="516" y="147"/>
                    <a:pt x="516" y="159"/>
                  </a:cubicBezTo>
                  <a:cubicBezTo>
                    <a:pt x="516" y="1134"/>
                    <a:pt x="516" y="1134"/>
                    <a:pt x="516" y="1134"/>
                  </a:cubicBezTo>
                  <a:cubicBezTo>
                    <a:pt x="516" y="1147"/>
                    <a:pt x="506" y="1157"/>
                    <a:pt x="494" y="1157"/>
                  </a:cubicBezTo>
                  <a:cubicBezTo>
                    <a:pt x="57" y="1157"/>
                    <a:pt x="57" y="1157"/>
                    <a:pt x="57" y="1157"/>
                  </a:cubicBezTo>
                  <a:cubicBezTo>
                    <a:pt x="26" y="1157"/>
                    <a:pt x="0" y="1182"/>
                    <a:pt x="0" y="1214"/>
                  </a:cubicBezTo>
                  <a:cubicBezTo>
                    <a:pt x="0" y="1837"/>
                    <a:pt x="0" y="1837"/>
                    <a:pt x="0" y="1837"/>
                  </a:cubicBezTo>
                  <a:cubicBezTo>
                    <a:pt x="0" y="1869"/>
                    <a:pt x="26" y="1894"/>
                    <a:pt x="57" y="1894"/>
                  </a:cubicBezTo>
                  <a:cubicBezTo>
                    <a:pt x="1077" y="1894"/>
                    <a:pt x="1077" y="1894"/>
                    <a:pt x="1077" y="1894"/>
                  </a:cubicBezTo>
                  <a:cubicBezTo>
                    <a:pt x="1109" y="1894"/>
                    <a:pt x="1134" y="1869"/>
                    <a:pt x="1134" y="1837"/>
                  </a:cubicBezTo>
                  <a:lnTo>
                    <a:pt x="1134" y="1214"/>
                  </a:lnTo>
                  <a:close/>
                </a:path>
              </a:pathLst>
            </a:cu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" name="Freeform 6"/>
            <p:cNvSpPr/>
            <p:nvPr/>
          </p:nvSpPr>
          <p:spPr>
            <a:xfrm>
              <a:off x="1908360" y="2937960"/>
              <a:ext cx="3382200" cy="5360760"/>
            </a:xfrm>
            <a:custGeom>
              <a:avLst/>
              <a:gdLst/>
              <a:ahLst/>
              <a:rect l="l" t="t" r="r" b="b"/>
              <a:pathLst>
                <a:path w="1066" h="1689">
                  <a:moveTo>
                    <a:pt x="550" y="0"/>
                  </a:moveTo>
                  <a:cubicBezTo>
                    <a:pt x="550" y="963"/>
                    <a:pt x="550" y="963"/>
                    <a:pt x="550" y="963"/>
                  </a:cubicBezTo>
                  <a:cubicBezTo>
                    <a:pt x="550" y="994"/>
                    <a:pt x="576" y="1020"/>
                    <a:pt x="607" y="1020"/>
                  </a:cubicBezTo>
                  <a:cubicBezTo>
                    <a:pt x="1043" y="1020"/>
                    <a:pt x="1043" y="1020"/>
                    <a:pt x="1043" y="1020"/>
                  </a:cubicBezTo>
                  <a:cubicBezTo>
                    <a:pt x="1056" y="1020"/>
                    <a:pt x="1066" y="1030"/>
                    <a:pt x="1066" y="1043"/>
                  </a:cubicBezTo>
                  <a:cubicBezTo>
                    <a:pt x="1066" y="1666"/>
                    <a:pt x="1066" y="1666"/>
                    <a:pt x="1066" y="1666"/>
                  </a:cubicBezTo>
                  <a:cubicBezTo>
                    <a:pt x="1066" y="1679"/>
                    <a:pt x="1056" y="1689"/>
                    <a:pt x="1043" y="1689"/>
                  </a:cubicBezTo>
                  <a:cubicBezTo>
                    <a:pt x="23" y="1689"/>
                    <a:pt x="23" y="1689"/>
                    <a:pt x="23" y="1689"/>
                  </a:cubicBezTo>
                  <a:cubicBezTo>
                    <a:pt x="10" y="1689"/>
                    <a:pt x="0" y="1679"/>
                    <a:pt x="0" y="1666"/>
                  </a:cubicBezTo>
                  <a:cubicBezTo>
                    <a:pt x="0" y="1043"/>
                    <a:pt x="0" y="1043"/>
                    <a:pt x="0" y="1043"/>
                  </a:cubicBezTo>
                  <a:cubicBezTo>
                    <a:pt x="0" y="1030"/>
                    <a:pt x="10" y="1020"/>
                    <a:pt x="23" y="1020"/>
                  </a:cubicBezTo>
                  <a:cubicBezTo>
                    <a:pt x="460" y="1020"/>
                    <a:pt x="460" y="1020"/>
                    <a:pt x="460" y="1020"/>
                  </a:cubicBezTo>
                  <a:cubicBezTo>
                    <a:pt x="491" y="1020"/>
                    <a:pt x="516" y="994"/>
                    <a:pt x="516" y="963"/>
                  </a:cubicBezTo>
                  <a:cubicBezTo>
                    <a:pt x="516" y="0"/>
                    <a:pt x="516" y="0"/>
                    <a:pt x="516" y="0"/>
                  </a:cubicBezTo>
                  <a:lnTo>
                    <a:pt x="550" y="0"/>
                  </a:lnTo>
                  <a:close/>
                </a:path>
              </a:pathLst>
            </a:custGeom>
            <a:noFill/>
            <a:ln w="3240">
              <a:solidFill>
                <a:srgbClr val="9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Rectangle 7"/>
            <p:cNvSpPr/>
            <p:nvPr/>
          </p:nvSpPr>
          <p:spPr>
            <a:xfrm>
              <a:off x="1692360" y="2286720"/>
              <a:ext cx="3814560" cy="622692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" name="グループ化 19"/>
            <p:cNvGrpSpPr/>
            <p:nvPr/>
          </p:nvGrpSpPr>
          <p:grpSpPr>
            <a:xfrm>
              <a:off x="2969640" y="2286000"/>
              <a:ext cx="1260000" cy="541440"/>
              <a:chOff x="2969640" y="2286000"/>
              <a:chExt cx="1260000" cy="541440"/>
            </a:xfrm>
          </p:grpSpPr>
          <p:grpSp>
            <p:nvGrpSpPr>
              <p:cNvPr id="5" name="グループ化 1"/>
              <p:cNvGrpSpPr/>
              <p:nvPr/>
            </p:nvGrpSpPr>
            <p:grpSpPr>
              <a:xfrm>
                <a:off x="2969640" y="2286000"/>
                <a:ext cx="1260000" cy="541440"/>
                <a:chOff x="2969640" y="2286000"/>
                <a:chExt cx="1260000" cy="541440"/>
              </a:xfrm>
            </p:grpSpPr>
            <p:sp>
              <p:nvSpPr>
                <p:cNvPr id="6" name="Line 27"/>
                <p:cNvSpPr/>
                <p:nvPr/>
              </p:nvSpPr>
              <p:spPr>
                <a:xfrm>
                  <a:off x="3972600" y="2723040"/>
                  <a:ext cx="257040" cy="104400"/>
                </a:xfrm>
                <a:prstGeom prst="line">
                  <a:avLst/>
                </a:prstGeom>
                <a:ln w="3240">
                  <a:solidFill>
                    <a:srgbClr val="00b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" name="Line 28"/>
                <p:cNvSpPr/>
                <p:nvPr/>
              </p:nvSpPr>
              <p:spPr>
                <a:xfrm>
                  <a:off x="2969640" y="2286000"/>
                  <a:ext cx="245520" cy="104400"/>
                </a:xfrm>
                <a:prstGeom prst="line">
                  <a:avLst/>
                </a:prstGeom>
                <a:ln w="3240">
                  <a:solidFill>
                    <a:srgbClr val="00b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" name="Line 29"/>
                <p:cNvSpPr/>
                <p:nvPr/>
              </p:nvSpPr>
              <p:spPr>
                <a:xfrm flipH="1">
                  <a:off x="2969640" y="2723040"/>
                  <a:ext cx="255600" cy="104400"/>
                </a:xfrm>
                <a:prstGeom prst="line">
                  <a:avLst/>
                </a:prstGeom>
                <a:ln w="3240">
                  <a:solidFill>
                    <a:srgbClr val="00b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" name="Line 30"/>
                <p:cNvSpPr/>
                <p:nvPr/>
              </p:nvSpPr>
              <p:spPr>
                <a:xfrm flipH="1">
                  <a:off x="3972600" y="2286000"/>
                  <a:ext cx="257040" cy="104400"/>
                </a:xfrm>
                <a:prstGeom prst="line">
                  <a:avLst/>
                </a:prstGeom>
                <a:ln w="3240">
                  <a:solidFill>
                    <a:srgbClr val="00b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" name="Rectangle 31"/>
                <p:cNvSpPr/>
                <p:nvPr/>
              </p:nvSpPr>
              <p:spPr>
                <a:xfrm>
                  <a:off x="2969640" y="2286000"/>
                  <a:ext cx="1260000" cy="541440"/>
                </a:xfrm>
                <a:prstGeom prst="rect">
                  <a:avLst/>
                </a:prstGeom>
                <a:noFill/>
                <a:ln w="3240">
                  <a:solidFill>
                    <a:srgbClr val="00b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1" name="Rectangle 23"/>
              <p:cNvSpPr/>
              <p:nvPr/>
            </p:nvSpPr>
            <p:spPr>
              <a:xfrm>
                <a:off x="3044520" y="2380320"/>
                <a:ext cx="110988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7880" rIns="47880" tIns="23760" bIns="2376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1484280"/>
                    <a:tab algn="r" pos="2968560"/>
                    <a:tab algn="l" pos="3009960"/>
                    <a:tab algn="l" pos="3511440"/>
                    <a:tab algn="l" pos="4013280"/>
                    <a:tab algn="l" pos="4514760"/>
                    <a:tab algn="l" pos="5016600"/>
                    <a:tab algn="l" pos="5518080"/>
                    <a:tab algn="l" pos="6019920"/>
                    <a:tab algn="l" pos="6521400"/>
                    <a:tab algn="l" pos="7023240"/>
                    <a:tab algn="l" pos="7524720"/>
                    <a:tab algn="l" pos="8026560"/>
                    <a:tab algn="l" pos="8528040"/>
                    <a:tab algn="l" pos="9029880"/>
                    <a:tab algn="l" pos="9531360"/>
                    <a:tab algn="l" pos="10032840"/>
                    <a:tab algn="l" pos="10534680"/>
                  </a:tabLst>
                </a:pPr>
                <a:r>
                  <a:rPr b="0" lang="ja-JP" sz="1000" spc="-1" strike="noStrike">
                    <a:solidFill>
                      <a:srgbClr val="00b0f0"/>
                    </a:solidFill>
                    <a:latin typeface="ＭＳ ゴシック"/>
                    <a:ea typeface="ＭＳ ゴシック"/>
                  </a:rPr>
                  <a:t>貼り付け部分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1484280"/>
                    <a:tab algn="r" pos="2968560"/>
                    <a:tab algn="l" pos="3009960"/>
                    <a:tab algn="l" pos="3511440"/>
                    <a:tab algn="l" pos="4013280"/>
                    <a:tab algn="l" pos="4514760"/>
                    <a:tab algn="l" pos="5016600"/>
                    <a:tab algn="l" pos="5518080"/>
                    <a:tab algn="l" pos="6019920"/>
                    <a:tab algn="l" pos="6521400"/>
                    <a:tab algn="l" pos="7023240"/>
                    <a:tab algn="l" pos="7524720"/>
                    <a:tab algn="l" pos="8026560"/>
                    <a:tab algn="l" pos="8528040"/>
                    <a:tab algn="l" pos="9029880"/>
                    <a:tab algn="l" pos="9531360"/>
                    <a:tab algn="l" pos="10032840"/>
                    <a:tab algn="l" pos="10534680"/>
                  </a:tabLst>
                </a:pPr>
                <a:r>
                  <a:rPr b="0" lang="zh-TW" sz="1000" spc="-1" strike="noStrike">
                    <a:solidFill>
                      <a:srgbClr val="00b0f0"/>
                    </a:solidFill>
                    <a:latin typeface="ＭＳ ゴシック"/>
                    <a:ea typeface="ＭＳ ゴシック"/>
                  </a:rPr>
                  <a:t>（印刷不可範囲）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2" name="グループ化 75"/>
          <p:cNvGrpSpPr/>
          <p:nvPr/>
        </p:nvGrpSpPr>
        <p:grpSpPr>
          <a:xfrm>
            <a:off x="309600" y="178920"/>
            <a:ext cx="6694560" cy="291240"/>
            <a:chOff x="309600" y="178920"/>
            <a:chExt cx="6694560" cy="291240"/>
          </a:xfrm>
        </p:grpSpPr>
        <p:sp>
          <p:nvSpPr>
            <p:cNvPr id="13" name="Rectangle 23"/>
            <p:cNvSpPr/>
            <p:nvPr/>
          </p:nvSpPr>
          <p:spPr>
            <a:xfrm>
              <a:off x="309600" y="178920"/>
              <a:ext cx="658044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7880" rIns="47880" tIns="23760" bIns="2376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ctr" pos="1484280"/>
                  <a:tab algn="r" pos="2968560"/>
                  <a:tab algn="l" pos="3009960"/>
                  <a:tab algn="l" pos="3511440"/>
                  <a:tab algn="l" pos="4013280"/>
                  <a:tab algn="l" pos="4514760"/>
                  <a:tab algn="l" pos="5016600"/>
                  <a:tab algn="l" pos="5518080"/>
                  <a:tab algn="l" pos="6019920"/>
                  <a:tab algn="l" pos="6521400"/>
                  <a:tab algn="l" pos="7023240"/>
                  <a:tab algn="l" pos="7524720"/>
                  <a:tab algn="l" pos="8026560"/>
                  <a:tab algn="l" pos="8528040"/>
                  <a:tab algn="l" pos="9029880"/>
                  <a:tab algn="l" pos="9531360"/>
                  <a:tab algn="l" pos="10032840"/>
                  <a:tab algn="l" pos="1053468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■</a:t>
              </a:r>
              <a:r>
                <a:rPr b="0" lang="en-US" sz="1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POP</a:t>
              </a:r>
              <a:r>
                <a:rPr b="0" lang="ja-JP" sz="1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：スイング</a:t>
              </a:r>
              <a:r>
                <a:rPr b="0" lang="en-US" sz="1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POP_</a:t>
              </a:r>
              <a:r>
                <a:rPr b="0" lang="ja-JP" sz="1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長方形・</a:t>
              </a:r>
              <a:r>
                <a:rPr b="0" lang="en-US" sz="1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M</a:t>
              </a:r>
              <a:r>
                <a:rPr b="0" lang="ja-JP" sz="1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（ 仕上がりサイズ </a:t>
              </a:r>
              <a:r>
                <a:rPr b="0" lang="en-US" sz="1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00 × 167 mm </a:t>
              </a:r>
              <a:r>
                <a:rPr b="0" lang="ja-JP" sz="1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）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" name="楕円 74"/>
            <p:cNvSpPr/>
            <p:nvPr/>
          </p:nvSpPr>
          <p:spPr>
            <a:xfrm>
              <a:off x="6775560" y="210960"/>
              <a:ext cx="228600" cy="227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72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521000"/>
                  <a:tab algn="l" pos="3041640"/>
                  <a:tab algn="l" pos="4562640"/>
                  <a:tab algn="l" pos="6083280"/>
                  <a:tab algn="l" pos="7604280"/>
                  <a:tab algn="l" pos="9124920"/>
                  <a:tab algn="l" pos="106459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" name="図 77" descr=""/>
          <p:cNvPicPr/>
          <p:nvPr/>
        </p:nvPicPr>
        <p:blipFill>
          <a:blip r:embed="rId2"/>
          <a:stretch/>
        </p:blipFill>
        <p:spPr>
          <a:xfrm>
            <a:off x="496800" y="568440"/>
            <a:ext cx="6218280" cy="280800"/>
          </a:xfrm>
          <a:prstGeom prst="rect">
            <a:avLst/>
          </a:prstGeom>
          <a:ln w="0">
            <a:noFill/>
          </a:ln>
        </p:spPr>
      </p:pic>
      <p:grpSp>
        <p:nvGrpSpPr>
          <p:cNvPr id="16" name="グループ化 5"/>
          <p:cNvGrpSpPr/>
          <p:nvPr/>
        </p:nvGrpSpPr>
        <p:grpSpPr>
          <a:xfrm>
            <a:off x="1363680" y="1955880"/>
            <a:ext cx="4471920" cy="6881400"/>
            <a:chOff x="1363680" y="1955880"/>
            <a:chExt cx="4471920" cy="6881400"/>
          </a:xfrm>
        </p:grpSpPr>
        <p:grpSp>
          <p:nvGrpSpPr>
            <p:cNvPr id="17" name="グループ化 3"/>
            <p:cNvGrpSpPr/>
            <p:nvPr/>
          </p:nvGrpSpPr>
          <p:grpSpPr>
            <a:xfrm>
              <a:off x="1363680" y="1963080"/>
              <a:ext cx="4471920" cy="6874200"/>
              <a:chOff x="1363680" y="1963080"/>
              <a:chExt cx="4471920" cy="6874200"/>
            </a:xfrm>
          </p:grpSpPr>
          <p:grpSp>
            <p:nvGrpSpPr>
              <p:cNvPr id="18" name="グループ化 1"/>
              <p:cNvGrpSpPr/>
              <p:nvPr/>
            </p:nvGrpSpPr>
            <p:grpSpPr>
              <a:xfrm>
                <a:off x="1368720" y="1963080"/>
                <a:ext cx="431640" cy="431640"/>
                <a:chOff x="1368720" y="1963080"/>
                <a:chExt cx="431640" cy="431640"/>
              </a:xfrm>
            </p:grpSpPr>
            <p:sp>
              <p:nvSpPr>
                <p:cNvPr id="19" name="フリーフォーム 43"/>
                <p:cNvSpPr/>
                <p:nvPr/>
              </p:nvSpPr>
              <p:spPr>
                <a:xfrm>
                  <a:off x="1368720" y="1963080"/>
                  <a:ext cx="431640" cy="323640"/>
                </a:xfrm>
                <a:custGeom>
                  <a:avLst/>
                  <a:gdLst/>
                  <a:ahLst/>
                  <a:rect l="l" t="t" r="r" b="b"/>
                  <a:pathLst>
                    <a:path w="434340" h="321945">
                      <a:moveTo>
                        <a:pt x="434340" y="0"/>
                      </a:moveTo>
                      <a:lnTo>
                        <a:pt x="434340" y="321945"/>
                      </a:lnTo>
                      <a:lnTo>
                        <a:pt x="0" y="321945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" name="フリーフォーム 44"/>
                <p:cNvSpPr/>
                <p:nvPr/>
              </p:nvSpPr>
              <p:spPr>
                <a:xfrm>
                  <a:off x="1368720" y="1963080"/>
                  <a:ext cx="323640" cy="431640"/>
                </a:xfrm>
                <a:custGeom>
                  <a:avLst/>
                  <a:gdLst/>
                  <a:ahLst/>
                  <a:rect l="l" t="t" r="r" b="b"/>
                  <a:pathLst>
                    <a:path w="434340" h="321945">
                      <a:moveTo>
                        <a:pt x="434340" y="0"/>
                      </a:moveTo>
                      <a:lnTo>
                        <a:pt x="434340" y="321945"/>
                      </a:lnTo>
                      <a:lnTo>
                        <a:pt x="0" y="321945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1" name="グループ化 20"/>
              <p:cNvGrpSpPr/>
              <p:nvPr/>
            </p:nvGrpSpPr>
            <p:grpSpPr>
              <a:xfrm>
                <a:off x="5401080" y="1963440"/>
                <a:ext cx="431640" cy="431640"/>
                <a:chOff x="5401080" y="1963440"/>
                <a:chExt cx="431640" cy="431640"/>
              </a:xfrm>
            </p:grpSpPr>
            <p:sp>
              <p:nvSpPr>
                <p:cNvPr id="22" name="フリーフォーム 43"/>
                <p:cNvSpPr/>
                <p:nvPr/>
              </p:nvSpPr>
              <p:spPr>
                <a:xfrm rot="5400000">
                  <a:off x="5455080" y="2017440"/>
                  <a:ext cx="431640" cy="323640"/>
                </a:xfrm>
                <a:custGeom>
                  <a:avLst/>
                  <a:gdLst/>
                  <a:ahLst/>
                  <a:rect l="l" t="t" r="r" b="b"/>
                  <a:pathLst>
                    <a:path w="434340" h="321945">
                      <a:moveTo>
                        <a:pt x="434340" y="0"/>
                      </a:moveTo>
                      <a:lnTo>
                        <a:pt x="434340" y="321945"/>
                      </a:lnTo>
                      <a:lnTo>
                        <a:pt x="0" y="321945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" name="フリーフォーム 44"/>
                <p:cNvSpPr/>
                <p:nvPr/>
              </p:nvSpPr>
              <p:spPr>
                <a:xfrm rot="5400000">
                  <a:off x="5455080" y="1909440"/>
                  <a:ext cx="323640" cy="431640"/>
                </a:xfrm>
                <a:custGeom>
                  <a:avLst/>
                  <a:gdLst/>
                  <a:ahLst/>
                  <a:rect l="l" t="t" r="r" b="b"/>
                  <a:pathLst>
                    <a:path w="434340" h="321945">
                      <a:moveTo>
                        <a:pt x="434340" y="0"/>
                      </a:moveTo>
                      <a:lnTo>
                        <a:pt x="434340" y="321945"/>
                      </a:lnTo>
                      <a:lnTo>
                        <a:pt x="0" y="321945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4" name="グループ化 23"/>
              <p:cNvGrpSpPr/>
              <p:nvPr/>
            </p:nvGrpSpPr>
            <p:grpSpPr>
              <a:xfrm>
                <a:off x="5401080" y="8405640"/>
                <a:ext cx="431640" cy="431640"/>
                <a:chOff x="5401080" y="8405640"/>
                <a:chExt cx="431640" cy="431640"/>
              </a:xfrm>
            </p:grpSpPr>
            <p:sp>
              <p:nvSpPr>
                <p:cNvPr id="25" name="フリーフォーム 43"/>
                <p:cNvSpPr/>
                <p:nvPr/>
              </p:nvSpPr>
              <p:spPr>
                <a:xfrm rot="10800000">
                  <a:off x="5401080" y="8513640"/>
                  <a:ext cx="431640" cy="323640"/>
                </a:xfrm>
                <a:custGeom>
                  <a:avLst/>
                  <a:gdLst/>
                  <a:ahLst/>
                  <a:rect l="l" t="t" r="r" b="b"/>
                  <a:pathLst>
                    <a:path w="434340" h="321945">
                      <a:moveTo>
                        <a:pt x="434340" y="0"/>
                      </a:moveTo>
                      <a:lnTo>
                        <a:pt x="434340" y="321945"/>
                      </a:lnTo>
                      <a:lnTo>
                        <a:pt x="0" y="321945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" name="フリーフォーム 44"/>
                <p:cNvSpPr/>
                <p:nvPr/>
              </p:nvSpPr>
              <p:spPr>
                <a:xfrm rot="10800000">
                  <a:off x="5509080" y="8405640"/>
                  <a:ext cx="323640" cy="431640"/>
                </a:xfrm>
                <a:custGeom>
                  <a:avLst/>
                  <a:gdLst/>
                  <a:ahLst/>
                  <a:rect l="l" t="t" r="r" b="b"/>
                  <a:pathLst>
                    <a:path w="434340" h="321945">
                      <a:moveTo>
                        <a:pt x="434340" y="0"/>
                      </a:moveTo>
                      <a:lnTo>
                        <a:pt x="434340" y="321945"/>
                      </a:lnTo>
                      <a:lnTo>
                        <a:pt x="0" y="321945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7" name="グループ化 20"/>
              <p:cNvGrpSpPr/>
              <p:nvPr/>
            </p:nvGrpSpPr>
            <p:grpSpPr>
              <a:xfrm>
                <a:off x="1369080" y="8405640"/>
                <a:ext cx="431640" cy="431640"/>
                <a:chOff x="1369080" y="8405640"/>
                <a:chExt cx="431640" cy="431640"/>
              </a:xfrm>
            </p:grpSpPr>
            <p:sp>
              <p:nvSpPr>
                <p:cNvPr id="28" name="フリーフォーム 43"/>
                <p:cNvSpPr/>
                <p:nvPr/>
              </p:nvSpPr>
              <p:spPr>
                <a:xfrm rot="16200000">
                  <a:off x="1315080" y="8459640"/>
                  <a:ext cx="431640" cy="323640"/>
                </a:xfrm>
                <a:custGeom>
                  <a:avLst/>
                  <a:gdLst/>
                  <a:ahLst/>
                  <a:rect l="l" t="t" r="r" b="b"/>
                  <a:pathLst>
                    <a:path w="434340" h="321945">
                      <a:moveTo>
                        <a:pt x="434340" y="0"/>
                      </a:moveTo>
                      <a:lnTo>
                        <a:pt x="434340" y="321945"/>
                      </a:lnTo>
                      <a:lnTo>
                        <a:pt x="0" y="321945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9" name="フリーフォーム 44"/>
                <p:cNvSpPr/>
                <p:nvPr/>
              </p:nvSpPr>
              <p:spPr>
                <a:xfrm rot="16200000">
                  <a:off x="1423080" y="8459280"/>
                  <a:ext cx="323640" cy="431640"/>
                </a:xfrm>
                <a:custGeom>
                  <a:avLst/>
                  <a:gdLst/>
                  <a:ahLst/>
                  <a:rect l="l" t="t" r="r" b="b"/>
                  <a:pathLst>
                    <a:path w="434340" h="321945">
                      <a:moveTo>
                        <a:pt x="434340" y="0"/>
                      </a:moveTo>
                      <a:lnTo>
                        <a:pt x="434340" y="321945"/>
                      </a:lnTo>
                      <a:lnTo>
                        <a:pt x="0" y="321945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0" name="グループ化 10"/>
              <p:cNvGrpSpPr/>
              <p:nvPr/>
            </p:nvGrpSpPr>
            <p:grpSpPr>
              <a:xfrm>
                <a:off x="3141000" y="8529480"/>
                <a:ext cx="916200" cy="304560"/>
                <a:chOff x="3141000" y="8529480"/>
                <a:chExt cx="916200" cy="304560"/>
              </a:xfrm>
            </p:grpSpPr>
            <p:sp>
              <p:nvSpPr>
                <p:cNvPr id="31" name="Line 136"/>
                <p:cNvSpPr/>
                <p:nvPr/>
              </p:nvSpPr>
              <p:spPr>
                <a:xfrm flipH="1">
                  <a:off x="3141000" y="8605440"/>
                  <a:ext cx="9162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" name="Line 137"/>
                <p:cNvSpPr/>
                <p:nvPr/>
              </p:nvSpPr>
              <p:spPr>
                <a:xfrm flipV="1">
                  <a:off x="3598200" y="8529480"/>
                  <a:ext cx="0" cy="3045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3" name="グループ化 13"/>
              <p:cNvGrpSpPr/>
              <p:nvPr/>
            </p:nvGrpSpPr>
            <p:grpSpPr>
              <a:xfrm>
                <a:off x="5531040" y="4942080"/>
                <a:ext cx="304560" cy="915840"/>
                <a:chOff x="5531040" y="4942080"/>
                <a:chExt cx="304560" cy="915840"/>
              </a:xfrm>
            </p:grpSpPr>
            <p:sp>
              <p:nvSpPr>
                <p:cNvPr id="34" name="Line 136"/>
                <p:cNvSpPr/>
                <p:nvPr/>
              </p:nvSpPr>
              <p:spPr>
                <a:xfrm>
                  <a:off x="5607000" y="4942080"/>
                  <a:ext cx="0" cy="9158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5" name="Line 137"/>
                <p:cNvSpPr/>
                <p:nvPr/>
              </p:nvSpPr>
              <p:spPr>
                <a:xfrm flipH="1">
                  <a:off x="5531040" y="5400720"/>
                  <a:ext cx="3045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6" name="グループ化 16"/>
              <p:cNvGrpSpPr/>
              <p:nvPr/>
            </p:nvGrpSpPr>
            <p:grpSpPr>
              <a:xfrm>
                <a:off x="1363680" y="4942080"/>
                <a:ext cx="304560" cy="915840"/>
                <a:chOff x="1363680" y="4942080"/>
                <a:chExt cx="304560" cy="915840"/>
              </a:xfrm>
            </p:grpSpPr>
            <p:sp>
              <p:nvSpPr>
                <p:cNvPr id="37" name="Line 136"/>
                <p:cNvSpPr/>
                <p:nvPr/>
              </p:nvSpPr>
              <p:spPr>
                <a:xfrm flipV="1">
                  <a:off x="1592280" y="4942080"/>
                  <a:ext cx="0" cy="9158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" name="Line 137"/>
                <p:cNvSpPr/>
                <p:nvPr/>
              </p:nvSpPr>
              <p:spPr>
                <a:xfrm>
                  <a:off x="1363680" y="5399280"/>
                  <a:ext cx="3045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9" name="グループ化 4"/>
              <p:cNvGrpSpPr/>
              <p:nvPr/>
            </p:nvGrpSpPr>
            <p:grpSpPr>
              <a:xfrm>
                <a:off x="3141360" y="1963080"/>
                <a:ext cx="916200" cy="304560"/>
                <a:chOff x="3141360" y="1963080"/>
                <a:chExt cx="916200" cy="304560"/>
              </a:xfrm>
            </p:grpSpPr>
            <p:sp>
              <p:nvSpPr>
                <p:cNvPr id="40" name="Line 136"/>
                <p:cNvSpPr/>
                <p:nvPr/>
              </p:nvSpPr>
              <p:spPr>
                <a:xfrm>
                  <a:off x="3141360" y="2191680"/>
                  <a:ext cx="9162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1" name="Line 137"/>
                <p:cNvSpPr/>
                <p:nvPr/>
              </p:nvSpPr>
              <p:spPr>
                <a:xfrm>
                  <a:off x="3600360" y="1963080"/>
                  <a:ext cx="0" cy="3045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2" name="Line 137"/>
                <p:cNvSpPr/>
                <p:nvPr/>
              </p:nvSpPr>
              <p:spPr>
                <a:xfrm>
                  <a:off x="3438000" y="1963080"/>
                  <a:ext cx="0" cy="3045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3" name="Line 137"/>
                <p:cNvSpPr/>
                <p:nvPr/>
              </p:nvSpPr>
              <p:spPr>
                <a:xfrm>
                  <a:off x="3762720" y="1963080"/>
                  <a:ext cx="0" cy="3045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44" name="グループ化 4"/>
            <p:cNvGrpSpPr/>
            <p:nvPr/>
          </p:nvGrpSpPr>
          <p:grpSpPr>
            <a:xfrm>
              <a:off x="1363680" y="1955880"/>
              <a:ext cx="4035600" cy="6445800"/>
              <a:chOff x="1363680" y="1955880"/>
              <a:chExt cx="4035600" cy="6445800"/>
            </a:xfrm>
          </p:grpSpPr>
          <p:cxnSp>
            <p:nvCxnSpPr>
              <p:cNvPr id="45" name="直線矢印コネクタ 55"/>
              <p:cNvCxnSpPr/>
              <p:nvPr/>
            </p:nvCxnSpPr>
            <p:spPr>
              <a:xfrm>
                <a:off x="1799640" y="2125080"/>
                <a:ext cx="1639080" cy="108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  <a:headEnd len="med" type="triangle" w="sm"/>
                <a:tailEnd len="med" type="triangle" w="sm"/>
              </a:ln>
            </p:spPr>
          </p:cxnSp>
          <p:cxnSp>
            <p:nvCxnSpPr>
              <p:cNvPr id="46" name="直線矢印コネクタ 58"/>
              <p:cNvCxnSpPr/>
              <p:nvPr/>
            </p:nvCxnSpPr>
            <p:spPr>
              <a:xfrm flipV="1">
                <a:off x="1530000" y="2388960"/>
                <a:ext cx="1080" cy="367128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  <a:headEnd len="med" type="triangle" w="sm"/>
                <a:tailEnd len="med" type="triangle" w="sm"/>
              </a:ln>
            </p:spPr>
          </p:cxnSp>
          <p:sp>
            <p:nvSpPr>
              <p:cNvPr id="47" name="テキスト ボックス 207"/>
              <p:cNvSpPr/>
              <p:nvPr/>
            </p:nvSpPr>
            <p:spPr>
              <a:xfrm rot="16200000">
                <a:off x="1315800" y="3994560"/>
                <a:ext cx="568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521000"/>
                    <a:tab algn="l" pos="3041640"/>
                    <a:tab algn="l" pos="4562640"/>
                    <a:tab algn="l" pos="6083280"/>
                    <a:tab algn="l" pos="7604280"/>
                    <a:tab algn="l" pos="9124920"/>
                    <a:tab algn="l" pos="1064592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102mm           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48" name="直線矢印コネクタ 62"/>
              <p:cNvCxnSpPr/>
              <p:nvPr/>
            </p:nvCxnSpPr>
            <p:spPr>
              <a:xfrm>
                <a:off x="3438360" y="2125080"/>
                <a:ext cx="324360" cy="108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  <a:headEnd len="med" type="triangle" w="sm"/>
                <a:tailEnd len="med" type="triangle" w="sm"/>
              </a:ln>
            </p:spPr>
          </p:cxnSp>
          <p:cxnSp>
            <p:nvCxnSpPr>
              <p:cNvPr id="49" name="直線矢印コネクタ 63"/>
              <p:cNvCxnSpPr/>
              <p:nvPr/>
            </p:nvCxnSpPr>
            <p:spPr>
              <a:xfrm>
                <a:off x="3760560" y="2125080"/>
                <a:ext cx="1639080" cy="108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  <a:headEnd len="med" type="triangle" w="sm"/>
                <a:tailEnd len="med" type="triangle" w="sm"/>
              </a:ln>
            </p:spPr>
          </p:cxnSp>
          <p:cxnSp>
            <p:nvCxnSpPr>
              <p:cNvPr id="50" name="直線矢印コネクタ 66"/>
              <p:cNvCxnSpPr/>
              <p:nvPr/>
            </p:nvCxnSpPr>
            <p:spPr>
              <a:xfrm flipV="1">
                <a:off x="1530000" y="6061680"/>
                <a:ext cx="1080" cy="234036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  <a:headEnd len="med" type="triangle" w="sm"/>
                <a:tailEnd len="med" type="triangle" w="sm"/>
              </a:ln>
            </p:spPr>
          </p:cxnSp>
          <p:sp>
            <p:nvSpPr>
              <p:cNvPr id="51" name="テキスト ボックス 207"/>
              <p:cNvSpPr/>
              <p:nvPr/>
            </p:nvSpPr>
            <p:spPr>
              <a:xfrm rot="16200000">
                <a:off x="1308960" y="7002000"/>
                <a:ext cx="568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521000"/>
                    <a:tab algn="l" pos="3041640"/>
                    <a:tab algn="l" pos="4562640"/>
                    <a:tab algn="l" pos="6083280"/>
                    <a:tab algn="l" pos="7604280"/>
                    <a:tab algn="l" pos="9124920"/>
                    <a:tab algn="l" pos="1064592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65mm           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" name="テキスト ボックス 207"/>
              <p:cNvSpPr/>
              <p:nvPr/>
            </p:nvSpPr>
            <p:spPr>
              <a:xfrm>
                <a:off x="2346120" y="1955880"/>
                <a:ext cx="546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521000"/>
                    <a:tab algn="l" pos="3041640"/>
                    <a:tab algn="l" pos="4562640"/>
                    <a:tab algn="l" pos="6083280"/>
                    <a:tab algn="l" pos="7604280"/>
                    <a:tab algn="l" pos="9124920"/>
                    <a:tab algn="l" pos="1064592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45.5mm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" name="テキスト ボックス 207"/>
              <p:cNvSpPr/>
              <p:nvPr/>
            </p:nvSpPr>
            <p:spPr>
              <a:xfrm>
                <a:off x="3423960" y="1958040"/>
                <a:ext cx="3636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521000"/>
                    <a:tab algn="l" pos="3041640"/>
                    <a:tab algn="l" pos="4562640"/>
                    <a:tab algn="l" pos="6083280"/>
                    <a:tab algn="l" pos="7604280"/>
                    <a:tab algn="l" pos="9124920"/>
                    <a:tab algn="l" pos="1064592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9mm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" name="テキスト ボックス 207"/>
              <p:cNvSpPr/>
              <p:nvPr/>
            </p:nvSpPr>
            <p:spPr>
              <a:xfrm>
                <a:off x="4306680" y="1960560"/>
                <a:ext cx="546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521000"/>
                    <a:tab algn="l" pos="3041640"/>
                    <a:tab algn="l" pos="4562640"/>
                    <a:tab algn="l" pos="6083280"/>
                    <a:tab algn="l" pos="7604280"/>
                    <a:tab algn="l" pos="9124920"/>
                    <a:tab algn="l" pos="1064592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45.5mm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" name="Line 145"/>
              <p:cNvSpPr/>
              <p:nvPr/>
            </p:nvSpPr>
            <p:spPr>
              <a:xfrm>
                <a:off x="1363680" y="6059520"/>
                <a:ext cx="3045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56" name="図 2" descr="ダイアグラム&#10;&#10;低い精度で自動的に生成された説明"/>
          <p:cNvPicPr/>
          <p:nvPr/>
        </p:nvPicPr>
        <p:blipFill>
          <a:blip r:embed="rId3"/>
          <a:stretch/>
        </p:blipFill>
        <p:spPr>
          <a:xfrm>
            <a:off x="7483320" y="0"/>
            <a:ext cx="3794400" cy="1079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3T03:18:39Z</dcterms:created>
  <dc:creator>川越</dc:creator>
  <dc:description/>
  <dc:language>en-US</dc:language>
  <cp:lastModifiedBy>Eximage-24</cp:lastModifiedBy>
  <dcterms:modified xsi:type="dcterms:W3CDTF">2025-01-30T03:23:44Z</dcterms:modified>
  <cp:revision>66</cp:revision>
  <dc:subject/>
  <dc:title>PowerPoint プレゼンテーション</dc:title>
</cp:coreProperties>
</file>