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8000663" cy="12599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0000" y="-11045520"/>
            <a:ext cx="16199640" cy="252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6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00000" y="2948400"/>
            <a:ext cx="16199640" cy="348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>
              <a:spcBef>
                <a:spcPts val="11599"/>
              </a:spcBef>
              <a:buNone/>
            </a:pPr>
            <a:endParaRPr b="0" lang="en-US" sz="4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00000" y="6765480"/>
            <a:ext cx="16199640" cy="348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>
              <a:spcBef>
                <a:spcPts val="11599"/>
              </a:spcBef>
              <a:buNone/>
            </a:pPr>
            <a:endParaRPr b="0" lang="en-US" sz="46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00000" y="-11045520"/>
            <a:ext cx="16199640" cy="252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6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00000" y="2948400"/>
            <a:ext cx="7905240" cy="348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3000"/>
          </a:bodyPr>
          <a:p>
            <a:pPr indent="0">
              <a:spcBef>
                <a:spcPts val="11599"/>
              </a:spcBef>
              <a:buNone/>
            </a:pPr>
            <a:endParaRPr b="0" lang="en-US" sz="4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200880" y="2948400"/>
            <a:ext cx="7905240" cy="348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3000"/>
          </a:bodyPr>
          <a:p>
            <a:pPr indent="0">
              <a:spcBef>
                <a:spcPts val="11599"/>
              </a:spcBef>
              <a:buNone/>
            </a:pPr>
            <a:endParaRPr b="0" lang="en-US" sz="4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00000" y="6765480"/>
            <a:ext cx="7905240" cy="348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3000"/>
          </a:bodyPr>
          <a:p>
            <a:pPr indent="0">
              <a:spcBef>
                <a:spcPts val="11599"/>
              </a:spcBef>
              <a:buNone/>
            </a:pPr>
            <a:endParaRPr b="0" lang="en-US" sz="4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9200880" y="6765480"/>
            <a:ext cx="7905240" cy="348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3000"/>
          </a:bodyPr>
          <a:p>
            <a:pPr indent="0">
              <a:spcBef>
                <a:spcPts val="11599"/>
              </a:spcBef>
              <a:buNone/>
            </a:pPr>
            <a:endParaRPr b="0" lang="en-US" sz="46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00000" y="-11045520"/>
            <a:ext cx="16199640" cy="252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6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00000" y="2948400"/>
            <a:ext cx="5216040" cy="348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0000"/>
          </a:bodyPr>
          <a:p>
            <a:pPr indent="0">
              <a:spcBef>
                <a:spcPts val="11599"/>
              </a:spcBef>
              <a:buNone/>
            </a:pPr>
            <a:endParaRPr b="0" lang="en-US" sz="4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377400" y="2948400"/>
            <a:ext cx="5216040" cy="348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0000"/>
          </a:bodyPr>
          <a:p>
            <a:pPr indent="0">
              <a:spcBef>
                <a:spcPts val="11599"/>
              </a:spcBef>
              <a:buNone/>
            </a:pPr>
            <a:endParaRPr b="0" lang="en-US" sz="4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854440" y="2948400"/>
            <a:ext cx="5216040" cy="348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0000"/>
          </a:bodyPr>
          <a:p>
            <a:pPr indent="0">
              <a:spcBef>
                <a:spcPts val="11599"/>
              </a:spcBef>
              <a:buNone/>
            </a:pPr>
            <a:endParaRPr b="0" lang="en-US" sz="4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00000" y="6765480"/>
            <a:ext cx="5216040" cy="348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0000"/>
          </a:bodyPr>
          <a:p>
            <a:pPr indent="0">
              <a:spcBef>
                <a:spcPts val="11599"/>
              </a:spcBef>
              <a:buNone/>
            </a:pPr>
            <a:endParaRPr b="0" lang="en-US" sz="4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6377400" y="6765480"/>
            <a:ext cx="5216040" cy="348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0000"/>
          </a:bodyPr>
          <a:p>
            <a:pPr indent="0">
              <a:spcBef>
                <a:spcPts val="11599"/>
              </a:spcBef>
              <a:buNone/>
            </a:pPr>
            <a:endParaRPr b="0" lang="en-US" sz="4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11854440" y="6765480"/>
            <a:ext cx="5216040" cy="348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0000"/>
          </a:bodyPr>
          <a:p>
            <a:pPr indent="0">
              <a:spcBef>
                <a:spcPts val="11599"/>
              </a:spcBef>
              <a:buNone/>
            </a:pPr>
            <a:endParaRPr b="0" lang="en-US" sz="46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00000" y="-11045520"/>
            <a:ext cx="16199640" cy="252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6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00000" y="-4004640"/>
            <a:ext cx="16199640" cy="2121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599"/>
              </a:spcBef>
              <a:buNone/>
              <a:tabLst>
                <a:tab algn="l" pos="0"/>
              </a:tabLst>
            </a:pPr>
            <a:endParaRPr b="0" lang="en-US" sz="46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0000" y="-11045520"/>
            <a:ext cx="16199640" cy="252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6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00000" y="2948400"/>
            <a:ext cx="16199640" cy="730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11599"/>
              </a:spcBef>
              <a:buNone/>
            </a:pPr>
            <a:endParaRPr b="0" lang="en-US" sz="46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-11045520"/>
            <a:ext cx="16199640" cy="252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6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00000" y="2948400"/>
            <a:ext cx="7905240" cy="730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4000"/>
          </a:bodyPr>
          <a:p>
            <a:pPr indent="0">
              <a:spcBef>
                <a:spcPts val="11599"/>
              </a:spcBef>
              <a:buNone/>
            </a:pPr>
            <a:endParaRPr b="0" lang="en-US" sz="4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9200880" y="2948400"/>
            <a:ext cx="7905240" cy="730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4000"/>
          </a:bodyPr>
          <a:p>
            <a:pPr indent="0">
              <a:spcBef>
                <a:spcPts val="11599"/>
              </a:spcBef>
              <a:buNone/>
            </a:pPr>
            <a:endParaRPr b="0" lang="en-US" sz="46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0000" y="-11045520"/>
            <a:ext cx="16199640" cy="252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6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00000" y="-5227560"/>
            <a:ext cx="16199640" cy="2121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599"/>
              </a:spcBef>
              <a:tabLst>
                <a:tab algn="l" pos="0"/>
              </a:tabLst>
            </a:pPr>
            <a:endParaRPr b="0" lang="en-US" sz="46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0000" y="-11045520"/>
            <a:ext cx="16199640" cy="252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6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00000" y="2948400"/>
            <a:ext cx="7905240" cy="348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3000"/>
          </a:bodyPr>
          <a:p>
            <a:pPr indent="0">
              <a:spcBef>
                <a:spcPts val="11599"/>
              </a:spcBef>
              <a:buNone/>
            </a:pPr>
            <a:endParaRPr b="0" lang="en-US" sz="4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9200880" y="2948400"/>
            <a:ext cx="7905240" cy="730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4000"/>
          </a:bodyPr>
          <a:p>
            <a:pPr indent="0">
              <a:spcBef>
                <a:spcPts val="11599"/>
              </a:spcBef>
              <a:buNone/>
            </a:pPr>
            <a:endParaRPr b="0" lang="en-US" sz="4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00000" y="6765480"/>
            <a:ext cx="7905240" cy="348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3000"/>
          </a:bodyPr>
          <a:p>
            <a:pPr indent="0">
              <a:spcBef>
                <a:spcPts val="11599"/>
              </a:spcBef>
              <a:buNone/>
            </a:pPr>
            <a:endParaRPr b="0" lang="en-US" sz="46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00000" y="-11045520"/>
            <a:ext cx="16199640" cy="252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6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0000" y="2948400"/>
            <a:ext cx="7905240" cy="730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4000"/>
          </a:bodyPr>
          <a:p>
            <a:pPr indent="0">
              <a:spcBef>
                <a:spcPts val="11599"/>
              </a:spcBef>
              <a:buNone/>
            </a:pPr>
            <a:endParaRPr b="0" lang="en-US" sz="4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9200880" y="2948400"/>
            <a:ext cx="7905240" cy="348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3000"/>
          </a:bodyPr>
          <a:p>
            <a:pPr indent="0">
              <a:spcBef>
                <a:spcPts val="11599"/>
              </a:spcBef>
              <a:buNone/>
            </a:pPr>
            <a:endParaRPr b="0" lang="en-US" sz="4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200880" y="6765480"/>
            <a:ext cx="7905240" cy="348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3000"/>
          </a:bodyPr>
          <a:p>
            <a:pPr indent="0">
              <a:spcBef>
                <a:spcPts val="11599"/>
              </a:spcBef>
              <a:buNone/>
            </a:pPr>
            <a:endParaRPr b="0" lang="en-US" sz="46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00000" y="-11045520"/>
            <a:ext cx="16199640" cy="252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6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00000" y="2948400"/>
            <a:ext cx="7905240" cy="348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3000"/>
          </a:bodyPr>
          <a:p>
            <a:pPr indent="0">
              <a:spcBef>
                <a:spcPts val="11599"/>
              </a:spcBef>
              <a:buNone/>
            </a:pPr>
            <a:endParaRPr b="0" lang="en-US" sz="4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9200880" y="2948400"/>
            <a:ext cx="7905240" cy="348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3000"/>
          </a:bodyPr>
          <a:p>
            <a:pPr indent="0">
              <a:spcBef>
                <a:spcPts val="11599"/>
              </a:spcBef>
              <a:buNone/>
            </a:pPr>
            <a:endParaRPr b="0" lang="en-US" sz="4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00000" y="6765480"/>
            <a:ext cx="16199640" cy="348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>
              <a:spcBef>
                <a:spcPts val="11599"/>
              </a:spcBef>
              <a:buNone/>
            </a:pPr>
            <a:endParaRPr b="0" lang="en-US" sz="46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20"/>
          <p:cNvGrpSpPr/>
          <p:nvPr/>
        </p:nvGrpSpPr>
        <p:grpSpPr>
          <a:xfrm>
            <a:off x="1514520" y="1878120"/>
            <a:ext cx="14971680" cy="8843760"/>
            <a:chOff x="1514520" y="1878120"/>
            <a:chExt cx="14971680" cy="8843760"/>
          </a:xfrm>
        </p:grpSpPr>
        <p:grpSp>
          <p:nvGrpSpPr>
            <p:cNvPr id="1" name="グループ化 18"/>
            <p:cNvGrpSpPr/>
            <p:nvPr/>
          </p:nvGrpSpPr>
          <p:grpSpPr>
            <a:xfrm>
              <a:off x="1908360" y="2446560"/>
              <a:ext cx="14196600" cy="7932240"/>
              <a:chOff x="1908360" y="2446560"/>
              <a:chExt cx="14196600" cy="7932240"/>
            </a:xfrm>
          </p:grpSpPr>
          <p:sp>
            <p:nvSpPr>
              <p:cNvPr id="2" name="Freeform 5"/>
              <p:cNvSpPr/>
              <p:nvPr/>
            </p:nvSpPr>
            <p:spPr>
              <a:xfrm>
                <a:off x="1908360" y="2446560"/>
                <a:ext cx="7790040" cy="5529600"/>
              </a:xfrm>
              <a:custGeom>
                <a:avLst/>
                <a:gdLst/>
                <a:ahLst/>
                <a:rect l="l" t="t" r="r" b="b"/>
                <a:pathLst>
                  <a:path w="4904" h="3482">
                    <a:moveTo>
                      <a:pt x="0" y="1131"/>
                    </a:moveTo>
                    <a:lnTo>
                      <a:pt x="1271" y="3482"/>
                    </a:lnTo>
                    <a:lnTo>
                      <a:pt x="4904" y="0"/>
                    </a:lnTo>
                    <a:lnTo>
                      <a:pt x="0" y="1131"/>
                    </a:lnTo>
                    <a:close/>
                  </a:path>
                </a:pathLst>
              </a:custGeom>
              <a:noFill/>
              <a:ln w="3240">
                <a:solidFill>
                  <a:srgbClr val="9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" name="Freeform 6"/>
              <p:cNvSpPr/>
              <p:nvPr/>
            </p:nvSpPr>
            <p:spPr>
              <a:xfrm>
                <a:off x="10298880" y="2570400"/>
                <a:ext cx="5806080" cy="7751520"/>
              </a:xfrm>
              <a:custGeom>
                <a:avLst/>
                <a:gdLst/>
                <a:ahLst/>
                <a:rect l="l" t="t" r="r" b="b"/>
                <a:pathLst>
                  <a:path w="3655" h="4881">
                    <a:moveTo>
                      <a:pt x="3655" y="3502"/>
                    </a:moveTo>
                    <a:lnTo>
                      <a:pt x="0" y="0"/>
                    </a:lnTo>
                    <a:lnTo>
                      <a:pt x="1345" y="4881"/>
                    </a:lnTo>
                    <a:lnTo>
                      <a:pt x="3655" y="3502"/>
                    </a:lnTo>
                    <a:close/>
                  </a:path>
                </a:pathLst>
              </a:custGeom>
              <a:noFill/>
              <a:ln w="3240">
                <a:solidFill>
                  <a:srgbClr val="9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" name="Freeform 7"/>
              <p:cNvSpPr/>
              <p:nvPr/>
            </p:nvSpPr>
            <p:spPr>
              <a:xfrm>
                <a:off x="4076640" y="2570400"/>
                <a:ext cx="5806080" cy="7751520"/>
              </a:xfrm>
              <a:custGeom>
                <a:avLst/>
                <a:gdLst/>
                <a:ahLst/>
                <a:rect l="l" t="t" r="r" b="b"/>
                <a:pathLst>
                  <a:path w="3655" h="4881">
                    <a:moveTo>
                      <a:pt x="3655" y="0"/>
                    </a:moveTo>
                    <a:lnTo>
                      <a:pt x="0" y="3504"/>
                    </a:lnTo>
                    <a:lnTo>
                      <a:pt x="2310" y="4881"/>
                    </a:lnTo>
                    <a:lnTo>
                      <a:pt x="3655" y="0"/>
                    </a:lnTo>
                    <a:close/>
                  </a:path>
                </a:pathLst>
              </a:custGeom>
              <a:noFill/>
              <a:ln w="3240">
                <a:solidFill>
                  <a:srgbClr val="9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" name="Freeform 8"/>
              <p:cNvSpPr/>
              <p:nvPr/>
            </p:nvSpPr>
            <p:spPr>
              <a:xfrm>
                <a:off x="7956000" y="2627280"/>
                <a:ext cx="4273200" cy="7751520"/>
              </a:xfrm>
              <a:custGeom>
                <a:avLst/>
                <a:gdLst/>
                <a:ahLst/>
                <a:rect l="l" t="t" r="r" b="b"/>
                <a:pathLst>
                  <a:path w="2690" h="4881">
                    <a:moveTo>
                      <a:pt x="0" y="4881"/>
                    </a:moveTo>
                    <a:lnTo>
                      <a:pt x="2690" y="4881"/>
                    </a:lnTo>
                    <a:lnTo>
                      <a:pt x="1345" y="0"/>
                    </a:lnTo>
                    <a:lnTo>
                      <a:pt x="0" y="4881"/>
                    </a:lnTo>
                    <a:close/>
                  </a:path>
                </a:pathLst>
              </a:custGeom>
              <a:noFill/>
              <a:ln w="3240">
                <a:solidFill>
                  <a:srgbClr val="9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" name="グループ化 19"/>
            <p:cNvGrpSpPr/>
            <p:nvPr/>
          </p:nvGrpSpPr>
          <p:grpSpPr>
            <a:xfrm>
              <a:off x="1625400" y="1957320"/>
              <a:ext cx="14752800" cy="8656560"/>
              <a:chOff x="1625400" y="1957320"/>
              <a:chExt cx="14752800" cy="86565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7742880" y="1957320"/>
                <a:ext cx="1787040" cy="787680"/>
              </a:xfrm>
              <a:custGeom>
                <a:avLst/>
                <a:gdLst/>
                <a:ahLst/>
                <a:rect l="l" t="t" r="r" b="b"/>
                <a:pathLst>
                  <a:path w="563" h="248">
                    <a:moveTo>
                      <a:pt x="563" y="123"/>
                    </a:moveTo>
                    <a:cubicBezTo>
                      <a:pt x="553" y="79"/>
                      <a:pt x="553" y="79"/>
                      <a:pt x="553" y="79"/>
                    </a:cubicBezTo>
                    <a:cubicBezTo>
                      <a:pt x="541" y="30"/>
                      <a:pt x="493" y="0"/>
                      <a:pt x="444" y="11"/>
                    </a:cubicBezTo>
                    <a:cubicBezTo>
                      <a:pt x="79" y="95"/>
                      <a:pt x="79" y="95"/>
                      <a:pt x="79" y="95"/>
                    </a:cubicBezTo>
                    <a:cubicBezTo>
                      <a:pt x="30" y="107"/>
                      <a:pt x="0" y="155"/>
                      <a:pt x="11" y="204"/>
                    </a:cubicBezTo>
                    <a:cubicBezTo>
                      <a:pt x="22" y="248"/>
                      <a:pt x="22" y="248"/>
                      <a:pt x="22" y="248"/>
                    </a:cubicBezTo>
                  </a:path>
                </a:pathLst>
              </a:custGeom>
              <a:noFill/>
              <a:ln w="3240">
                <a:solidFill>
                  <a:srgbClr val="ff3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881960" y="2617920"/>
                <a:ext cx="1788480" cy="787680"/>
              </a:xfrm>
              <a:custGeom>
                <a:avLst/>
                <a:gdLst/>
                <a:ahLst/>
                <a:rect l="l" t="t" r="r" b="b"/>
                <a:pathLst>
                  <a:path w="563" h="248">
                    <a:moveTo>
                      <a:pt x="563" y="123"/>
                    </a:moveTo>
                    <a:cubicBezTo>
                      <a:pt x="552" y="79"/>
                      <a:pt x="552" y="79"/>
                      <a:pt x="552" y="79"/>
                    </a:cubicBezTo>
                    <a:cubicBezTo>
                      <a:pt x="541" y="30"/>
                      <a:pt x="493" y="0"/>
                      <a:pt x="444" y="11"/>
                    </a:cubicBezTo>
                    <a:cubicBezTo>
                      <a:pt x="79" y="95"/>
                      <a:pt x="79" y="95"/>
                      <a:pt x="79" y="95"/>
                    </a:cubicBezTo>
                    <a:cubicBezTo>
                      <a:pt x="30" y="106"/>
                      <a:pt x="0" y="155"/>
                      <a:pt x="11" y="204"/>
                    </a:cubicBezTo>
                    <a:cubicBezTo>
                      <a:pt x="21" y="248"/>
                      <a:pt x="21" y="248"/>
                      <a:pt x="21" y="248"/>
                    </a:cubicBezTo>
                  </a:path>
                </a:pathLst>
              </a:custGeom>
              <a:noFill/>
              <a:ln w="3240">
                <a:solidFill>
                  <a:srgbClr val="ff3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2025720" y="3275280"/>
                <a:ext cx="1787040" cy="785880"/>
              </a:xfrm>
              <a:custGeom>
                <a:avLst/>
                <a:gdLst/>
                <a:ahLst/>
                <a:rect l="l" t="t" r="r" b="b"/>
                <a:pathLst>
                  <a:path w="563" h="248">
                    <a:moveTo>
                      <a:pt x="563" y="123"/>
                    </a:moveTo>
                    <a:cubicBezTo>
                      <a:pt x="553" y="79"/>
                      <a:pt x="553" y="79"/>
                      <a:pt x="553" y="79"/>
                    </a:cubicBezTo>
                    <a:cubicBezTo>
                      <a:pt x="541" y="30"/>
                      <a:pt x="493" y="0"/>
                      <a:pt x="444" y="11"/>
                    </a:cubicBezTo>
                    <a:cubicBezTo>
                      <a:pt x="79" y="95"/>
                      <a:pt x="79" y="95"/>
                      <a:pt x="79" y="95"/>
                    </a:cubicBezTo>
                    <a:cubicBezTo>
                      <a:pt x="30" y="107"/>
                      <a:pt x="0" y="155"/>
                      <a:pt x="11" y="204"/>
                    </a:cubicBezTo>
                    <a:cubicBezTo>
                      <a:pt x="22" y="248"/>
                      <a:pt x="22" y="248"/>
                      <a:pt x="22" y="248"/>
                    </a:cubicBezTo>
                  </a:path>
                </a:pathLst>
              </a:custGeom>
              <a:noFill/>
              <a:ln w="3240">
                <a:solidFill>
                  <a:srgbClr val="ff3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1625400" y="2236680"/>
                <a:ext cx="14752800" cy="8377200"/>
              </a:xfrm>
              <a:custGeom>
                <a:avLst/>
                <a:gdLst/>
                <a:ahLst/>
                <a:rect l="l" t="t" r="r" b="b"/>
                <a:pathLst>
                  <a:path w="4647" h="2639">
                    <a:moveTo>
                      <a:pt x="4647" y="1892"/>
                    </a:moveTo>
                    <a:cubicBezTo>
                      <a:pt x="4357" y="2065"/>
                      <a:pt x="4357" y="2065"/>
                      <a:pt x="4357" y="2065"/>
                    </a:cubicBezTo>
                    <a:cubicBezTo>
                      <a:pt x="4351" y="2069"/>
                      <a:pt x="4342" y="2068"/>
                      <a:pt x="4337" y="2063"/>
                    </a:cubicBezTo>
                    <a:cubicBezTo>
                      <a:pt x="4316" y="2043"/>
                      <a:pt x="4316" y="2043"/>
                      <a:pt x="4316" y="2043"/>
                    </a:cubicBezTo>
                    <a:cubicBezTo>
                      <a:pt x="3685" y="2419"/>
                      <a:pt x="3685" y="2419"/>
                      <a:pt x="3685" y="2419"/>
                    </a:cubicBezTo>
                    <a:cubicBezTo>
                      <a:pt x="3693" y="2447"/>
                      <a:pt x="3693" y="2447"/>
                      <a:pt x="3693" y="2447"/>
                    </a:cubicBezTo>
                    <a:cubicBezTo>
                      <a:pt x="3695" y="2454"/>
                      <a:pt x="3691" y="2462"/>
                      <a:pt x="3685" y="2466"/>
                    </a:cubicBezTo>
                    <a:cubicBezTo>
                      <a:pt x="3395" y="2638"/>
                      <a:pt x="3395" y="2638"/>
                      <a:pt x="3395" y="2638"/>
                    </a:cubicBezTo>
                    <a:cubicBezTo>
                      <a:pt x="3395" y="2638"/>
                      <a:pt x="3058" y="2638"/>
                      <a:pt x="3058" y="2638"/>
                    </a:cubicBezTo>
                    <a:cubicBezTo>
                      <a:pt x="3051" y="2638"/>
                      <a:pt x="3044" y="2633"/>
                      <a:pt x="3042" y="2626"/>
                    </a:cubicBezTo>
                    <a:cubicBezTo>
                      <a:pt x="3034" y="2599"/>
                      <a:pt x="3034" y="2599"/>
                      <a:pt x="3034" y="2599"/>
                    </a:cubicBezTo>
                    <a:cubicBezTo>
                      <a:pt x="2300" y="2599"/>
                      <a:pt x="2300" y="2599"/>
                      <a:pt x="2300" y="2599"/>
                    </a:cubicBezTo>
                    <a:cubicBezTo>
                      <a:pt x="2292" y="2626"/>
                      <a:pt x="2292" y="2626"/>
                      <a:pt x="2292" y="2626"/>
                    </a:cubicBezTo>
                    <a:cubicBezTo>
                      <a:pt x="2290" y="2634"/>
                      <a:pt x="2283" y="2639"/>
                      <a:pt x="2276" y="2639"/>
                    </a:cubicBezTo>
                    <a:cubicBezTo>
                      <a:pt x="1938" y="2639"/>
                      <a:pt x="1938" y="2639"/>
                      <a:pt x="1938" y="2639"/>
                    </a:cubicBezTo>
                    <a:cubicBezTo>
                      <a:pt x="1649" y="2466"/>
                      <a:pt x="1649" y="2466"/>
                      <a:pt x="1649" y="2466"/>
                    </a:cubicBezTo>
                    <a:cubicBezTo>
                      <a:pt x="1642" y="2462"/>
                      <a:pt x="1639" y="2454"/>
                      <a:pt x="1641" y="2447"/>
                    </a:cubicBezTo>
                    <a:cubicBezTo>
                      <a:pt x="1648" y="2420"/>
                      <a:pt x="1648" y="2420"/>
                      <a:pt x="1648" y="2420"/>
                    </a:cubicBezTo>
                    <a:cubicBezTo>
                      <a:pt x="1017" y="2043"/>
                      <a:pt x="1017" y="2043"/>
                      <a:pt x="1017" y="2043"/>
                    </a:cubicBezTo>
                    <a:cubicBezTo>
                      <a:pt x="997" y="2063"/>
                      <a:pt x="997" y="2063"/>
                      <a:pt x="997" y="2063"/>
                    </a:cubicBezTo>
                    <a:cubicBezTo>
                      <a:pt x="991" y="2068"/>
                      <a:pt x="983" y="2069"/>
                      <a:pt x="977" y="2065"/>
                    </a:cubicBezTo>
                    <a:cubicBezTo>
                      <a:pt x="687" y="1892"/>
                      <a:pt x="687" y="1892"/>
                      <a:pt x="687" y="1892"/>
                    </a:cubicBezTo>
                    <a:cubicBezTo>
                      <a:pt x="527" y="1596"/>
                      <a:pt x="527" y="1596"/>
                      <a:pt x="527" y="1596"/>
                    </a:cubicBezTo>
                    <a:cubicBezTo>
                      <a:pt x="523" y="1589"/>
                      <a:pt x="524" y="1581"/>
                      <a:pt x="530" y="1575"/>
                    </a:cubicBezTo>
                    <a:cubicBezTo>
                      <a:pt x="550" y="1556"/>
                      <a:pt x="550" y="1556"/>
                      <a:pt x="550" y="1556"/>
                    </a:cubicBezTo>
                    <a:cubicBezTo>
                      <a:pt x="201" y="910"/>
                      <a:pt x="201" y="910"/>
                      <a:pt x="201" y="910"/>
                    </a:cubicBezTo>
                    <a:cubicBezTo>
                      <a:pt x="173" y="916"/>
                      <a:pt x="173" y="916"/>
                      <a:pt x="173" y="916"/>
                    </a:cubicBezTo>
                    <a:cubicBezTo>
                      <a:pt x="166" y="917"/>
                      <a:pt x="158" y="914"/>
                      <a:pt x="155" y="907"/>
                    </a:cubicBezTo>
                    <a:cubicBezTo>
                      <a:pt x="1" y="624"/>
                      <a:pt x="1" y="624"/>
                      <a:pt x="1" y="624"/>
                    </a:cubicBezTo>
                    <a:cubicBezTo>
                      <a:pt x="0" y="621"/>
                      <a:pt x="0" y="617"/>
                      <a:pt x="1" y="614"/>
                    </a:cubicBezTo>
                    <a:cubicBezTo>
                      <a:pt x="2" y="610"/>
                      <a:pt x="5" y="608"/>
                      <a:pt x="9" y="607"/>
                    </a:cubicBezTo>
                    <a:cubicBezTo>
                      <a:pt x="148" y="575"/>
                      <a:pt x="148" y="575"/>
                      <a:pt x="148" y="575"/>
                    </a:cubicBezTo>
                    <a:cubicBezTo>
                      <a:pt x="148" y="575"/>
                      <a:pt x="175" y="569"/>
                      <a:pt x="175" y="569"/>
                    </a:cubicBezTo>
                    <a:cubicBezTo>
                      <a:pt x="177" y="577"/>
                      <a:pt x="177" y="577"/>
                      <a:pt x="177" y="577"/>
                    </a:cubicBezTo>
                    <a:cubicBezTo>
                      <a:pt x="663" y="465"/>
                      <a:pt x="663" y="465"/>
                      <a:pt x="663" y="465"/>
                    </a:cubicBezTo>
                    <a:cubicBezTo>
                      <a:pt x="661" y="457"/>
                      <a:pt x="661" y="457"/>
                      <a:pt x="661" y="457"/>
                    </a:cubicBezTo>
                    <a:cubicBezTo>
                      <a:pt x="661" y="457"/>
                      <a:pt x="689" y="450"/>
                      <a:pt x="689" y="450"/>
                    </a:cubicBezTo>
                    <a:cubicBezTo>
                      <a:pt x="689" y="450"/>
                      <a:pt x="1047" y="368"/>
                      <a:pt x="1047" y="368"/>
                    </a:cubicBezTo>
                    <a:cubicBezTo>
                      <a:pt x="1075" y="362"/>
                      <a:pt x="1075" y="362"/>
                      <a:pt x="1075" y="362"/>
                    </a:cubicBezTo>
                    <a:cubicBezTo>
                      <a:pt x="1077" y="369"/>
                      <a:pt x="1077" y="369"/>
                      <a:pt x="1077" y="369"/>
                    </a:cubicBezTo>
                    <a:cubicBezTo>
                      <a:pt x="1563" y="257"/>
                      <a:pt x="1563" y="257"/>
                      <a:pt x="1563" y="257"/>
                    </a:cubicBezTo>
                    <a:cubicBezTo>
                      <a:pt x="1561" y="249"/>
                      <a:pt x="1561" y="249"/>
                      <a:pt x="1561" y="249"/>
                    </a:cubicBezTo>
                    <a:cubicBezTo>
                      <a:pt x="1561" y="249"/>
                      <a:pt x="1589" y="243"/>
                      <a:pt x="1589" y="243"/>
                    </a:cubicBezTo>
                    <a:cubicBezTo>
                      <a:pt x="1589" y="243"/>
                      <a:pt x="1949" y="160"/>
                      <a:pt x="1949" y="160"/>
                    </a:cubicBezTo>
                    <a:cubicBezTo>
                      <a:pt x="1976" y="154"/>
                      <a:pt x="1976" y="154"/>
                      <a:pt x="1976" y="154"/>
                    </a:cubicBezTo>
                    <a:cubicBezTo>
                      <a:pt x="1978" y="162"/>
                      <a:pt x="1978" y="162"/>
                      <a:pt x="1978" y="162"/>
                    </a:cubicBezTo>
                    <a:cubicBezTo>
                      <a:pt x="2464" y="49"/>
                      <a:pt x="2464" y="49"/>
                      <a:pt x="2464" y="49"/>
                    </a:cubicBezTo>
                    <a:cubicBezTo>
                      <a:pt x="2462" y="42"/>
                      <a:pt x="2462" y="42"/>
                      <a:pt x="2462" y="42"/>
                    </a:cubicBezTo>
                    <a:cubicBezTo>
                      <a:pt x="2490" y="35"/>
                      <a:pt x="2490" y="35"/>
                      <a:pt x="2490" y="35"/>
                    </a:cubicBezTo>
                    <a:cubicBezTo>
                      <a:pt x="2642" y="0"/>
                      <a:pt x="2642" y="0"/>
                      <a:pt x="2642" y="0"/>
                    </a:cubicBezTo>
                    <a:cubicBezTo>
                      <a:pt x="2648" y="12"/>
                      <a:pt x="2648" y="12"/>
                      <a:pt x="2648" y="12"/>
                    </a:cubicBezTo>
                    <a:cubicBezTo>
                      <a:pt x="2648" y="12"/>
                      <a:pt x="2660" y="19"/>
                      <a:pt x="2660" y="19"/>
                    </a:cubicBezTo>
                    <a:cubicBezTo>
                      <a:pt x="2673" y="19"/>
                      <a:pt x="2673" y="19"/>
                      <a:pt x="2673" y="19"/>
                    </a:cubicBezTo>
                    <a:cubicBezTo>
                      <a:pt x="2673" y="19"/>
                      <a:pt x="2685" y="12"/>
                      <a:pt x="2685" y="12"/>
                    </a:cubicBezTo>
                    <a:cubicBezTo>
                      <a:pt x="3027" y="82"/>
                      <a:pt x="3027" y="82"/>
                      <a:pt x="3027" y="82"/>
                    </a:cubicBezTo>
                    <a:cubicBezTo>
                      <a:pt x="3048" y="86"/>
                      <a:pt x="3068" y="96"/>
                      <a:pt x="3083" y="111"/>
                    </a:cubicBezTo>
                    <a:cubicBezTo>
                      <a:pt x="4518" y="1486"/>
                      <a:pt x="4518" y="1486"/>
                      <a:pt x="4518" y="1486"/>
                    </a:cubicBezTo>
                    <a:cubicBezTo>
                      <a:pt x="4533" y="1500"/>
                      <a:pt x="4544" y="1518"/>
                      <a:pt x="4549" y="1538"/>
                    </a:cubicBezTo>
                    <a:lnTo>
                      <a:pt x="4647" y="1892"/>
                    </a:lnTo>
                    <a:close/>
                  </a:path>
                </a:pathLst>
              </a:custGeom>
              <a:noFill/>
              <a:ln w="3240">
                <a:solidFill>
                  <a:srgbClr val="ff3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 flipH="1">
                <a:off x="3805920" y="2274840"/>
                <a:ext cx="6225480" cy="5968080"/>
              </a:xfrm>
              <a:prstGeom prst="line">
                <a:avLst/>
              </a:prstGeom>
              <a:ln w="3240">
                <a:solidFill>
                  <a:srgbClr val="ff3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10111320" y="2297160"/>
                <a:ext cx="2292120" cy="8313840"/>
              </a:xfrm>
              <a:prstGeom prst="line">
                <a:avLst/>
              </a:prstGeom>
              <a:ln w="3240">
                <a:solidFill>
                  <a:srgbClr val="ff3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" name="Line 15"/>
              <p:cNvSpPr/>
              <p:nvPr/>
            </p:nvSpPr>
            <p:spPr>
              <a:xfrm flipH="1">
                <a:off x="7777440" y="2297160"/>
                <a:ext cx="2292120" cy="8316720"/>
              </a:xfrm>
              <a:prstGeom prst="line">
                <a:avLst/>
              </a:prstGeom>
              <a:ln w="3240">
                <a:solidFill>
                  <a:srgbClr val="ff3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10149480" y="2274840"/>
                <a:ext cx="6228720" cy="5968080"/>
              </a:xfrm>
              <a:custGeom>
                <a:avLst/>
                <a:gdLst/>
                <a:ahLst/>
                <a:rect l="l" t="t" r="r" b="b"/>
                <a:pathLst>
                  <a:path w="1962" h="1880">
                    <a:moveTo>
                      <a:pt x="0" y="0"/>
                    </a:moveTo>
                    <a:cubicBezTo>
                      <a:pt x="115" y="110"/>
                      <a:pt x="115" y="110"/>
                      <a:pt x="115" y="110"/>
                    </a:cubicBezTo>
                    <a:cubicBezTo>
                      <a:pt x="115" y="110"/>
                      <a:pt x="133" y="128"/>
                      <a:pt x="133" y="128"/>
                    </a:cubicBezTo>
                    <a:cubicBezTo>
                      <a:pt x="133" y="128"/>
                      <a:pt x="144" y="127"/>
                      <a:pt x="144" y="127"/>
                    </a:cubicBezTo>
                    <a:cubicBezTo>
                      <a:pt x="493" y="462"/>
                      <a:pt x="493" y="462"/>
                      <a:pt x="493" y="462"/>
                    </a:cubicBezTo>
                    <a:cubicBezTo>
                      <a:pt x="493" y="473"/>
                      <a:pt x="493" y="473"/>
                      <a:pt x="493" y="473"/>
                    </a:cubicBezTo>
                    <a:cubicBezTo>
                      <a:pt x="493" y="473"/>
                      <a:pt x="512" y="491"/>
                      <a:pt x="512" y="491"/>
                    </a:cubicBezTo>
                    <a:cubicBezTo>
                      <a:pt x="782" y="750"/>
                      <a:pt x="782" y="750"/>
                      <a:pt x="782" y="750"/>
                    </a:cubicBezTo>
                    <a:cubicBezTo>
                      <a:pt x="782" y="750"/>
                      <a:pt x="782" y="750"/>
                      <a:pt x="782" y="750"/>
                    </a:cubicBezTo>
                    <a:cubicBezTo>
                      <a:pt x="801" y="768"/>
                      <a:pt x="801" y="768"/>
                      <a:pt x="801" y="768"/>
                    </a:cubicBezTo>
                    <a:cubicBezTo>
                      <a:pt x="801" y="768"/>
                      <a:pt x="812" y="767"/>
                      <a:pt x="812" y="767"/>
                    </a:cubicBezTo>
                    <a:cubicBezTo>
                      <a:pt x="812" y="767"/>
                      <a:pt x="812" y="767"/>
                      <a:pt x="812" y="767"/>
                    </a:cubicBezTo>
                    <a:cubicBezTo>
                      <a:pt x="1161" y="1102"/>
                      <a:pt x="1161" y="1102"/>
                      <a:pt x="1161" y="1102"/>
                    </a:cubicBezTo>
                    <a:cubicBezTo>
                      <a:pt x="1161" y="1113"/>
                      <a:pt x="1161" y="1113"/>
                      <a:pt x="1161" y="1113"/>
                    </a:cubicBezTo>
                    <a:cubicBezTo>
                      <a:pt x="1161" y="1113"/>
                      <a:pt x="1179" y="1130"/>
                      <a:pt x="1179" y="1130"/>
                    </a:cubicBezTo>
                    <a:cubicBezTo>
                      <a:pt x="1449" y="1389"/>
                      <a:pt x="1449" y="1389"/>
                      <a:pt x="1449" y="1389"/>
                    </a:cubicBezTo>
                    <a:cubicBezTo>
                      <a:pt x="1449" y="1389"/>
                      <a:pt x="1449" y="1389"/>
                      <a:pt x="1449" y="1389"/>
                    </a:cubicBezTo>
                    <a:cubicBezTo>
                      <a:pt x="1467" y="1406"/>
                      <a:pt x="1467" y="1406"/>
                      <a:pt x="1467" y="1406"/>
                    </a:cubicBezTo>
                    <a:cubicBezTo>
                      <a:pt x="1467" y="1406"/>
                      <a:pt x="1467" y="1406"/>
                      <a:pt x="1467" y="1406"/>
                    </a:cubicBezTo>
                    <a:cubicBezTo>
                      <a:pt x="1479" y="1406"/>
                      <a:pt x="1479" y="1406"/>
                      <a:pt x="1479" y="1406"/>
                    </a:cubicBezTo>
                    <a:cubicBezTo>
                      <a:pt x="1479" y="1406"/>
                      <a:pt x="1827" y="1740"/>
                      <a:pt x="1827" y="1740"/>
                    </a:cubicBezTo>
                    <a:cubicBezTo>
                      <a:pt x="1828" y="1752"/>
                      <a:pt x="1828" y="1752"/>
                      <a:pt x="1828" y="1752"/>
                    </a:cubicBezTo>
                    <a:cubicBezTo>
                      <a:pt x="1846" y="1769"/>
                      <a:pt x="1846" y="1769"/>
                      <a:pt x="1846" y="1769"/>
                    </a:cubicBezTo>
                    <a:cubicBezTo>
                      <a:pt x="1846" y="1769"/>
                      <a:pt x="1846" y="1769"/>
                      <a:pt x="1846" y="1769"/>
                    </a:cubicBezTo>
                    <a:cubicBezTo>
                      <a:pt x="1962" y="1880"/>
                      <a:pt x="1962" y="1880"/>
                      <a:pt x="1962" y="1880"/>
                    </a:cubicBezTo>
                  </a:path>
                </a:pathLst>
              </a:custGeom>
              <a:noFill/>
              <a:ln w="3240">
                <a:solidFill>
                  <a:srgbClr val="ff3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" name="Rectangle 17"/>
            <p:cNvSpPr/>
            <p:nvPr/>
          </p:nvSpPr>
          <p:spPr>
            <a:xfrm>
              <a:off x="1514520" y="1878120"/>
              <a:ext cx="14971680" cy="8843760"/>
            </a:xfrm>
            <a:prstGeom prst="rect">
              <a:avLst/>
            </a:prstGeom>
            <a:noFill/>
            <a:ln w="3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" name="グループ化 2"/>
          <p:cNvGrpSpPr/>
          <p:nvPr/>
        </p:nvGrpSpPr>
        <p:grpSpPr>
          <a:xfrm>
            <a:off x="1162080" y="1504800"/>
            <a:ext cx="15651000" cy="9582840"/>
            <a:chOff x="1162080" y="1504800"/>
            <a:chExt cx="15651000" cy="9582840"/>
          </a:xfrm>
        </p:grpSpPr>
        <p:grpSp>
          <p:nvGrpSpPr>
            <p:cNvPr id="17" name="グループ化 1"/>
            <p:cNvGrpSpPr/>
            <p:nvPr/>
          </p:nvGrpSpPr>
          <p:grpSpPr>
            <a:xfrm>
              <a:off x="1187280" y="1549800"/>
              <a:ext cx="15625800" cy="9503640"/>
              <a:chOff x="1187280" y="1549800"/>
              <a:chExt cx="15625800" cy="9503640"/>
            </a:xfrm>
          </p:grpSpPr>
          <p:grpSp>
            <p:nvGrpSpPr>
              <p:cNvPr id="18" name="グループ化 58"/>
              <p:cNvGrpSpPr/>
              <p:nvPr/>
            </p:nvGrpSpPr>
            <p:grpSpPr>
              <a:xfrm>
                <a:off x="1189440" y="1554480"/>
                <a:ext cx="431640" cy="431640"/>
                <a:chOff x="1189440" y="1554480"/>
                <a:chExt cx="431640" cy="431640"/>
              </a:xfrm>
            </p:grpSpPr>
            <p:sp>
              <p:nvSpPr>
                <p:cNvPr id="19" name="フリーフォーム 43"/>
                <p:cNvSpPr/>
                <p:nvPr/>
              </p:nvSpPr>
              <p:spPr>
                <a:xfrm>
                  <a:off x="1189440" y="1554480"/>
                  <a:ext cx="431640" cy="323640"/>
                </a:xfrm>
                <a:custGeom>
                  <a:avLst/>
                  <a:gdLst/>
                  <a:ahLst/>
                  <a:rect l="l" t="t" r="r" b="b"/>
                  <a:pathLst>
                    <a:path w="434340" h="321945">
                      <a:moveTo>
                        <a:pt x="434340" y="0"/>
                      </a:moveTo>
                      <a:lnTo>
                        <a:pt x="434340" y="321945"/>
                      </a:lnTo>
                      <a:lnTo>
                        <a:pt x="0" y="321945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5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" name="フリーフォーム 44"/>
                <p:cNvSpPr/>
                <p:nvPr/>
              </p:nvSpPr>
              <p:spPr>
                <a:xfrm>
                  <a:off x="1189440" y="1554480"/>
                  <a:ext cx="323640" cy="431640"/>
                </a:xfrm>
                <a:custGeom>
                  <a:avLst/>
                  <a:gdLst/>
                  <a:ahLst/>
                  <a:rect l="l" t="t" r="r" b="b"/>
                  <a:pathLst>
                    <a:path w="434340" h="321945">
                      <a:moveTo>
                        <a:pt x="434340" y="0"/>
                      </a:moveTo>
                      <a:lnTo>
                        <a:pt x="434340" y="321945"/>
                      </a:lnTo>
                      <a:lnTo>
                        <a:pt x="0" y="321945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5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1" name="グループ化 20"/>
              <p:cNvGrpSpPr/>
              <p:nvPr/>
            </p:nvGrpSpPr>
            <p:grpSpPr>
              <a:xfrm>
                <a:off x="16377840" y="1554120"/>
                <a:ext cx="431640" cy="431640"/>
                <a:chOff x="16377840" y="1554120"/>
                <a:chExt cx="431640" cy="431640"/>
              </a:xfrm>
            </p:grpSpPr>
            <p:sp>
              <p:nvSpPr>
                <p:cNvPr id="22" name="フリーフォーム 43"/>
                <p:cNvSpPr/>
                <p:nvPr/>
              </p:nvSpPr>
              <p:spPr>
                <a:xfrm rot="5400000">
                  <a:off x="16431840" y="1608120"/>
                  <a:ext cx="431640" cy="323640"/>
                </a:xfrm>
                <a:custGeom>
                  <a:avLst/>
                  <a:gdLst/>
                  <a:ahLst/>
                  <a:rect l="l" t="t" r="r" b="b"/>
                  <a:pathLst>
                    <a:path w="434340" h="321945">
                      <a:moveTo>
                        <a:pt x="434340" y="0"/>
                      </a:moveTo>
                      <a:lnTo>
                        <a:pt x="434340" y="321945"/>
                      </a:lnTo>
                      <a:lnTo>
                        <a:pt x="0" y="321945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5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" name="フリーフォーム 44"/>
                <p:cNvSpPr/>
                <p:nvPr/>
              </p:nvSpPr>
              <p:spPr>
                <a:xfrm rot="5400000">
                  <a:off x="16431840" y="1500120"/>
                  <a:ext cx="323640" cy="431640"/>
                </a:xfrm>
                <a:custGeom>
                  <a:avLst/>
                  <a:gdLst/>
                  <a:ahLst/>
                  <a:rect l="l" t="t" r="r" b="b"/>
                  <a:pathLst>
                    <a:path w="434340" h="321945">
                      <a:moveTo>
                        <a:pt x="434340" y="0"/>
                      </a:moveTo>
                      <a:lnTo>
                        <a:pt x="434340" y="321945"/>
                      </a:lnTo>
                      <a:lnTo>
                        <a:pt x="0" y="321945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5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4" name="グループ化 23"/>
              <p:cNvGrpSpPr/>
              <p:nvPr/>
            </p:nvGrpSpPr>
            <p:grpSpPr>
              <a:xfrm>
                <a:off x="16377840" y="10615320"/>
                <a:ext cx="431640" cy="431640"/>
                <a:chOff x="16377840" y="10615320"/>
                <a:chExt cx="431640" cy="431640"/>
              </a:xfrm>
            </p:grpSpPr>
            <p:sp>
              <p:nvSpPr>
                <p:cNvPr id="25" name="フリーフォーム 43"/>
                <p:cNvSpPr/>
                <p:nvPr/>
              </p:nvSpPr>
              <p:spPr>
                <a:xfrm rot="10800000">
                  <a:off x="16377840" y="10723320"/>
                  <a:ext cx="431640" cy="323640"/>
                </a:xfrm>
                <a:custGeom>
                  <a:avLst/>
                  <a:gdLst/>
                  <a:ahLst/>
                  <a:rect l="l" t="t" r="r" b="b"/>
                  <a:pathLst>
                    <a:path w="434340" h="321945">
                      <a:moveTo>
                        <a:pt x="434340" y="0"/>
                      </a:moveTo>
                      <a:lnTo>
                        <a:pt x="434340" y="321945"/>
                      </a:lnTo>
                      <a:lnTo>
                        <a:pt x="0" y="321945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5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" name="フリーフォーム 44"/>
                <p:cNvSpPr/>
                <p:nvPr/>
              </p:nvSpPr>
              <p:spPr>
                <a:xfrm rot="10800000">
                  <a:off x="16485840" y="10615320"/>
                  <a:ext cx="323640" cy="431640"/>
                </a:xfrm>
                <a:custGeom>
                  <a:avLst/>
                  <a:gdLst/>
                  <a:ahLst/>
                  <a:rect l="l" t="t" r="r" b="b"/>
                  <a:pathLst>
                    <a:path w="434340" h="321945">
                      <a:moveTo>
                        <a:pt x="434340" y="0"/>
                      </a:moveTo>
                      <a:lnTo>
                        <a:pt x="434340" y="321945"/>
                      </a:lnTo>
                      <a:lnTo>
                        <a:pt x="0" y="321945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5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7" name="グループ化 20"/>
              <p:cNvGrpSpPr/>
              <p:nvPr/>
            </p:nvGrpSpPr>
            <p:grpSpPr>
              <a:xfrm>
                <a:off x="1189440" y="10615320"/>
                <a:ext cx="431640" cy="431640"/>
                <a:chOff x="1189440" y="10615320"/>
                <a:chExt cx="431640" cy="431640"/>
              </a:xfrm>
            </p:grpSpPr>
            <p:sp>
              <p:nvSpPr>
                <p:cNvPr id="28" name="フリーフォーム 43"/>
                <p:cNvSpPr/>
                <p:nvPr/>
              </p:nvSpPr>
              <p:spPr>
                <a:xfrm rot="16200000">
                  <a:off x="1135440" y="10669320"/>
                  <a:ext cx="431640" cy="323640"/>
                </a:xfrm>
                <a:custGeom>
                  <a:avLst/>
                  <a:gdLst/>
                  <a:ahLst/>
                  <a:rect l="l" t="t" r="r" b="b"/>
                  <a:pathLst>
                    <a:path w="434340" h="321945">
                      <a:moveTo>
                        <a:pt x="434340" y="0"/>
                      </a:moveTo>
                      <a:lnTo>
                        <a:pt x="434340" y="321945"/>
                      </a:lnTo>
                      <a:lnTo>
                        <a:pt x="0" y="321945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5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9" name="フリーフォーム 44"/>
                <p:cNvSpPr/>
                <p:nvPr/>
              </p:nvSpPr>
              <p:spPr>
                <a:xfrm rot="16200000">
                  <a:off x="1243440" y="10668960"/>
                  <a:ext cx="323640" cy="431640"/>
                </a:xfrm>
                <a:custGeom>
                  <a:avLst/>
                  <a:gdLst/>
                  <a:ahLst/>
                  <a:rect l="l" t="t" r="r" b="b"/>
                  <a:pathLst>
                    <a:path w="434340" h="321945">
                      <a:moveTo>
                        <a:pt x="434340" y="0"/>
                      </a:moveTo>
                      <a:lnTo>
                        <a:pt x="434340" y="321945"/>
                      </a:lnTo>
                      <a:lnTo>
                        <a:pt x="0" y="321945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5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0" name="グループ化 1"/>
              <p:cNvGrpSpPr/>
              <p:nvPr/>
            </p:nvGrpSpPr>
            <p:grpSpPr>
              <a:xfrm>
                <a:off x="8541720" y="1549800"/>
                <a:ext cx="915840" cy="304560"/>
                <a:chOff x="8541720" y="1549800"/>
                <a:chExt cx="915840" cy="304560"/>
              </a:xfrm>
            </p:grpSpPr>
            <p:sp>
              <p:nvSpPr>
                <p:cNvPr id="31" name="Line 136"/>
                <p:cNvSpPr/>
                <p:nvPr/>
              </p:nvSpPr>
              <p:spPr>
                <a:xfrm>
                  <a:off x="8541720" y="1778400"/>
                  <a:ext cx="91584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5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2" name="Line 137"/>
                <p:cNvSpPr/>
                <p:nvPr/>
              </p:nvSpPr>
              <p:spPr>
                <a:xfrm>
                  <a:off x="9000360" y="1549800"/>
                  <a:ext cx="0" cy="3045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5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3" name="グループ化 10"/>
              <p:cNvGrpSpPr/>
              <p:nvPr/>
            </p:nvGrpSpPr>
            <p:grpSpPr>
              <a:xfrm>
                <a:off x="8541720" y="10748880"/>
                <a:ext cx="915840" cy="304560"/>
                <a:chOff x="8541720" y="10748880"/>
                <a:chExt cx="915840" cy="304560"/>
              </a:xfrm>
            </p:grpSpPr>
            <p:sp>
              <p:nvSpPr>
                <p:cNvPr id="34" name="Line 136"/>
                <p:cNvSpPr/>
                <p:nvPr/>
              </p:nvSpPr>
              <p:spPr>
                <a:xfrm flipH="1">
                  <a:off x="8541720" y="10824840"/>
                  <a:ext cx="91584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5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5" name="Line 137"/>
                <p:cNvSpPr/>
                <p:nvPr/>
              </p:nvSpPr>
              <p:spPr>
                <a:xfrm flipV="1">
                  <a:off x="8998920" y="10748880"/>
                  <a:ext cx="0" cy="3045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5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6" name="グループ化 13"/>
              <p:cNvGrpSpPr/>
              <p:nvPr/>
            </p:nvGrpSpPr>
            <p:grpSpPr>
              <a:xfrm>
                <a:off x="16508520" y="5841720"/>
                <a:ext cx="304560" cy="915840"/>
                <a:chOff x="16508520" y="5841720"/>
                <a:chExt cx="304560" cy="915840"/>
              </a:xfrm>
            </p:grpSpPr>
            <p:sp>
              <p:nvSpPr>
                <p:cNvPr id="37" name="Line 136"/>
                <p:cNvSpPr/>
                <p:nvPr/>
              </p:nvSpPr>
              <p:spPr>
                <a:xfrm>
                  <a:off x="16584480" y="5841720"/>
                  <a:ext cx="0" cy="9158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5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" name="Line 137"/>
                <p:cNvSpPr/>
                <p:nvPr/>
              </p:nvSpPr>
              <p:spPr>
                <a:xfrm flipH="1">
                  <a:off x="16508520" y="6300360"/>
                  <a:ext cx="3045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5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9" name="グループ化 16"/>
              <p:cNvGrpSpPr/>
              <p:nvPr/>
            </p:nvGrpSpPr>
            <p:grpSpPr>
              <a:xfrm>
                <a:off x="1187280" y="5841720"/>
                <a:ext cx="304560" cy="915840"/>
                <a:chOff x="1187280" y="5841720"/>
                <a:chExt cx="304560" cy="915840"/>
              </a:xfrm>
            </p:grpSpPr>
            <p:sp>
              <p:nvSpPr>
                <p:cNvPr id="40" name="Line 136"/>
                <p:cNvSpPr/>
                <p:nvPr/>
              </p:nvSpPr>
              <p:spPr>
                <a:xfrm flipV="1">
                  <a:off x="1415880" y="5841720"/>
                  <a:ext cx="0" cy="9158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5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1" name="Line 137"/>
                <p:cNvSpPr/>
                <p:nvPr/>
              </p:nvSpPr>
              <p:spPr>
                <a:xfrm>
                  <a:off x="1187280" y="6298920"/>
                  <a:ext cx="3045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5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42" name="グループ化 2"/>
            <p:cNvGrpSpPr/>
            <p:nvPr/>
          </p:nvGrpSpPr>
          <p:grpSpPr>
            <a:xfrm>
              <a:off x="1162080" y="1504800"/>
              <a:ext cx="15216120" cy="9582840"/>
              <a:chOff x="1162080" y="1504800"/>
              <a:chExt cx="15216120" cy="9582840"/>
            </a:xfrm>
          </p:grpSpPr>
          <p:sp>
            <p:nvSpPr>
              <p:cNvPr id="43" name="Line 145"/>
              <p:cNvSpPr/>
              <p:nvPr/>
            </p:nvSpPr>
            <p:spPr>
              <a:xfrm>
                <a:off x="7788960" y="10748880"/>
                <a:ext cx="0" cy="3045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" name="テキスト ボックス 207"/>
              <p:cNvSpPr/>
              <p:nvPr/>
            </p:nvSpPr>
            <p:spPr>
              <a:xfrm>
                <a:off x="8399520" y="1504800"/>
                <a:ext cx="607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584440"/>
                    <a:tab algn="l" pos="5168880"/>
                    <a:tab algn="l" pos="7753320"/>
                    <a:tab algn="l" pos="1033776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ＭＳ ゴシック"/>
                    <a:ea typeface="ＭＳ ゴシック"/>
                  </a:rPr>
                  <a:t>409.9mm</a:t>
                </a: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45" name="直線矢印コネクタ 49"/>
              <p:cNvCxnSpPr/>
              <p:nvPr/>
            </p:nvCxnSpPr>
            <p:spPr>
              <a:xfrm>
                <a:off x="7778880" y="10901520"/>
                <a:ext cx="4626720" cy="1080"/>
              </a:xfrm>
              <a:prstGeom prst="straightConnector1">
                <a:avLst/>
              </a:prstGeom>
              <a:ln w="3240">
                <a:solidFill>
                  <a:srgbClr val="000000"/>
                </a:solidFill>
                <a:miter/>
                <a:headEnd len="med" type="triangle" w="sm"/>
                <a:tailEnd len="med" type="triangle" w="sm"/>
              </a:ln>
            </p:spPr>
          </p:cxnSp>
          <p:cxnSp>
            <p:nvCxnSpPr>
              <p:cNvPr id="46" name="直線矢印コネクタ 50"/>
              <p:cNvCxnSpPr/>
              <p:nvPr/>
            </p:nvCxnSpPr>
            <p:spPr>
              <a:xfrm>
                <a:off x="1621800" y="1712160"/>
                <a:ext cx="14756760" cy="1080"/>
              </a:xfrm>
              <a:prstGeom prst="straightConnector1">
                <a:avLst/>
              </a:prstGeom>
              <a:ln w="3240">
                <a:solidFill>
                  <a:srgbClr val="000000"/>
                </a:solidFill>
                <a:miter/>
                <a:headEnd len="med" type="triangle" w="sm"/>
                <a:tailEnd len="med" type="triangle" w="sm"/>
              </a:ln>
            </p:spPr>
          </p:cxnSp>
          <p:sp>
            <p:nvSpPr>
              <p:cNvPr id="47" name="テキスト ボックス 207"/>
              <p:cNvSpPr/>
              <p:nvPr/>
            </p:nvSpPr>
            <p:spPr>
              <a:xfrm>
                <a:off x="9736560" y="10872000"/>
                <a:ext cx="607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584440"/>
                    <a:tab algn="l" pos="5168880"/>
                    <a:tab algn="l" pos="7753320"/>
                    <a:tab algn="l" pos="1033776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ＭＳ ゴシック"/>
                    <a:ea typeface="ＭＳ ゴシック"/>
                  </a:rPr>
                  <a:t>128.5mm</a:t>
                </a: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48" name="直線矢印コネクタ 54"/>
              <p:cNvCxnSpPr/>
              <p:nvPr/>
            </p:nvCxnSpPr>
            <p:spPr>
              <a:xfrm flipV="1">
                <a:off x="1348920" y="1991520"/>
                <a:ext cx="1080" cy="8629200"/>
              </a:xfrm>
              <a:prstGeom prst="straightConnector1">
                <a:avLst/>
              </a:prstGeom>
              <a:ln w="3240">
                <a:solidFill>
                  <a:srgbClr val="000000"/>
                </a:solidFill>
                <a:miter/>
                <a:headEnd len="med" type="triangle" w="sm"/>
                <a:tailEnd len="med" type="triangle" w="sm"/>
              </a:ln>
            </p:spPr>
          </p:cxnSp>
          <p:sp>
            <p:nvSpPr>
              <p:cNvPr id="49" name="テキスト ボックス 207"/>
              <p:cNvSpPr/>
              <p:nvPr/>
            </p:nvSpPr>
            <p:spPr>
              <a:xfrm rot="16200000">
                <a:off x="1107360" y="2140920"/>
                <a:ext cx="568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584440"/>
                    <a:tab algn="l" pos="5168880"/>
                    <a:tab algn="l" pos="7753320"/>
                    <a:tab algn="l" pos="1033776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ＭＳ ゴシック"/>
                    <a:ea typeface="ＭＳ ゴシック"/>
                  </a:rPr>
                  <a:t>239.7mm           </a:t>
                </a: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" name="Line 145"/>
              <p:cNvSpPr/>
              <p:nvPr/>
            </p:nvSpPr>
            <p:spPr>
              <a:xfrm>
                <a:off x="12389400" y="10748880"/>
                <a:ext cx="0" cy="3045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1" name="Rectangle 23"/>
          <p:cNvSpPr/>
          <p:nvPr/>
        </p:nvSpPr>
        <p:spPr>
          <a:xfrm>
            <a:off x="6481800" y="501840"/>
            <a:ext cx="5035680" cy="5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3760" bIns="23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OP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：四角すい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OP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（ 仕上がりサイズ 幅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28.5 ×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高さ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25 mm 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図 2" descr="グラフ が含まれている画像&#10;&#10;自動的に生成された説明"/>
          <p:cNvPicPr/>
          <p:nvPr/>
        </p:nvPicPr>
        <p:blipFill>
          <a:blip r:embed="rId2"/>
          <a:stretch/>
        </p:blipFill>
        <p:spPr>
          <a:xfrm>
            <a:off x="18292680" y="-1440"/>
            <a:ext cx="4500720" cy="12600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03T03:18:39Z</dcterms:created>
  <dc:creator>川越</dc:creator>
  <dc:description/>
  <dc:language>en-US</dc:language>
  <cp:lastModifiedBy>Eximage-24</cp:lastModifiedBy>
  <dcterms:modified xsi:type="dcterms:W3CDTF">2025-01-30T03:11:33Z</dcterms:modified>
  <cp:revision>69</cp:revision>
  <dc:subject/>
  <dc:title>PowerPoint プレゼンテーション</dc:title>
</cp:coreProperties>
</file>