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1067"/>
          <p:cNvGrpSpPr/>
          <p:nvPr/>
        </p:nvGrpSpPr>
        <p:grpSpPr>
          <a:xfrm>
            <a:off x="611280" y="6780240"/>
            <a:ext cx="7239960" cy="505440"/>
            <a:chOff x="611280" y="6780240"/>
            <a:chExt cx="7239960" cy="505440"/>
          </a:xfrm>
        </p:grpSpPr>
        <p:sp>
          <p:nvSpPr>
            <p:cNvPr id="1" name="正方形/長方形 3"/>
            <p:cNvSpPr/>
            <p:nvPr/>
          </p:nvSpPr>
          <p:spPr>
            <a:xfrm>
              <a:off x="611280" y="6780240"/>
              <a:ext cx="4122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27040"/>
                  <a:tab algn="l" pos="1054080"/>
                  <a:tab algn="l" pos="1581120"/>
                  <a:tab algn="l" pos="2108160"/>
                  <a:tab algn="l" pos="2635200"/>
                  <a:tab algn="l" pos="3162240"/>
                  <a:tab algn="l" pos="3689280"/>
                  <a:tab algn="l" pos="4216320"/>
                  <a:tab algn="l" pos="4743360"/>
                  <a:tab algn="l" pos="5270400"/>
                  <a:tab algn="l" pos="5797440"/>
                  <a:tab algn="l" pos="6324480"/>
                  <a:tab algn="l" pos="6851520"/>
                  <a:tab algn="l" pos="7378560"/>
                  <a:tab algn="l" pos="7905600"/>
                  <a:tab algn="l" pos="8432640"/>
                  <a:tab algn="l" pos="8959680"/>
                  <a:tab algn="l" pos="9487080"/>
                  <a:tab algn="l" pos="10014120"/>
                  <a:tab algn="l" pos="10541160"/>
                </a:tabLst>
              </a:pPr>
              <a:r>
                <a:rPr b="1" lang="ja-JP" sz="900" spc="-1" strike="noStrike">
                  <a:solidFill>
                    <a:srgbClr val="0066ff"/>
                  </a:solidFill>
                  <a:latin typeface="ＭＳ Ｐゴシック"/>
                </a:rPr>
                <a:t>●</a:t>
              </a:r>
              <a:r>
                <a:rPr b="1" lang="ja-JP" sz="900" spc="-1" strike="noStrike">
                  <a:solidFill>
                    <a:srgbClr val="0066ff"/>
                  </a:solidFill>
                  <a:latin typeface="ＭＳ Ｐゴシック"/>
                </a:rPr>
                <a:t>水色の枠線</a:t>
              </a:r>
              <a:r>
                <a:rPr b="1" lang="en-US" sz="900" spc="-1" strike="noStrike">
                  <a:solidFill>
                    <a:srgbClr val="0066ff"/>
                  </a:solidFill>
                  <a:latin typeface="ＭＳ Ｐゴシック"/>
                </a:rPr>
                <a:t>……</a:t>
              </a:r>
              <a:r>
                <a:rPr b="1" lang="ja-JP" sz="900" spc="-1" strike="noStrike">
                  <a:solidFill>
                    <a:srgbClr val="0066ff"/>
                  </a:solidFill>
                  <a:latin typeface="ＭＳ Ｐゴシック"/>
                </a:rPr>
                <a:t>切れてはいけない要素（文字やロゴ等）をいれる範囲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27040"/>
                  <a:tab algn="l" pos="1054080"/>
                  <a:tab algn="l" pos="1581120"/>
                  <a:tab algn="l" pos="2108160"/>
                  <a:tab algn="l" pos="2635200"/>
                  <a:tab algn="l" pos="3162240"/>
                  <a:tab algn="l" pos="3689280"/>
                  <a:tab algn="l" pos="4216320"/>
                  <a:tab algn="l" pos="4743360"/>
                  <a:tab algn="l" pos="5270400"/>
                  <a:tab algn="l" pos="5797440"/>
                  <a:tab algn="l" pos="6324480"/>
                  <a:tab algn="l" pos="6851520"/>
                  <a:tab algn="l" pos="7378560"/>
                  <a:tab algn="l" pos="7905600"/>
                  <a:tab algn="l" pos="8432640"/>
                  <a:tab algn="l" pos="8959680"/>
                  <a:tab algn="l" pos="9487080"/>
                  <a:tab algn="l" pos="10014120"/>
                  <a:tab algn="l" pos="10541160"/>
                </a:tabLst>
              </a:pPr>
              <a:r>
                <a:rPr b="1" lang="ja-JP" sz="900" spc="-1" strike="noStrike">
                  <a:solidFill>
                    <a:srgbClr val="cc00ff"/>
                  </a:solidFill>
                  <a:latin typeface="ＭＳ Ｐゴシック"/>
                </a:rPr>
                <a:t>●</a:t>
              </a:r>
              <a:r>
                <a:rPr b="1" lang="ja-JP" sz="900" spc="-1" strike="noStrike">
                  <a:solidFill>
                    <a:srgbClr val="cc00ff"/>
                  </a:solidFill>
                  <a:latin typeface="ＭＳ Ｐゴシック"/>
                </a:rPr>
                <a:t>ピンクの枠線</a:t>
              </a:r>
              <a:r>
                <a:rPr b="1" lang="en-US" sz="900" spc="-1" strike="noStrike">
                  <a:solidFill>
                    <a:srgbClr val="cc00ff"/>
                  </a:solidFill>
                  <a:latin typeface="ＭＳ Ｐゴシック"/>
                </a:rPr>
                <a:t>…</a:t>
              </a:r>
              <a:r>
                <a:rPr b="1" lang="ja-JP" sz="900" spc="-1" strike="noStrike">
                  <a:solidFill>
                    <a:srgbClr val="cc00ff"/>
                  </a:solidFill>
                  <a:latin typeface="ＭＳ Ｐゴシック"/>
                </a:rPr>
                <a:t>仕上がりのサイズ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27040"/>
                  <a:tab algn="l" pos="1054080"/>
                  <a:tab algn="l" pos="1581120"/>
                  <a:tab algn="l" pos="2108160"/>
                  <a:tab algn="l" pos="2635200"/>
                  <a:tab algn="l" pos="3162240"/>
                  <a:tab algn="l" pos="3689280"/>
                  <a:tab algn="l" pos="4216320"/>
                  <a:tab algn="l" pos="4743360"/>
                  <a:tab algn="l" pos="5270400"/>
                  <a:tab algn="l" pos="5797440"/>
                  <a:tab algn="l" pos="6324480"/>
                  <a:tab algn="l" pos="6851520"/>
                  <a:tab algn="l" pos="7378560"/>
                  <a:tab algn="l" pos="7905600"/>
                  <a:tab algn="l" pos="8432640"/>
                  <a:tab algn="l" pos="8959680"/>
                  <a:tab algn="l" pos="9487080"/>
                  <a:tab algn="l" pos="10014120"/>
                  <a:tab algn="l" pos="10541160"/>
                </a:tabLst>
              </a:pPr>
              <a:r>
                <a:rPr b="1" lang="ja-JP" sz="900" spc="-1" strike="noStrike">
                  <a:solidFill>
                    <a:srgbClr val="008000"/>
                  </a:solidFill>
                  <a:latin typeface="ＭＳ Ｐゴシック"/>
                </a:rPr>
                <a:t>●</a:t>
              </a:r>
              <a:r>
                <a:rPr b="1" lang="ja-JP" sz="900" spc="-1" strike="noStrike">
                  <a:solidFill>
                    <a:srgbClr val="008000"/>
                  </a:solidFill>
                  <a:latin typeface="ＭＳ Ｐゴシック"/>
                </a:rPr>
                <a:t>みどりの枠線</a:t>
              </a:r>
              <a:r>
                <a:rPr b="1" lang="en-US" sz="900" spc="-1" strike="noStrike">
                  <a:solidFill>
                    <a:srgbClr val="008000"/>
                  </a:solidFill>
                  <a:latin typeface="ＭＳ Ｐゴシック"/>
                </a:rPr>
                <a:t>…</a:t>
              </a:r>
              <a:r>
                <a:rPr b="1" lang="ja-JP" sz="900" spc="-1" strike="noStrike">
                  <a:solidFill>
                    <a:srgbClr val="008000"/>
                  </a:solidFill>
                  <a:latin typeface="ＭＳ Ｐゴシック"/>
                </a:rPr>
                <a:t>フチなし印刷にする場合、背景を伸ばす範囲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テキスト ボックス 10"/>
            <p:cNvSpPr/>
            <p:nvPr/>
          </p:nvSpPr>
          <p:spPr>
            <a:xfrm>
              <a:off x="6969240" y="6850080"/>
              <a:ext cx="88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27040"/>
                  <a:tab algn="l" pos="1054080"/>
                  <a:tab algn="l" pos="1581120"/>
                  <a:tab algn="l" pos="2108160"/>
                  <a:tab algn="l" pos="2635200"/>
                  <a:tab algn="l" pos="3162240"/>
                  <a:tab algn="l" pos="3689280"/>
                  <a:tab algn="l" pos="4216320"/>
                  <a:tab algn="l" pos="4743360"/>
                  <a:tab algn="l" pos="5270400"/>
                  <a:tab algn="l" pos="5797440"/>
                  <a:tab algn="l" pos="6324480"/>
                  <a:tab algn="l" pos="6851520"/>
                  <a:tab algn="l" pos="7378560"/>
                  <a:tab algn="l" pos="7905600"/>
                  <a:tab algn="l" pos="8432640"/>
                  <a:tab algn="l" pos="8959680"/>
                  <a:tab algn="l" pos="9487080"/>
                  <a:tab algn="l" pos="10014120"/>
                  <a:tab algn="l" pos="10541160"/>
                </a:tabLst>
              </a:pPr>
              <a:r>
                <a:rPr b="1" lang="ja-JP" sz="900" spc="-1" strike="noStrike">
                  <a:solidFill>
                    <a:srgbClr val="ff0000"/>
                  </a:solidFill>
                  <a:latin typeface="ＭＳ Ｐゴシック"/>
                </a:rPr>
                <a:t>★★★ </a:t>
              </a:r>
              <a:r>
                <a:rPr b="1" lang="ja-JP" sz="900" spc="-1" strike="noStrike">
                  <a:solidFill>
                    <a:srgbClr val="ff0000"/>
                  </a:solidFill>
                  <a:latin typeface="ＭＳ Ｐゴシック"/>
                </a:rPr>
                <a:t>ＰＤＦに変換して入稿される場合 ★★★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27040"/>
                  <a:tab algn="l" pos="1054080"/>
                  <a:tab algn="l" pos="1581120"/>
                  <a:tab algn="l" pos="2108160"/>
                  <a:tab algn="l" pos="2635200"/>
                  <a:tab algn="l" pos="3162240"/>
                  <a:tab algn="l" pos="3689280"/>
                  <a:tab algn="l" pos="4216320"/>
                  <a:tab algn="l" pos="4743360"/>
                  <a:tab algn="l" pos="5270400"/>
                  <a:tab algn="l" pos="5797440"/>
                  <a:tab algn="l" pos="6324480"/>
                  <a:tab algn="l" pos="6851520"/>
                  <a:tab algn="l" pos="7378560"/>
                  <a:tab algn="l" pos="7905600"/>
                  <a:tab algn="l" pos="8432640"/>
                  <a:tab algn="l" pos="8959680"/>
                  <a:tab algn="l" pos="9487080"/>
                  <a:tab algn="l" pos="10014120"/>
                  <a:tab algn="l" pos="10541160"/>
                </a:tabLst>
              </a:pPr>
              <a:r>
                <a:rPr b="1" lang="ja-JP" sz="900" spc="-1" strike="noStrike">
                  <a:solidFill>
                    <a:srgbClr val="ff0000"/>
                  </a:solidFill>
                  <a:latin typeface="ＭＳ Ｐゴシック"/>
                </a:rPr>
                <a:t>「表示」＞「スライドマスター」画面より色つきのガイド線を消してから変換してください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" name="図 8" descr=""/>
          <p:cNvPicPr/>
          <p:nvPr/>
        </p:nvPicPr>
        <p:blipFill>
          <a:blip r:embed="rId2"/>
          <a:stretch/>
        </p:blipFill>
        <p:spPr>
          <a:xfrm>
            <a:off x="500040" y="1073160"/>
            <a:ext cx="471600" cy="541332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11"/>
          <p:cNvGrpSpPr/>
          <p:nvPr/>
        </p:nvGrpSpPr>
        <p:grpSpPr>
          <a:xfrm>
            <a:off x="1654200" y="52560"/>
            <a:ext cx="7508880" cy="858600"/>
            <a:chOff x="1654200" y="52560"/>
            <a:chExt cx="7508880" cy="858600"/>
          </a:xfrm>
        </p:grpSpPr>
        <p:sp>
          <p:nvSpPr>
            <p:cNvPr id="5" name="Rectangle 23"/>
            <p:cNvSpPr/>
            <p:nvPr/>
          </p:nvSpPr>
          <p:spPr>
            <a:xfrm>
              <a:off x="1654200" y="366480"/>
              <a:ext cx="3430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2700360"/>
                  <a:tab algn="r" pos="54007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■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カレンダー：卓上リング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(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シングル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)_B6_13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2700360"/>
                  <a:tab algn="r" pos="54007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 仕上がりサイズ 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82 × 128 mm 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" name="図 5" descr="テキスト が含まれている画像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1744560" y="128520"/>
              <a:ext cx="1422000" cy="2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図 10" descr="テキスト&#10;&#10;AI 生成コンテンツは誤りを含む可能性があります。"/>
            <p:cNvPicPr/>
            <p:nvPr/>
          </p:nvPicPr>
          <p:blipFill>
            <a:blip r:embed="rId4"/>
            <a:stretch/>
          </p:blipFill>
          <p:spPr>
            <a:xfrm>
              <a:off x="5210280" y="52560"/>
              <a:ext cx="3952800" cy="85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" name="グループ化 13"/>
          <p:cNvGrpSpPr/>
          <p:nvPr/>
        </p:nvGrpSpPr>
        <p:grpSpPr>
          <a:xfrm>
            <a:off x="1962000" y="1171440"/>
            <a:ext cx="8256600" cy="5511960"/>
            <a:chOff x="1962000" y="1171440"/>
            <a:chExt cx="8256600" cy="5511960"/>
          </a:xfrm>
        </p:grpSpPr>
        <p:grpSp>
          <p:nvGrpSpPr>
            <p:cNvPr id="9" name="グループ化 12"/>
            <p:cNvGrpSpPr/>
            <p:nvPr/>
          </p:nvGrpSpPr>
          <p:grpSpPr>
            <a:xfrm>
              <a:off x="1962000" y="1368000"/>
              <a:ext cx="6766920" cy="4822920"/>
              <a:chOff x="1962000" y="1368000"/>
              <a:chExt cx="6766920" cy="4822920"/>
            </a:xfrm>
          </p:grpSpPr>
          <p:grpSp>
            <p:nvGrpSpPr>
              <p:cNvPr id="10" name="グループ化 13"/>
              <p:cNvGrpSpPr/>
              <p:nvPr/>
            </p:nvGrpSpPr>
            <p:grpSpPr>
              <a:xfrm>
                <a:off x="1962000" y="1368000"/>
                <a:ext cx="6766920" cy="4822920"/>
                <a:chOff x="1962000" y="1368000"/>
                <a:chExt cx="6766920" cy="4822920"/>
              </a:xfrm>
            </p:grpSpPr>
            <p:sp>
              <p:nvSpPr>
                <p:cNvPr id="11" name="正方形/長方形 30"/>
                <p:cNvSpPr/>
                <p:nvPr/>
              </p:nvSpPr>
              <p:spPr>
                <a:xfrm>
                  <a:off x="2069640" y="1475640"/>
                  <a:ext cx="6551280" cy="4607280"/>
                </a:xfrm>
                <a:prstGeom prst="rect">
                  <a:avLst/>
                </a:prstGeom>
                <a:noFill/>
                <a:ln w="3240">
                  <a:solidFill>
                    <a:srgbClr val="ff3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1042920"/>
                      <a:tab algn="l" pos="2085840"/>
                      <a:tab algn="l" pos="3129120"/>
                      <a:tab algn="l" pos="4172040"/>
                      <a:tab algn="l" pos="5214960"/>
                      <a:tab algn="l" pos="6257880"/>
                      <a:tab algn="l" pos="7300800"/>
                      <a:tab algn="l" pos="8344080"/>
                      <a:tab algn="l" pos="9387000"/>
                      <a:tab algn="l" pos="1042992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" name="正方形/長方形 34"/>
                <p:cNvSpPr/>
                <p:nvPr/>
              </p:nvSpPr>
              <p:spPr>
                <a:xfrm>
                  <a:off x="2177640" y="1799640"/>
                  <a:ext cx="6335280" cy="4175280"/>
                </a:xfrm>
                <a:prstGeom prst="rect">
                  <a:avLst/>
                </a:prstGeom>
                <a:noFill/>
                <a:ln w="3240">
                  <a:solidFill>
                    <a:srgbClr val="4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1042920"/>
                      <a:tab algn="l" pos="2085840"/>
                      <a:tab algn="l" pos="3129120"/>
                      <a:tab algn="l" pos="4172040"/>
                      <a:tab algn="l" pos="5214960"/>
                      <a:tab algn="l" pos="6257880"/>
                      <a:tab algn="l" pos="7300800"/>
                      <a:tab algn="l" pos="8344080"/>
                      <a:tab algn="l" pos="9387000"/>
                      <a:tab algn="l" pos="1042992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" name="正方形/長方形 35"/>
                <p:cNvSpPr/>
                <p:nvPr/>
              </p:nvSpPr>
              <p:spPr>
                <a:xfrm>
                  <a:off x="1962000" y="1368000"/>
                  <a:ext cx="6766920" cy="4822920"/>
                </a:xfrm>
                <a:prstGeom prst="rect">
                  <a:avLst/>
                </a:prstGeom>
                <a:noFill/>
                <a:ln w="324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1042920"/>
                      <a:tab algn="l" pos="2085840"/>
                      <a:tab algn="l" pos="3129120"/>
                      <a:tab algn="l" pos="4172040"/>
                      <a:tab algn="l" pos="5214960"/>
                      <a:tab algn="l" pos="6257880"/>
                      <a:tab algn="l" pos="7300800"/>
                      <a:tab algn="l" pos="8344080"/>
                      <a:tab algn="l" pos="9387000"/>
                      <a:tab algn="l" pos="1042992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14" name="グループ化 1121" descr=""/>
              <p:cNvPicPr/>
              <p:nvPr/>
            </p:nvPicPr>
            <p:blipFill>
              <a:blip r:embed="rId5"/>
              <a:stretch/>
            </p:blipFill>
            <p:spPr>
              <a:xfrm>
                <a:off x="2822040" y="1541520"/>
                <a:ext cx="5053680" cy="15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" name="グループ化 127"/>
            <p:cNvGrpSpPr/>
            <p:nvPr/>
          </p:nvGrpSpPr>
          <p:grpSpPr>
            <a:xfrm>
              <a:off x="5336640" y="1171440"/>
              <a:ext cx="4881960" cy="5511960"/>
              <a:chOff x="5336640" y="1171440"/>
              <a:chExt cx="4881960" cy="5511960"/>
            </a:xfrm>
          </p:grpSpPr>
          <p:sp>
            <p:nvSpPr>
              <p:cNvPr id="16" name="直線コネクタ 36"/>
              <p:cNvSpPr/>
              <p:nvPr/>
            </p:nvSpPr>
            <p:spPr>
              <a:xfrm>
                <a:off x="5346360" y="1331640"/>
                <a:ext cx="0" cy="4896000"/>
              </a:xfrm>
              <a:prstGeom prst="line">
                <a:avLst/>
              </a:prstGeom>
              <a:ln w="9360">
                <a:solidFill>
                  <a:srgbClr val="f692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テキスト ボックス 1"/>
              <p:cNvSpPr/>
              <p:nvPr/>
            </p:nvSpPr>
            <p:spPr>
              <a:xfrm>
                <a:off x="9763920" y="1171440"/>
                <a:ext cx="454680" cy="5507280"/>
              </a:xfrm>
              <a:prstGeom prst="rect">
                <a:avLst/>
              </a:prstGeom>
              <a:noFill/>
              <a:ln w="19080">
                <a:solidFill>
                  <a:srgbClr val="f692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27040"/>
                    <a:tab algn="l" pos="1054080"/>
                    <a:tab algn="l" pos="1581120"/>
                    <a:tab algn="l" pos="2108160"/>
                    <a:tab algn="l" pos="2635200"/>
                    <a:tab algn="l" pos="3162240"/>
                    <a:tab algn="l" pos="3689280"/>
                    <a:tab algn="l" pos="4216320"/>
                    <a:tab algn="l" pos="4743360"/>
                    <a:tab algn="l" pos="5270400"/>
                    <a:tab algn="l" pos="5797440"/>
                    <a:tab algn="l" pos="6324480"/>
                    <a:tab algn="l" pos="6851520"/>
                    <a:tab algn="l" pos="7378560"/>
                    <a:tab algn="l" pos="7905600"/>
                    <a:tab algn="l" pos="8432640"/>
                    <a:tab algn="l" pos="8959680"/>
                    <a:tab algn="l" pos="9487080"/>
                    <a:tab algn="l" pos="10014120"/>
                    <a:tab algn="l" pos="1054116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ラクスルで日付部分の配置をご希望の場合は、</a:t>
                </a:r>
                <a:r>
                  <a:rPr b="0" lang="ja-JP" sz="900" spc="-1" strike="noStrike">
                    <a:solidFill>
                      <a:srgbClr val="ff0000"/>
                    </a:solidFill>
                    <a:latin typeface="ＭＳ Ｐゴシック"/>
                  </a:rPr>
                  <a:t>中央のオレンジ色の線より右部</a:t>
                </a:r>
                <a:r>
                  <a:rPr b="0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にデザインを配置してください。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27040"/>
                    <a:tab algn="l" pos="1054080"/>
                    <a:tab algn="l" pos="1581120"/>
                    <a:tab algn="l" pos="2108160"/>
                    <a:tab algn="l" pos="2635200"/>
                    <a:tab algn="l" pos="3162240"/>
                    <a:tab algn="l" pos="3689280"/>
                    <a:tab algn="l" pos="4216320"/>
                    <a:tab algn="l" pos="4743360"/>
                    <a:tab algn="l" pos="5270400"/>
                    <a:tab algn="l" pos="5797440"/>
                    <a:tab algn="l" pos="6324480"/>
                    <a:tab algn="l" pos="6851520"/>
                    <a:tab algn="l" pos="7378560"/>
                    <a:tab algn="l" pos="7905600"/>
                    <a:tab algn="l" pos="8432640"/>
                    <a:tab algn="l" pos="8959680"/>
                    <a:tab algn="l" pos="9487080"/>
                    <a:tab algn="l" pos="10014120"/>
                    <a:tab algn="l" pos="1054116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右上のご希望パターンにチェックを記入してください。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8" name="グループ化 1083"/>
              <p:cNvGrpSpPr/>
              <p:nvPr/>
            </p:nvGrpSpPr>
            <p:grpSpPr>
              <a:xfrm>
                <a:off x="5336640" y="6270480"/>
                <a:ext cx="4416120" cy="412920"/>
                <a:chOff x="5336640" y="6270480"/>
                <a:chExt cx="4416120" cy="412920"/>
              </a:xfrm>
            </p:grpSpPr>
            <p:cxnSp>
              <p:nvCxnSpPr>
                <p:cNvPr id="19" name="直線矢印コネクタ 1075"/>
                <p:cNvCxnSpPr/>
                <p:nvPr/>
              </p:nvCxnSpPr>
              <p:spPr>
                <a:xfrm flipV="1">
                  <a:off x="5345640" y="6270480"/>
                  <a:ext cx="1080" cy="413280"/>
                </a:xfrm>
                <a:prstGeom prst="straightConnector1">
                  <a:avLst/>
                </a:prstGeom>
                <a:ln w="19080">
                  <a:solidFill>
                    <a:srgbClr val="f69240"/>
                  </a:solidFill>
                  <a:miter/>
                  <a:tailEnd len="lg" type="stealth" w="lg"/>
                </a:ln>
              </p:spPr>
            </p:cxnSp>
            <p:sp>
              <p:nvSpPr>
                <p:cNvPr id="20" name="直線コネクタ 1078"/>
                <p:cNvSpPr/>
                <p:nvPr/>
              </p:nvSpPr>
              <p:spPr>
                <a:xfrm>
                  <a:off x="5336640" y="6678720"/>
                  <a:ext cx="4416120" cy="0"/>
                </a:xfrm>
                <a:prstGeom prst="line">
                  <a:avLst/>
                </a:prstGeom>
                <a:ln w="19080">
                  <a:solidFill>
                    <a:srgbClr val="f692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1" name="グループ化 1060"/>
          <p:cNvGrpSpPr/>
          <p:nvPr/>
        </p:nvGrpSpPr>
        <p:grpSpPr>
          <a:xfrm>
            <a:off x="1427040" y="900000"/>
            <a:ext cx="7712280" cy="5713560"/>
            <a:chOff x="1427040" y="900000"/>
            <a:chExt cx="7712280" cy="5713560"/>
          </a:xfrm>
        </p:grpSpPr>
        <p:grpSp>
          <p:nvGrpSpPr>
            <p:cNvPr id="22" name="グループ化 1058"/>
            <p:cNvGrpSpPr/>
            <p:nvPr/>
          </p:nvGrpSpPr>
          <p:grpSpPr>
            <a:xfrm>
              <a:off x="1427040" y="900000"/>
              <a:ext cx="7194600" cy="5185080"/>
              <a:chOff x="1427040" y="900000"/>
              <a:chExt cx="7194600" cy="5185080"/>
            </a:xfrm>
          </p:grpSpPr>
          <p:cxnSp>
            <p:nvCxnSpPr>
              <p:cNvPr id="23" name="直線矢印コネクタ 52"/>
              <p:cNvCxnSpPr/>
              <p:nvPr/>
            </p:nvCxnSpPr>
            <p:spPr>
              <a:xfrm>
                <a:off x="2071440" y="1186920"/>
                <a:ext cx="6550560" cy="10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24" name="直線矢印コネクタ 53"/>
              <p:cNvCxnSpPr/>
              <p:nvPr/>
            </p:nvCxnSpPr>
            <p:spPr>
              <a:xfrm>
                <a:off x="1743840" y="1476000"/>
                <a:ext cx="1080" cy="46094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25" name="テキスト ボックス 7"/>
              <p:cNvSpPr/>
              <p:nvPr/>
            </p:nvSpPr>
            <p:spPr>
              <a:xfrm>
                <a:off x="2184120" y="900000"/>
                <a:ext cx="57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527040"/>
                    <a:tab algn="l" pos="1054080"/>
                    <a:tab algn="l" pos="1581120"/>
                    <a:tab algn="l" pos="2108160"/>
                    <a:tab algn="l" pos="2635200"/>
                    <a:tab algn="l" pos="3162240"/>
                    <a:tab algn="l" pos="3689280"/>
                    <a:tab algn="l" pos="4216320"/>
                    <a:tab algn="l" pos="4743360"/>
                    <a:tab algn="l" pos="5270400"/>
                    <a:tab algn="l" pos="5797440"/>
                    <a:tab algn="l" pos="6324480"/>
                    <a:tab algn="l" pos="6851520"/>
                    <a:tab algn="l" pos="7378560"/>
                    <a:tab algn="l" pos="7905600"/>
                    <a:tab algn="l" pos="8432640"/>
                    <a:tab algn="l" pos="8959680"/>
                    <a:tab algn="l" pos="9487080"/>
                    <a:tab algn="l" pos="10014120"/>
                    <a:tab algn="l" pos="1054116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182mm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" name="テキスト ボックス 10"/>
              <p:cNvSpPr/>
              <p:nvPr/>
            </p:nvSpPr>
            <p:spPr>
              <a:xfrm rot="16200000">
                <a:off x="1263240" y="1934280"/>
                <a:ext cx="57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527040"/>
                    <a:tab algn="l" pos="1054080"/>
                    <a:tab algn="l" pos="1581120"/>
                    <a:tab algn="l" pos="2108160"/>
                    <a:tab algn="l" pos="2635200"/>
                    <a:tab algn="l" pos="3162240"/>
                    <a:tab algn="l" pos="3689280"/>
                    <a:tab algn="l" pos="4216320"/>
                    <a:tab algn="l" pos="4743360"/>
                    <a:tab algn="l" pos="5270400"/>
                    <a:tab algn="l" pos="5797440"/>
                    <a:tab algn="l" pos="6324480"/>
                    <a:tab algn="l" pos="6851520"/>
                    <a:tab algn="l" pos="7378560"/>
                    <a:tab algn="l" pos="7905600"/>
                    <a:tab algn="l" pos="8432640"/>
                    <a:tab algn="l" pos="8959680"/>
                    <a:tab algn="l" pos="9487080"/>
                    <a:tab algn="l" pos="10014120"/>
                    <a:tab algn="l" pos="1054116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128mm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" name="グループ化 1059"/>
            <p:cNvGrpSpPr/>
            <p:nvPr/>
          </p:nvGrpSpPr>
          <p:grpSpPr>
            <a:xfrm>
              <a:off x="1545840" y="945720"/>
              <a:ext cx="7593480" cy="5667840"/>
              <a:chOff x="1545840" y="945720"/>
              <a:chExt cx="7593480" cy="5667840"/>
            </a:xfrm>
          </p:grpSpPr>
          <p:grpSp>
            <p:nvGrpSpPr>
              <p:cNvPr id="28" name="グループ化 41"/>
              <p:cNvGrpSpPr/>
              <p:nvPr/>
            </p:nvGrpSpPr>
            <p:grpSpPr>
              <a:xfrm>
                <a:off x="4806000" y="945720"/>
                <a:ext cx="1079280" cy="347400"/>
                <a:chOff x="4806000" y="945720"/>
                <a:chExt cx="1079280" cy="347400"/>
              </a:xfrm>
            </p:grpSpPr>
            <p:sp>
              <p:nvSpPr>
                <p:cNvPr id="29" name="直線コネクタ 50"/>
                <p:cNvSpPr/>
                <p:nvPr/>
              </p:nvSpPr>
              <p:spPr>
                <a:xfrm>
                  <a:off x="4806000" y="1221840"/>
                  <a:ext cx="107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直線コネクタ 51"/>
                <p:cNvSpPr/>
                <p:nvPr/>
              </p:nvSpPr>
              <p:spPr>
                <a:xfrm>
                  <a:off x="5345640" y="945720"/>
                  <a:ext cx="0" cy="34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" name="グループ化 1033"/>
              <p:cNvGrpSpPr/>
              <p:nvPr/>
            </p:nvGrpSpPr>
            <p:grpSpPr>
              <a:xfrm>
                <a:off x="1637280" y="1041840"/>
                <a:ext cx="432000" cy="433080"/>
                <a:chOff x="1637280" y="1041840"/>
                <a:chExt cx="432000" cy="433080"/>
              </a:xfrm>
            </p:grpSpPr>
            <p:sp>
              <p:nvSpPr>
                <p:cNvPr id="32" name="Freeform 45"/>
                <p:cNvSpPr/>
                <p:nvPr/>
              </p:nvSpPr>
              <p:spPr>
                <a:xfrm>
                  <a:off x="1637280" y="1041840"/>
                  <a:ext cx="324000" cy="433080"/>
                </a:xfrm>
                <a:custGeom>
                  <a:avLst/>
                  <a:gdLst/>
                  <a:ahLst/>
                  <a:rect l="l" t="t" r="r" b="b"/>
                  <a:pathLst>
                    <a:path w="204" h="276">
                      <a:moveTo>
                        <a:pt x="0" y="276"/>
                      </a:moveTo>
                      <a:lnTo>
                        <a:pt x="204" y="276"/>
                      </a:lnTo>
                      <a:lnTo>
                        <a:pt x="20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46"/>
                <p:cNvSpPr/>
                <p:nvPr/>
              </p:nvSpPr>
              <p:spPr>
                <a:xfrm>
                  <a:off x="1637280" y="1042560"/>
                  <a:ext cx="432000" cy="324000"/>
                </a:xfrm>
                <a:custGeom>
                  <a:avLst/>
                  <a:gdLst/>
                  <a:ahLst/>
                  <a:rect l="l" t="t" r="r" b="b"/>
                  <a:pathLst>
                    <a:path w="276" h="204">
                      <a:moveTo>
                        <a:pt x="276" y="0"/>
                      </a:moveTo>
                      <a:lnTo>
                        <a:pt x="276" y="204"/>
                      </a:lnTo>
                      <a:lnTo>
                        <a:pt x="0" y="20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4" name="グループ化 42"/>
              <p:cNvGrpSpPr/>
              <p:nvPr/>
            </p:nvGrpSpPr>
            <p:grpSpPr>
              <a:xfrm>
                <a:off x="1545840" y="3239640"/>
                <a:ext cx="349200" cy="1080000"/>
                <a:chOff x="1545840" y="3239640"/>
                <a:chExt cx="349200" cy="1080000"/>
              </a:xfrm>
            </p:grpSpPr>
            <p:sp>
              <p:nvSpPr>
                <p:cNvPr id="35" name="直線コネクタ 46"/>
                <p:cNvSpPr/>
                <p:nvPr/>
              </p:nvSpPr>
              <p:spPr>
                <a:xfrm>
                  <a:off x="1823760" y="3239640"/>
                  <a:ext cx="0" cy="108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" name="直線コネクタ 47"/>
                <p:cNvSpPr/>
                <p:nvPr/>
              </p:nvSpPr>
              <p:spPr>
                <a:xfrm>
                  <a:off x="1545840" y="3779640"/>
                  <a:ext cx="349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7" name="グループ化 1025"/>
              <p:cNvGrpSpPr/>
              <p:nvPr/>
            </p:nvGrpSpPr>
            <p:grpSpPr>
              <a:xfrm>
                <a:off x="1637280" y="6084000"/>
                <a:ext cx="432000" cy="431640"/>
                <a:chOff x="1637280" y="6084000"/>
                <a:chExt cx="432000" cy="431640"/>
              </a:xfrm>
            </p:grpSpPr>
            <p:sp>
              <p:nvSpPr>
                <p:cNvPr id="38" name="Freeform 37"/>
                <p:cNvSpPr/>
                <p:nvPr/>
              </p:nvSpPr>
              <p:spPr>
                <a:xfrm>
                  <a:off x="1637280" y="6084000"/>
                  <a:ext cx="324000" cy="431640"/>
                </a:xfrm>
                <a:custGeom>
                  <a:avLst/>
                  <a:gdLst/>
                  <a:ahLst/>
                  <a:rect l="l" t="t" r="r" b="b"/>
                  <a:pathLst>
                    <a:path w="204" h="270">
                      <a:moveTo>
                        <a:pt x="0" y="0"/>
                      </a:moveTo>
                      <a:lnTo>
                        <a:pt x="204" y="0"/>
                      </a:lnTo>
                      <a:lnTo>
                        <a:pt x="204" y="27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" name="Freeform 38"/>
                <p:cNvSpPr/>
                <p:nvPr/>
              </p:nvSpPr>
              <p:spPr>
                <a:xfrm>
                  <a:off x="1637280" y="6192360"/>
                  <a:ext cx="432000" cy="323280"/>
                </a:xfrm>
                <a:custGeom>
                  <a:avLst/>
                  <a:gdLst/>
                  <a:ahLst/>
                  <a:rect l="l" t="t" r="r" b="b"/>
                  <a:pathLst>
                    <a:path w="276" h="204">
                      <a:moveTo>
                        <a:pt x="276" y="204"/>
                      </a:moveTo>
                      <a:lnTo>
                        <a:pt x="27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0" name="グループ化 1035"/>
              <p:cNvGrpSpPr/>
              <p:nvPr/>
            </p:nvGrpSpPr>
            <p:grpSpPr>
              <a:xfrm>
                <a:off x="8623440" y="1042920"/>
                <a:ext cx="432000" cy="432000"/>
                <a:chOff x="8623440" y="1042920"/>
                <a:chExt cx="432000" cy="432000"/>
              </a:xfrm>
            </p:grpSpPr>
            <p:sp>
              <p:nvSpPr>
                <p:cNvPr id="41" name="Freeform 47"/>
                <p:cNvSpPr/>
                <p:nvPr/>
              </p:nvSpPr>
              <p:spPr>
                <a:xfrm>
                  <a:off x="8731440" y="1042920"/>
                  <a:ext cx="324000" cy="432000"/>
                </a:xfrm>
                <a:custGeom>
                  <a:avLst/>
                  <a:gdLst/>
                  <a:ahLst/>
                  <a:rect l="l" t="t" r="r" b="b"/>
                  <a:pathLst>
                    <a:path w="204" h="276">
                      <a:moveTo>
                        <a:pt x="204" y="276"/>
                      </a:moveTo>
                      <a:lnTo>
                        <a:pt x="0" y="27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" name="Freeform 48"/>
                <p:cNvSpPr/>
                <p:nvPr/>
              </p:nvSpPr>
              <p:spPr>
                <a:xfrm>
                  <a:off x="8623440" y="1042920"/>
                  <a:ext cx="432000" cy="324000"/>
                </a:xfrm>
                <a:custGeom>
                  <a:avLst/>
                  <a:gdLst/>
                  <a:ahLst/>
                  <a:rect l="l" t="t" r="r" b="b"/>
                  <a:pathLst>
                    <a:path w="270" h="204">
                      <a:moveTo>
                        <a:pt x="0" y="0"/>
                      </a:moveTo>
                      <a:lnTo>
                        <a:pt x="0" y="204"/>
                      </a:lnTo>
                      <a:lnTo>
                        <a:pt x="270" y="20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3" name="グループ化 43"/>
              <p:cNvGrpSpPr/>
              <p:nvPr/>
            </p:nvGrpSpPr>
            <p:grpSpPr>
              <a:xfrm>
                <a:off x="8790120" y="3239640"/>
                <a:ext cx="349200" cy="1080000"/>
                <a:chOff x="8790120" y="3239640"/>
                <a:chExt cx="349200" cy="1080000"/>
              </a:xfrm>
            </p:grpSpPr>
            <p:sp>
              <p:nvSpPr>
                <p:cNvPr id="44" name="直線コネクタ 39"/>
                <p:cNvSpPr/>
                <p:nvPr/>
              </p:nvSpPr>
              <p:spPr>
                <a:xfrm>
                  <a:off x="8861400" y="3239640"/>
                  <a:ext cx="0" cy="108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直線コネクタ 40"/>
                <p:cNvSpPr/>
                <p:nvPr/>
              </p:nvSpPr>
              <p:spPr>
                <a:xfrm>
                  <a:off x="8790120" y="3779640"/>
                  <a:ext cx="349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6" name="グループ化 1031"/>
              <p:cNvGrpSpPr/>
              <p:nvPr/>
            </p:nvGrpSpPr>
            <p:grpSpPr>
              <a:xfrm>
                <a:off x="8623440" y="6084000"/>
                <a:ext cx="432000" cy="432000"/>
                <a:chOff x="8623440" y="6084000"/>
                <a:chExt cx="432000" cy="432000"/>
              </a:xfrm>
            </p:grpSpPr>
            <p:sp>
              <p:nvSpPr>
                <p:cNvPr id="47" name="Freeform 41"/>
                <p:cNvSpPr/>
                <p:nvPr/>
              </p:nvSpPr>
              <p:spPr>
                <a:xfrm>
                  <a:off x="8731440" y="6084000"/>
                  <a:ext cx="324000" cy="432000"/>
                </a:xfrm>
                <a:custGeom>
                  <a:avLst/>
                  <a:gdLst/>
                  <a:ahLst/>
                  <a:rect l="l" t="t" r="r" b="b"/>
                  <a:pathLst>
                    <a:path w="204" h="270">
                      <a:moveTo>
                        <a:pt x="204" y="0"/>
                      </a:moveTo>
                      <a:lnTo>
                        <a:pt x="0" y="0"/>
                      </a:lnTo>
                      <a:lnTo>
                        <a:pt x="0" y="27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42"/>
                <p:cNvSpPr/>
                <p:nvPr/>
              </p:nvSpPr>
              <p:spPr>
                <a:xfrm>
                  <a:off x="8623440" y="6192720"/>
                  <a:ext cx="432000" cy="323280"/>
                </a:xfrm>
                <a:custGeom>
                  <a:avLst/>
                  <a:gdLst/>
                  <a:ahLst/>
                  <a:rect l="l" t="t" r="r" b="b"/>
                  <a:pathLst>
                    <a:path w="270" h="204">
                      <a:moveTo>
                        <a:pt x="0" y="204"/>
                      </a:moveTo>
                      <a:lnTo>
                        <a:pt x="0" y="0"/>
                      </a:lnTo>
                      <a:lnTo>
                        <a:pt x="27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9" name="グループ化 44"/>
              <p:cNvGrpSpPr/>
              <p:nvPr/>
            </p:nvGrpSpPr>
            <p:grpSpPr>
              <a:xfrm>
                <a:off x="4806000" y="6266160"/>
                <a:ext cx="1079280" cy="347400"/>
                <a:chOff x="4806000" y="6266160"/>
                <a:chExt cx="1079280" cy="347400"/>
              </a:xfrm>
            </p:grpSpPr>
            <p:sp>
              <p:nvSpPr>
                <p:cNvPr id="50" name="直線コネクタ 32"/>
                <p:cNvSpPr/>
                <p:nvPr/>
              </p:nvSpPr>
              <p:spPr>
                <a:xfrm>
                  <a:off x="4806000" y="6337440"/>
                  <a:ext cx="107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1" name="直線コネクタ 33"/>
                <p:cNvSpPr/>
                <p:nvPr/>
              </p:nvSpPr>
              <p:spPr>
                <a:xfrm>
                  <a:off x="5345640" y="6266160"/>
                  <a:ext cx="0" cy="347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31T05:16:28Z</dcterms:modified>
  <cp:revision>57</cp:revision>
  <dc:subject/>
  <dc:title>PowerPoint プレゼンテーション</dc:title>
</cp:coreProperties>
</file>