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067"/>
          <p:cNvGrpSpPr/>
          <p:nvPr/>
        </p:nvGrpSpPr>
        <p:grpSpPr>
          <a:xfrm>
            <a:off x="611280" y="6780240"/>
            <a:ext cx="7239960" cy="505440"/>
            <a:chOff x="611280" y="6780240"/>
            <a:chExt cx="7239960" cy="505440"/>
          </a:xfrm>
        </p:grpSpPr>
        <p:sp>
          <p:nvSpPr>
            <p:cNvPr id="1" name="正方形/長方形 3"/>
            <p:cNvSpPr/>
            <p:nvPr/>
          </p:nvSpPr>
          <p:spPr>
            <a:xfrm>
              <a:off x="611280" y="6780240"/>
              <a:ext cx="412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0066ff"/>
                  </a:solidFill>
                  <a:latin typeface="ＭＳ Ｐゴシック"/>
                </a:rPr>
                <a:t>●</a:t>
              </a:r>
              <a:r>
                <a:rPr b="1" lang="ja-JP" sz="900" spc="-1" strike="noStrike">
                  <a:solidFill>
                    <a:srgbClr val="0066ff"/>
                  </a:solidFill>
                  <a:latin typeface="ＭＳ Ｐゴシック"/>
                </a:rPr>
                <a:t>水色の枠線</a:t>
              </a:r>
              <a:r>
                <a:rPr b="1" lang="en-US" sz="900" spc="-1" strike="noStrike">
                  <a:solidFill>
                    <a:srgbClr val="0066ff"/>
                  </a:solidFill>
                  <a:latin typeface="ＭＳ Ｐゴシック"/>
                </a:rPr>
                <a:t>……</a:t>
              </a:r>
              <a:r>
                <a:rPr b="1" lang="ja-JP" sz="900" spc="-1" strike="noStrike">
                  <a:solidFill>
                    <a:srgbClr val="0066ff"/>
                  </a:solidFill>
                  <a:latin typeface="ＭＳ Ｐゴシック"/>
                </a:rPr>
                <a:t>切れてはいけない要素（文字やロゴ等）をいれる範囲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cc00ff"/>
                  </a:solidFill>
                  <a:latin typeface="ＭＳ Ｐゴシック"/>
                </a:rPr>
                <a:t>●</a:t>
              </a:r>
              <a:r>
                <a:rPr b="1" lang="ja-JP" sz="900" spc="-1" strike="noStrike">
                  <a:solidFill>
                    <a:srgbClr val="cc00ff"/>
                  </a:solidFill>
                  <a:latin typeface="ＭＳ Ｐゴシック"/>
                </a:rPr>
                <a:t>ピンクの枠線</a:t>
              </a:r>
              <a:r>
                <a:rPr b="1" lang="en-US" sz="900" spc="-1" strike="noStrike">
                  <a:solidFill>
                    <a:srgbClr val="cc00ff"/>
                  </a:solidFill>
                  <a:latin typeface="ＭＳ Ｐゴシック"/>
                </a:rPr>
                <a:t>…</a:t>
              </a:r>
              <a:r>
                <a:rPr b="1" lang="ja-JP" sz="900" spc="-1" strike="noStrike">
                  <a:solidFill>
                    <a:srgbClr val="cc00ff"/>
                  </a:solidFill>
                  <a:latin typeface="ＭＳ Ｐゴシック"/>
                </a:rPr>
                <a:t>仕上がりのサイ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008000"/>
                  </a:solidFill>
                  <a:latin typeface="ＭＳ Ｐゴシック"/>
                </a:rPr>
                <a:t>●</a:t>
              </a:r>
              <a:r>
                <a:rPr b="1" lang="ja-JP" sz="900" spc="-1" strike="noStrike">
                  <a:solidFill>
                    <a:srgbClr val="008000"/>
                  </a:solidFill>
                  <a:latin typeface="ＭＳ Ｐゴシック"/>
                </a:rPr>
                <a:t>みどりの枠線</a:t>
              </a:r>
              <a:r>
                <a:rPr b="1" lang="en-US" sz="900" spc="-1" strike="noStrike">
                  <a:solidFill>
                    <a:srgbClr val="008000"/>
                  </a:solidFill>
                  <a:latin typeface="ＭＳ Ｐゴシック"/>
                </a:rPr>
                <a:t>…</a:t>
              </a:r>
              <a:r>
                <a:rPr b="1" lang="ja-JP" sz="900" spc="-1" strike="noStrike">
                  <a:solidFill>
                    <a:srgbClr val="008000"/>
                  </a:solidFill>
                  <a:latin typeface="ＭＳ Ｐゴシック"/>
                </a:rPr>
                <a:t>フチなし印刷にする場合、背景を伸ばす範囲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テキスト ボックス 10"/>
            <p:cNvSpPr/>
            <p:nvPr/>
          </p:nvSpPr>
          <p:spPr>
            <a:xfrm>
              <a:off x="6969240" y="6850080"/>
              <a:ext cx="88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★★★ </a:t>
              </a: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ＰＤＦに変換して入稿される場合 ★★★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グループ化 12"/>
          <p:cNvGrpSpPr/>
          <p:nvPr/>
        </p:nvGrpSpPr>
        <p:grpSpPr>
          <a:xfrm>
            <a:off x="1962000" y="1368360"/>
            <a:ext cx="6767640" cy="4822920"/>
            <a:chOff x="1962000" y="1368360"/>
            <a:chExt cx="6767640" cy="4822920"/>
          </a:xfrm>
        </p:grpSpPr>
        <p:grpSp>
          <p:nvGrpSpPr>
            <p:cNvPr id="4" name="グループ化 13"/>
            <p:cNvGrpSpPr/>
            <p:nvPr/>
          </p:nvGrpSpPr>
          <p:grpSpPr>
            <a:xfrm>
              <a:off x="1962000" y="1368360"/>
              <a:ext cx="6767640" cy="4822920"/>
              <a:chOff x="1962000" y="1368360"/>
              <a:chExt cx="6767640" cy="4822920"/>
            </a:xfrm>
          </p:grpSpPr>
          <p:sp>
            <p:nvSpPr>
              <p:cNvPr id="5" name="正方形/長方形 30"/>
              <p:cNvSpPr/>
              <p:nvPr/>
            </p:nvSpPr>
            <p:spPr>
              <a:xfrm>
                <a:off x="2069640" y="1476000"/>
                <a:ext cx="6552000" cy="460728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正方形/長方形 34"/>
              <p:cNvSpPr/>
              <p:nvPr/>
            </p:nvSpPr>
            <p:spPr>
              <a:xfrm>
                <a:off x="2177640" y="1800000"/>
                <a:ext cx="6336000" cy="417528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正方形/長方形 35"/>
              <p:cNvSpPr/>
              <p:nvPr/>
            </p:nvSpPr>
            <p:spPr>
              <a:xfrm>
                <a:off x="1962000" y="1368360"/>
                <a:ext cx="6767640" cy="482292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" name="グループ化 1121" descr=""/>
            <p:cNvPicPr/>
            <p:nvPr/>
          </p:nvPicPr>
          <p:blipFill>
            <a:blip r:embed="rId2"/>
            <a:stretch/>
          </p:blipFill>
          <p:spPr>
            <a:xfrm>
              <a:off x="2822040" y="1541880"/>
              <a:ext cx="5053680" cy="15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" name="グループ化 1060"/>
          <p:cNvGrpSpPr/>
          <p:nvPr/>
        </p:nvGrpSpPr>
        <p:grpSpPr>
          <a:xfrm>
            <a:off x="1427040" y="900000"/>
            <a:ext cx="7712280" cy="5713560"/>
            <a:chOff x="1427040" y="900000"/>
            <a:chExt cx="7712280" cy="5713560"/>
          </a:xfrm>
        </p:grpSpPr>
        <p:grpSp>
          <p:nvGrpSpPr>
            <p:cNvPr id="10" name="グループ化 1058"/>
            <p:cNvGrpSpPr/>
            <p:nvPr/>
          </p:nvGrpSpPr>
          <p:grpSpPr>
            <a:xfrm>
              <a:off x="1427040" y="900000"/>
              <a:ext cx="7194600" cy="5185080"/>
              <a:chOff x="1427040" y="900000"/>
              <a:chExt cx="7194600" cy="5185080"/>
            </a:xfrm>
          </p:grpSpPr>
          <p:cxnSp>
            <p:nvCxnSpPr>
              <p:cNvPr id="11" name="直線矢印コネクタ 4"/>
              <p:cNvCxnSpPr/>
              <p:nvPr/>
            </p:nvCxnSpPr>
            <p:spPr>
              <a:xfrm>
                <a:off x="2071440" y="1186920"/>
                <a:ext cx="6550560" cy="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2" name="直線矢印コネクタ 6"/>
              <p:cNvCxnSpPr/>
              <p:nvPr/>
            </p:nvCxnSpPr>
            <p:spPr>
              <a:xfrm>
                <a:off x="1743840" y="1476000"/>
                <a:ext cx="1080" cy="4609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3" name="テキスト ボックス 7"/>
              <p:cNvSpPr/>
              <p:nvPr/>
            </p:nvSpPr>
            <p:spPr>
              <a:xfrm>
                <a:off x="2184120" y="90000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27040"/>
                    <a:tab algn="l" pos="1054080"/>
                    <a:tab algn="l" pos="1581120"/>
                    <a:tab algn="l" pos="2108160"/>
                    <a:tab algn="l" pos="2635200"/>
                    <a:tab algn="l" pos="3162240"/>
                    <a:tab algn="l" pos="3689280"/>
                    <a:tab algn="l" pos="4216320"/>
                    <a:tab algn="l" pos="4743360"/>
                    <a:tab algn="l" pos="5270400"/>
                    <a:tab algn="l" pos="5797440"/>
                    <a:tab algn="l" pos="6324480"/>
                    <a:tab algn="l" pos="6851520"/>
                    <a:tab algn="l" pos="7378560"/>
                    <a:tab algn="l" pos="7905600"/>
                    <a:tab algn="l" pos="8432640"/>
                    <a:tab algn="l" pos="8959680"/>
                    <a:tab algn="l" pos="9487080"/>
                    <a:tab algn="l" pos="10014120"/>
                    <a:tab algn="l" pos="105411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182m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テキスト ボックス 10"/>
              <p:cNvSpPr/>
              <p:nvPr/>
            </p:nvSpPr>
            <p:spPr>
              <a:xfrm rot="16200000">
                <a:off x="1263240" y="193428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27040"/>
                    <a:tab algn="l" pos="1054080"/>
                    <a:tab algn="l" pos="1581120"/>
                    <a:tab algn="l" pos="2108160"/>
                    <a:tab algn="l" pos="2635200"/>
                    <a:tab algn="l" pos="3162240"/>
                    <a:tab algn="l" pos="3689280"/>
                    <a:tab algn="l" pos="4216320"/>
                    <a:tab algn="l" pos="4743360"/>
                    <a:tab algn="l" pos="5270400"/>
                    <a:tab algn="l" pos="5797440"/>
                    <a:tab algn="l" pos="6324480"/>
                    <a:tab algn="l" pos="6851520"/>
                    <a:tab algn="l" pos="7378560"/>
                    <a:tab algn="l" pos="7905600"/>
                    <a:tab algn="l" pos="8432640"/>
                    <a:tab algn="l" pos="8959680"/>
                    <a:tab algn="l" pos="9487080"/>
                    <a:tab algn="l" pos="10014120"/>
                    <a:tab algn="l" pos="105411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128m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059"/>
            <p:cNvGrpSpPr/>
            <p:nvPr/>
          </p:nvGrpSpPr>
          <p:grpSpPr>
            <a:xfrm>
              <a:off x="1545840" y="945720"/>
              <a:ext cx="7593480" cy="5667840"/>
              <a:chOff x="1545840" y="945720"/>
              <a:chExt cx="7593480" cy="5667840"/>
            </a:xfrm>
          </p:grpSpPr>
          <p:grpSp>
            <p:nvGrpSpPr>
              <p:cNvPr id="16" name="グループ化 41"/>
              <p:cNvGrpSpPr/>
              <p:nvPr/>
            </p:nvGrpSpPr>
            <p:grpSpPr>
              <a:xfrm>
                <a:off x="4806000" y="945720"/>
                <a:ext cx="1079280" cy="347400"/>
                <a:chOff x="4806000" y="945720"/>
                <a:chExt cx="1079280" cy="347400"/>
              </a:xfrm>
            </p:grpSpPr>
            <p:sp>
              <p:nvSpPr>
                <p:cNvPr id="17" name="直線コネクタ 1023"/>
                <p:cNvSpPr/>
                <p:nvPr/>
              </p:nvSpPr>
              <p:spPr>
                <a:xfrm>
                  <a:off x="4806000" y="1221840"/>
                  <a:ext cx="10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" name="直線コネクタ 1024"/>
                <p:cNvSpPr/>
                <p:nvPr/>
              </p:nvSpPr>
              <p:spPr>
                <a:xfrm>
                  <a:off x="5345640" y="945720"/>
                  <a:ext cx="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" name="グループ化 1033"/>
              <p:cNvGrpSpPr/>
              <p:nvPr/>
            </p:nvGrpSpPr>
            <p:grpSpPr>
              <a:xfrm>
                <a:off x="1637280" y="1041840"/>
                <a:ext cx="432000" cy="433080"/>
                <a:chOff x="1637280" y="1041840"/>
                <a:chExt cx="432000" cy="433080"/>
              </a:xfrm>
            </p:grpSpPr>
            <p:sp>
              <p:nvSpPr>
                <p:cNvPr id="20" name="Freeform 45"/>
                <p:cNvSpPr/>
                <p:nvPr/>
              </p:nvSpPr>
              <p:spPr>
                <a:xfrm>
                  <a:off x="1637280" y="1041840"/>
                  <a:ext cx="324000" cy="43308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0" y="276"/>
                      </a:moveTo>
                      <a:lnTo>
                        <a:pt x="204" y="276"/>
                      </a:lnTo>
                      <a:lnTo>
                        <a:pt x="2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46"/>
                <p:cNvSpPr/>
                <p:nvPr/>
              </p:nvSpPr>
              <p:spPr>
                <a:xfrm>
                  <a:off x="1637280" y="104256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0"/>
                      </a:moveTo>
                      <a:lnTo>
                        <a:pt x="276" y="204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2" name="グループ化 42"/>
              <p:cNvGrpSpPr/>
              <p:nvPr/>
            </p:nvGrpSpPr>
            <p:grpSpPr>
              <a:xfrm>
                <a:off x="1545840" y="3239640"/>
                <a:ext cx="349200" cy="1080000"/>
                <a:chOff x="1545840" y="3239640"/>
                <a:chExt cx="349200" cy="1080000"/>
              </a:xfrm>
            </p:grpSpPr>
            <p:sp>
              <p:nvSpPr>
                <p:cNvPr id="23" name="直線コネクタ 61"/>
                <p:cNvSpPr/>
                <p:nvPr/>
              </p:nvSpPr>
              <p:spPr>
                <a:xfrm>
                  <a:off x="1823760" y="3239640"/>
                  <a:ext cx="0" cy="10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" name="直線コネクタ 62"/>
                <p:cNvSpPr/>
                <p:nvPr/>
              </p:nvSpPr>
              <p:spPr>
                <a:xfrm>
                  <a:off x="1545840" y="3779640"/>
                  <a:ext cx="34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" name="グループ化 1025"/>
              <p:cNvGrpSpPr/>
              <p:nvPr/>
            </p:nvGrpSpPr>
            <p:grpSpPr>
              <a:xfrm>
                <a:off x="1637280" y="6084000"/>
                <a:ext cx="432000" cy="431640"/>
                <a:chOff x="1637280" y="6084000"/>
                <a:chExt cx="432000" cy="431640"/>
              </a:xfrm>
            </p:grpSpPr>
            <p:sp>
              <p:nvSpPr>
                <p:cNvPr id="26" name="Freeform 37"/>
                <p:cNvSpPr/>
                <p:nvPr/>
              </p:nvSpPr>
              <p:spPr>
                <a:xfrm>
                  <a:off x="1637280" y="6084000"/>
                  <a:ext cx="324000" cy="43164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0" y="0"/>
                      </a:moveTo>
                      <a:lnTo>
                        <a:pt x="204" y="0"/>
                      </a:lnTo>
                      <a:lnTo>
                        <a:pt x="204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" name="Freeform 38"/>
                <p:cNvSpPr/>
                <p:nvPr/>
              </p:nvSpPr>
              <p:spPr>
                <a:xfrm>
                  <a:off x="1637280" y="619236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204"/>
                      </a:moveTo>
                      <a:lnTo>
                        <a:pt x="27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" name="グループ化 1035"/>
              <p:cNvGrpSpPr/>
              <p:nvPr/>
            </p:nvGrpSpPr>
            <p:grpSpPr>
              <a:xfrm>
                <a:off x="8623440" y="1042920"/>
                <a:ext cx="432000" cy="432000"/>
                <a:chOff x="8623440" y="1042920"/>
                <a:chExt cx="432000" cy="432000"/>
              </a:xfrm>
            </p:grpSpPr>
            <p:sp>
              <p:nvSpPr>
                <p:cNvPr id="29" name="Freeform 47"/>
                <p:cNvSpPr/>
                <p:nvPr/>
              </p:nvSpPr>
              <p:spPr>
                <a:xfrm>
                  <a:off x="8731440" y="104292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204" y="276"/>
                      </a:move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8623440" y="104292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7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" name="グループ化 43"/>
              <p:cNvGrpSpPr/>
              <p:nvPr/>
            </p:nvGrpSpPr>
            <p:grpSpPr>
              <a:xfrm>
                <a:off x="8790120" y="3239640"/>
                <a:ext cx="349200" cy="1080000"/>
                <a:chOff x="8790120" y="3239640"/>
                <a:chExt cx="349200" cy="1080000"/>
              </a:xfrm>
            </p:grpSpPr>
            <p:sp>
              <p:nvSpPr>
                <p:cNvPr id="32" name="直線コネクタ 55"/>
                <p:cNvSpPr/>
                <p:nvPr/>
              </p:nvSpPr>
              <p:spPr>
                <a:xfrm>
                  <a:off x="8861400" y="3239640"/>
                  <a:ext cx="0" cy="10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直線コネクタ 60"/>
                <p:cNvSpPr/>
                <p:nvPr/>
              </p:nvSpPr>
              <p:spPr>
                <a:xfrm>
                  <a:off x="8790120" y="3779640"/>
                  <a:ext cx="34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" name="グループ化 1031"/>
              <p:cNvGrpSpPr/>
              <p:nvPr/>
            </p:nvGrpSpPr>
            <p:grpSpPr>
              <a:xfrm>
                <a:off x="8623440" y="6084000"/>
                <a:ext cx="432000" cy="432000"/>
                <a:chOff x="8623440" y="6084000"/>
                <a:chExt cx="432000" cy="432000"/>
              </a:xfrm>
            </p:grpSpPr>
            <p:sp>
              <p:nvSpPr>
                <p:cNvPr id="35" name="Freeform 41"/>
                <p:cNvSpPr/>
                <p:nvPr/>
              </p:nvSpPr>
              <p:spPr>
                <a:xfrm>
                  <a:off x="8731440" y="608400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204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" name="Freeform 42"/>
                <p:cNvSpPr/>
                <p:nvPr/>
              </p:nvSpPr>
              <p:spPr>
                <a:xfrm>
                  <a:off x="8623440" y="619272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7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" name="グループ化 44"/>
              <p:cNvGrpSpPr/>
              <p:nvPr/>
            </p:nvGrpSpPr>
            <p:grpSpPr>
              <a:xfrm>
                <a:off x="4806000" y="6266160"/>
                <a:ext cx="1079280" cy="347400"/>
                <a:chOff x="4806000" y="6266160"/>
                <a:chExt cx="1079280" cy="347400"/>
              </a:xfrm>
            </p:grpSpPr>
            <p:sp>
              <p:nvSpPr>
                <p:cNvPr id="38" name="直線コネクタ 45"/>
                <p:cNvSpPr/>
                <p:nvPr/>
              </p:nvSpPr>
              <p:spPr>
                <a:xfrm>
                  <a:off x="4806000" y="6337440"/>
                  <a:ext cx="10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" name="直線コネクタ 54"/>
                <p:cNvSpPr/>
                <p:nvPr/>
              </p:nvSpPr>
              <p:spPr>
                <a:xfrm>
                  <a:off x="5345640" y="6266160"/>
                  <a:ext cx="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40" name="図 7" descr=""/>
          <p:cNvPicPr/>
          <p:nvPr/>
        </p:nvPicPr>
        <p:blipFill>
          <a:blip r:embed="rId3"/>
          <a:stretch/>
        </p:blipFill>
        <p:spPr>
          <a:xfrm>
            <a:off x="609480" y="1023840"/>
            <a:ext cx="478080" cy="5511960"/>
          </a:xfrm>
          <a:prstGeom prst="rect">
            <a:avLst/>
          </a:prstGeom>
          <a:ln w="0">
            <a:noFill/>
          </a:ln>
        </p:spPr>
      </p:pic>
      <p:grpSp>
        <p:nvGrpSpPr>
          <p:cNvPr id="41" name="グループ化 12"/>
          <p:cNvGrpSpPr/>
          <p:nvPr/>
        </p:nvGrpSpPr>
        <p:grpSpPr>
          <a:xfrm>
            <a:off x="1654200" y="96840"/>
            <a:ext cx="7383600" cy="809640"/>
            <a:chOff x="1654200" y="96840"/>
            <a:chExt cx="7383600" cy="809640"/>
          </a:xfrm>
        </p:grpSpPr>
        <p:pic>
          <p:nvPicPr>
            <p:cNvPr id="42" name="図 11" descr="テキスト が含まれている画像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5084640" y="96840"/>
              <a:ext cx="39531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23"/>
            <p:cNvSpPr/>
            <p:nvPr/>
          </p:nvSpPr>
          <p:spPr>
            <a:xfrm>
              <a:off x="1654200" y="366480"/>
              <a:ext cx="343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卓上リング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シングル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)_B6_13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82 × 128 mm 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図 9" descr="テキスト&#10;&#10;AI 生成コンテンツは誤りを含む可能性があります。"/>
            <p:cNvPicPr/>
            <p:nvPr/>
          </p:nvPicPr>
          <p:blipFill>
            <a:blip r:embed="rId5"/>
            <a:stretch/>
          </p:blipFill>
          <p:spPr>
            <a:xfrm>
              <a:off x="1721160" y="131400"/>
              <a:ext cx="1421280" cy="251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1T03:48:04Z</dcterms:modified>
  <cp:revision>54</cp:revision>
  <dc:subject/>
  <dc:title>PowerPoint プレゼンテーション</dc:title>
</cp:coreProperties>
</file>