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1868400" y="17226000"/>
            <a:ext cx="8844840" cy="641520"/>
            <a:chOff x="1868400" y="17226000"/>
            <a:chExt cx="8844840" cy="641520"/>
          </a:xfrm>
        </p:grpSpPr>
        <p:sp>
          <p:nvSpPr>
            <p:cNvPr id="1" name="正方形/長方形 3"/>
            <p:cNvSpPr/>
            <p:nvPr/>
          </p:nvSpPr>
          <p:spPr>
            <a:xfrm>
              <a:off x="1868400" y="17226000"/>
              <a:ext cx="49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水色の枠線</a:t>
              </a:r>
              <a:r>
                <a:rPr b="1" lang="en-US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……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切れてはいけない要素（文字やロゴ等）をいれる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ピンクの枠線</a:t>
              </a:r>
              <a:r>
                <a:rPr b="1" lang="en-US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仕上がりのサイ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みどりの枠線</a:t>
              </a:r>
              <a:r>
                <a:rPr b="1" lang="en-US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フチなし印刷にする場合、背景を伸ばす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9594000" y="17319600"/>
              <a:ext cx="111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★★★ </a:t>
              </a: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ＰＤＦに変換して入稿される場合 ★★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1063"/>
          <p:cNvGrpSpPr/>
          <p:nvPr/>
        </p:nvGrpSpPr>
        <p:grpSpPr>
          <a:xfrm>
            <a:off x="1746360" y="1332000"/>
            <a:ext cx="10907640" cy="15335280"/>
            <a:chOff x="1746360" y="1332000"/>
            <a:chExt cx="10907640" cy="15335280"/>
          </a:xfrm>
        </p:grpSpPr>
        <p:sp>
          <p:nvSpPr>
            <p:cNvPr id="4" name="楕円 14"/>
            <p:cNvSpPr/>
            <p:nvPr/>
          </p:nvSpPr>
          <p:spPr>
            <a:xfrm>
              <a:off x="7093080" y="1692360"/>
              <a:ext cx="214200" cy="215640"/>
            </a:xfrm>
            <a:prstGeom prst="ellipse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楕円 15"/>
            <p:cNvSpPr/>
            <p:nvPr/>
          </p:nvSpPr>
          <p:spPr>
            <a:xfrm>
              <a:off x="7093080" y="16092720"/>
              <a:ext cx="214200" cy="215640"/>
            </a:xfrm>
            <a:prstGeom prst="ellipse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" name="グループ化 1060"/>
            <p:cNvGrpSpPr/>
            <p:nvPr/>
          </p:nvGrpSpPr>
          <p:grpSpPr>
            <a:xfrm>
              <a:off x="1746360" y="1332000"/>
              <a:ext cx="10907640" cy="15335280"/>
              <a:chOff x="1746360" y="1332000"/>
              <a:chExt cx="10907640" cy="15335280"/>
            </a:xfrm>
          </p:grpSpPr>
          <p:sp>
            <p:nvSpPr>
              <p:cNvPr id="7" name="正方形/長方形 16"/>
              <p:cNvSpPr/>
              <p:nvPr/>
            </p:nvSpPr>
            <p:spPr>
              <a:xfrm>
                <a:off x="1746360" y="1332000"/>
                <a:ext cx="10907640" cy="153352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ctr">
                <a:noAutofit/>
              </a:bodyPr>
              <a:p>
                <a:pPr>
                  <a:tabLst>
                    <a:tab algn="l" pos="0"/>
                    <a:tab algn="l" pos="781200"/>
                    <a:tab algn="l" pos="1562040"/>
                    <a:tab algn="l" pos="2343240"/>
                    <a:tab algn="l" pos="3124080"/>
                    <a:tab algn="l" pos="3905280"/>
                    <a:tab algn="l" pos="4686480"/>
                    <a:tab algn="l" pos="5467320"/>
                    <a:tab algn="l" pos="6248520"/>
                    <a:tab algn="l" pos="7029360"/>
                    <a:tab algn="l" pos="7810560"/>
                    <a:tab algn="l" pos="8591400"/>
                    <a:tab algn="l" pos="9372600"/>
                    <a:tab algn="l" pos="1015380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" name="グループ化 1057"/>
              <p:cNvGrpSpPr/>
              <p:nvPr/>
            </p:nvGrpSpPr>
            <p:grpSpPr>
              <a:xfrm>
                <a:off x="1854000" y="1439640"/>
                <a:ext cx="10691640" cy="15119640"/>
                <a:chOff x="1854000" y="1439640"/>
                <a:chExt cx="10691640" cy="15119640"/>
              </a:xfrm>
            </p:grpSpPr>
            <p:sp>
              <p:nvSpPr>
                <p:cNvPr id="9" name="正方形/長方形 21"/>
                <p:cNvSpPr/>
                <p:nvPr/>
              </p:nvSpPr>
              <p:spPr>
                <a:xfrm>
                  <a:off x="1854000" y="1439640"/>
                  <a:ext cx="10691640" cy="75600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正方形/長方形 19"/>
                <p:cNvSpPr/>
                <p:nvPr/>
              </p:nvSpPr>
              <p:spPr>
                <a:xfrm>
                  <a:off x="1854000" y="8999280"/>
                  <a:ext cx="10691640" cy="75600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" name="グループ化 1059"/>
              <p:cNvGrpSpPr/>
              <p:nvPr/>
            </p:nvGrpSpPr>
            <p:grpSpPr>
              <a:xfrm>
                <a:off x="1962000" y="1547640"/>
                <a:ext cx="10476000" cy="14903640"/>
                <a:chOff x="1962000" y="1547640"/>
                <a:chExt cx="10476000" cy="14903640"/>
              </a:xfrm>
            </p:grpSpPr>
            <p:sp>
              <p:nvSpPr>
                <p:cNvPr id="12" name="正方形/長方形 22"/>
                <p:cNvSpPr/>
                <p:nvPr/>
              </p:nvSpPr>
              <p:spPr>
                <a:xfrm>
                  <a:off x="1962000" y="1547640"/>
                  <a:ext cx="10476000" cy="7344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正方形/長方形 20"/>
                <p:cNvSpPr/>
                <p:nvPr/>
              </p:nvSpPr>
              <p:spPr>
                <a:xfrm>
                  <a:off x="1962000" y="9107280"/>
                  <a:ext cx="10476000" cy="7344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" name="グループ化 1093"/>
          <p:cNvGrpSpPr/>
          <p:nvPr/>
        </p:nvGrpSpPr>
        <p:grpSpPr>
          <a:xfrm>
            <a:off x="1327320" y="919080"/>
            <a:ext cx="11834640" cy="16162560"/>
            <a:chOff x="1327320" y="919080"/>
            <a:chExt cx="11834640" cy="16162560"/>
          </a:xfrm>
        </p:grpSpPr>
        <p:grpSp>
          <p:nvGrpSpPr>
            <p:cNvPr id="15" name="グループ化 1068"/>
            <p:cNvGrpSpPr/>
            <p:nvPr/>
          </p:nvGrpSpPr>
          <p:grpSpPr>
            <a:xfrm>
              <a:off x="1327320" y="919080"/>
              <a:ext cx="11746080" cy="16162560"/>
              <a:chOff x="1327320" y="919080"/>
              <a:chExt cx="11746080" cy="16162560"/>
            </a:xfrm>
          </p:grpSpPr>
          <p:grpSp>
            <p:nvGrpSpPr>
              <p:cNvPr id="16" name="グループ化 33"/>
              <p:cNvGrpSpPr/>
              <p:nvPr/>
            </p:nvGrpSpPr>
            <p:grpSpPr>
              <a:xfrm>
                <a:off x="1421280" y="1006560"/>
                <a:ext cx="11557800" cy="15983640"/>
                <a:chOff x="1421280" y="1006560"/>
                <a:chExt cx="11557800" cy="15983640"/>
              </a:xfrm>
            </p:grpSpPr>
            <p:grpSp>
              <p:nvGrpSpPr>
                <p:cNvPr id="17" name="グループ化 9"/>
                <p:cNvGrpSpPr/>
                <p:nvPr/>
              </p:nvGrpSpPr>
              <p:grpSpPr>
                <a:xfrm>
                  <a:off x="1422720" y="16558560"/>
                  <a:ext cx="432000" cy="431640"/>
                  <a:chOff x="1422720" y="16558560"/>
                  <a:chExt cx="432000" cy="431640"/>
                </a:xfrm>
              </p:grpSpPr>
              <p:sp>
                <p:nvSpPr>
                  <p:cNvPr id="18" name="Freeform 37"/>
                  <p:cNvSpPr/>
                  <p:nvPr/>
                </p:nvSpPr>
                <p:spPr>
                  <a:xfrm>
                    <a:off x="1422720" y="16558560"/>
                    <a:ext cx="32400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0" y="0"/>
                        </a:moveTo>
                        <a:lnTo>
                          <a:pt x="204" y="0"/>
                        </a:lnTo>
                        <a:lnTo>
                          <a:pt x="204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" name="Freeform 38"/>
                  <p:cNvSpPr/>
                  <p:nvPr/>
                </p:nvSpPr>
                <p:spPr>
                  <a:xfrm>
                    <a:off x="142272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204"/>
                        </a:moveTo>
                        <a:lnTo>
                          <a:pt x="276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" name="グループ化 10"/>
                <p:cNvGrpSpPr/>
                <p:nvPr/>
              </p:nvGrpSpPr>
              <p:grpSpPr>
                <a:xfrm>
                  <a:off x="12547080" y="16558200"/>
                  <a:ext cx="432000" cy="432000"/>
                  <a:chOff x="12547080" y="16558200"/>
                  <a:chExt cx="432000" cy="432000"/>
                </a:xfrm>
              </p:grpSpPr>
              <p:sp>
                <p:nvSpPr>
                  <p:cNvPr id="21" name="Freeform 41"/>
                  <p:cNvSpPr/>
                  <p:nvPr/>
                </p:nvSpPr>
                <p:spPr>
                  <a:xfrm>
                    <a:off x="12655080" y="1655820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204" y="0"/>
                        </a:moveTo>
                        <a:lnTo>
                          <a:pt x="0" y="0"/>
                        </a:lnTo>
                        <a:lnTo>
                          <a:pt x="0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" name="Freeform 42"/>
                  <p:cNvSpPr/>
                  <p:nvPr/>
                </p:nvSpPr>
                <p:spPr>
                  <a:xfrm>
                    <a:off x="1254708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204"/>
                        </a:moveTo>
                        <a:lnTo>
                          <a:pt x="0" y="0"/>
                        </a:lnTo>
                        <a:lnTo>
                          <a:pt x="27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3" name="グループ化 11"/>
                <p:cNvGrpSpPr/>
                <p:nvPr/>
              </p:nvGrpSpPr>
              <p:grpSpPr>
                <a:xfrm>
                  <a:off x="1421280" y="1006560"/>
                  <a:ext cx="432000" cy="432720"/>
                  <a:chOff x="1421280" y="1006560"/>
                  <a:chExt cx="432000" cy="432720"/>
                </a:xfrm>
              </p:grpSpPr>
              <p:sp>
                <p:nvSpPr>
                  <p:cNvPr id="24" name="Freeform 45"/>
                  <p:cNvSpPr/>
                  <p:nvPr/>
                </p:nvSpPr>
                <p:spPr>
                  <a:xfrm>
                    <a:off x="1421280" y="1006560"/>
                    <a:ext cx="32400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0" y="276"/>
                        </a:moveTo>
                        <a:lnTo>
                          <a:pt x="204" y="276"/>
                        </a:lnTo>
                        <a:lnTo>
                          <a:pt x="20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" name="Freeform 46"/>
                  <p:cNvSpPr/>
                  <p:nvPr/>
                </p:nvSpPr>
                <p:spPr>
                  <a:xfrm>
                    <a:off x="1421280" y="1007280"/>
                    <a:ext cx="43200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0"/>
                        </a:moveTo>
                        <a:lnTo>
                          <a:pt x="276" y="204"/>
                        </a:lnTo>
                        <a:lnTo>
                          <a:pt x="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" name="グループ化 12"/>
                <p:cNvGrpSpPr/>
                <p:nvPr/>
              </p:nvGrpSpPr>
              <p:grpSpPr>
                <a:xfrm>
                  <a:off x="12547080" y="1008720"/>
                  <a:ext cx="432000" cy="432000"/>
                  <a:chOff x="12547080" y="1008720"/>
                  <a:chExt cx="432000" cy="432000"/>
                </a:xfrm>
              </p:grpSpPr>
              <p:sp>
                <p:nvSpPr>
                  <p:cNvPr id="27" name="Freeform 47"/>
                  <p:cNvSpPr/>
                  <p:nvPr/>
                </p:nvSpPr>
                <p:spPr>
                  <a:xfrm>
                    <a:off x="12655080" y="100872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204" y="276"/>
                        </a:moveTo>
                        <a:lnTo>
                          <a:pt x="0" y="2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" name="Freeform 48"/>
                  <p:cNvSpPr/>
                  <p:nvPr/>
                </p:nvSpPr>
                <p:spPr>
                  <a:xfrm>
                    <a:off x="12547080" y="1008720"/>
                    <a:ext cx="432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0"/>
                        </a:moveTo>
                        <a:lnTo>
                          <a:pt x="0" y="204"/>
                        </a:lnTo>
                        <a:lnTo>
                          <a:pt x="27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9" name="グループ化 1067"/>
              <p:cNvGrpSpPr/>
              <p:nvPr/>
            </p:nvGrpSpPr>
            <p:grpSpPr>
              <a:xfrm>
                <a:off x="1327320" y="919080"/>
                <a:ext cx="11746080" cy="16162560"/>
                <a:chOff x="1327320" y="919080"/>
                <a:chExt cx="11746080" cy="16162560"/>
              </a:xfrm>
            </p:grpSpPr>
            <p:grpSp>
              <p:nvGrpSpPr>
                <p:cNvPr id="30" name="グループ化 48"/>
                <p:cNvGrpSpPr/>
                <p:nvPr/>
              </p:nvGrpSpPr>
              <p:grpSpPr>
                <a:xfrm>
                  <a:off x="1327320" y="8460360"/>
                  <a:ext cx="349200" cy="1080000"/>
                  <a:chOff x="1327320" y="8460360"/>
                  <a:chExt cx="349200" cy="1080000"/>
                </a:xfrm>
              </p:grpSpPr>
              <p:sp>
                <p:nvSpPr>
                  <p:cNvPr id="31" name="直線コネクタ 56"/>
                  <p:cNvSpPr/>
                  <p:nvPr/>
                </p:nvSpPr>
                <p:spPr>
                  <a:xfrm>
                    <a:off x="160524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直線コネクタ 57"/>
                  <p:cNvSpPr/>
                  <p:nvPr/>
                </p:nvSpPr>
                <p:spPr>
                  <a:xfrm>
                    <a:off x="132732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グループ化 49"/>
                <p:cNvGrpSpPr/>
                <p:nvPr/>
              </p:nvGrpSpPr>
              <p:grpSpPr>
                <a:xfrm>
                  <a:off x="12724200" y="8460360"/>
                  <a:ext cx="349200" cy="1080000"/>
                  <a:chOff x="12724200" y="8460360"/>
                  <a:chExt cx="349200" cy="1080000"/>
                </a:xfrm>
              </p:grpSpPr>
              <p:sp>
                <p:nvSpPr>
                  <p:cNvPr id="34" name="直線コネクタ 54"/>
                  <p:cNvSpPr/>
                  <p:nvPr/>
                </p:nvSpPr>
                <p:spPr>
                  <a:xfrm>
                    <a:off x="1279548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直線コネクタ 55"/>
                  <p:cNvSpPr/>
                  <p:nvPr/>
                </p:nvSpPr>
                <p:spPr>
                  <a:xfrm>
                    <a:off x="1272420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グループ化 47"/>
                <p:cNvGrpSpPr/>
                <p:nvPr/>
              </p:nvGrpSpPr>
              <p:grpSpPr>
                <a:xfrm>
                  <a:off x="6660360" y="919080"/>
                  <a:ext cx="1079640" cy="347400"/>
                  <a:chOff x="6660360" y="919080"/>
                  <a:chExt cx="1079640" cy="347400"/>
                </a:xfrm>
              </p:grpSpPr>
              <p:sp>
                <p:nvSpPr>
                  <p:cNvPr id="37" name="直線コネクタ 58"/>
                  <p:cNvSpPr/>
                  <p:nvPr/>
                </p:nvSpPr>
                <p:spPr>
                  <a:xfrm>
                    <a:off x="6660360" y="119520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直線コネクタ 59"/>
                  <p:cNvSpPr/>
                  <p:nvPr/>
                </p:nvSpPr>
                <p:spPr>
                  <a:xfrm>
                    <a:off x="7193160" y="91908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グループ化 51"/>
                <p:cNvGrpSpPr/>
                <p:nvPr/>
              </p:nvGrpSpPr>
              <p:grpSpPr>
                <a:xfrm>
                  <a:off x="6660360" y="16734240"/>
                  <a:ext cx="1079640" cy="347400"/>
                  <a:chOff x="6660360" y="16734240"/>
                  <a:chExt cx="1079640" cy="347400"/>
                </a:xfrm>
              </p:grpSpPr>
              <p:sp>
                <p:nvSpPr>
                  <p:cNvPr id="40" name="直線コネクタ 52"/>
                  <p:cNvSpPr/>
                  <p:nvPr/>
                </p:nvSpPr>
                <p:spPr>
                  <a:xfrm>
                    <a:off x="6660360" y="1680552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直線コネクタ 53"/>
                  <p:cNvSpPr/>
                  <p:nvPr/>
                </p:nvSpPr>
                <p:spPr>
                  <a:xfrm>
                    <a:off x="7193160" y="1673424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42" name="直線矢印コネクタ 1069"/>
            <p:cNvCxnSpPr/>
            <p:nvPr/>
          </p:nvCxnSpPr>
          <p:spPr>
            <a:xfrm>
              <a:off x="1854360" y="1223280"/>
              <a:ext cx="106927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" name="テキスト ボックス 79"/>
            <p:cNvSpPr/>
            <p:nvPr/>
          </p:nvSpPr>
          <p:spPr>
            <a:xfrm>
              <a:off x="2078640" y="1023840"/>
              <a:ext cx="61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97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" name="直線矢印コネクタ 1072"/>
            <p:cNvCxnSpPr/>
            <p:nvPr/>
          </p:nvCxnSpPr>
          <p:spPr>
            <a:xfrm>
              <a:off x="12890520" y="1439280"/>
              <a:ext cx="1080" cy="756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5" name="テキスト ボックス 84"/>
            <p:cNvSpPr/>
            <p:nvPr/>
          </p:nvSpPr>
          <p:spPr>
            <a:xfrm rot="10800000">
              <a:off x="12814200" y="165564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6" name="直線矢印コネクタ 1079"/>
            <p:cNvCxnSpPr/>
            <p:nvPr/>
          </p:nvCxnSpPr>
          <p:spPr>
            <a:xfrm>
              <a:off x="12890520" y="8999640"/>
              <a:ext cx="1080" cy="7562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7" name="テキスト ボックス 84"/>
            <p:cNvSpPr/>
            <p:nvPr/>
          </p:nvSpPr>
          <p:spPr>
            <a:xfrm rot="10800000">
              <a:off x="12814200" y="921708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6"/>
          <p:cNvGrpSpPr/>
          <p:nvPr/>
        </p:nvGrpSpPr>
        <p:grpSpPr>
          <a:xfrm>
            <a:off x="1488960" y="11160"/>
            <a:ext cx="11395080" cy="1036440"/>
            <a:chOff x="1488960" y="11160"/>
            <a:chExt cx="11395080" cy="1036440"/>
          </a:xfrm>
        </p:grpSpPr>
        <p:sp>
          <p:nvSpPr>
            <p:cNvPr id="49" name="Rectangle 23"/>
            <p:cNvSpPr/>
            <p:nvPr/>
          </p:nvSpPr>
          <p:spPr>
            <a:xfrm>
              <a:off x="1488960" y="349200"/>
              <a:ext cx="62834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中綴じ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4_28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紙の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42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21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図 5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34680" y="97560"/>
              <a:ext cx="170532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図 8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7824960" y="11160"/>
              <a:ext cx="5059080" cy="103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図 11" descr=""/>
          <p:cNvPicPr/>
          <p:nvPr/>
        </p:nvPicPr>
        <p:blipFill>
          <a:blip r:embed="rId4"/>
          <a:stretch/>
        </p:blipFill>
        <p:spPr>
          <a:xfrm>
            <a:off x="13434840" y="4475160"/>
            <a:ext cx="787680" cy="905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6T11:16:47Z</dcterms:created>
  <dc:creator>Eximage-25</dc:creator>
  <dc:description/>
  <dc:language>en-US</dc:language>
  <cp:lastModifiedBy>CR0096</cp:lastModifiedBy>
  <cp:lastPrinted>2020-09-09T11:54:37Z</cp:lastPrinted>
  <dcterms:modified xsi:type="dcterms:W3CDTF">2025-07-31T03:15:49Z</dcterms:modified>
  <cp:revision>38</cp:revision>
  <dc:subject/>
  <dc:title>PowerPoint プレゼンテーション</dc:title>
</cp:coreProperties>
</file>