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400213" cy="18000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192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3480" y="421200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2000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10192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483480" y="9664920"/>
            <a:ext cx="417276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1295964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0000" y="718200"/>
            <a:ext cx="12959640" cy="13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104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360560" y="966492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0000" y="718200"/>
            <a:ext cx="12959640" cy="30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6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00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360560" y="4212000"/>
            <a:ext cx="632412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000" y="9664920"/>
            <a:ext cx="12959640" cy="49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4"/>
          <p:cNvGrpSpPr/>
          <p:nvPr/>
        </p:nvGrpSpPr>
        <p:grpSpPr>
          <a:xfrm>
            <a:off x="1868400" y="17226000"/>
            <a:ext cx="8844840" cy="641520"/>
            <a:chOff x="1868400" y="17226000"/>
            <a:chExt cx="8844840" cy="641520"/>
          </a:xfrm>
        </p:grpSpPr>
        <p:sp>
          <p:nvSpPr>
            <p:cNvPr id="1" name="正方形/長方形 3"/>
            <p:cNvSpPr/>
            <p:nvPr/>
          </p:nvSpPr>
          <p:spPr>
            <a:xfrm>
              <a:off x="1868400" y="17226000"/>
              <a:ext cx="4996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水色の枠線</a:t>
              </a:r>
              <a:r>
                <a:rPr b="1" lang="en-US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……</a:t>
              </a:r>
              <a:r>
                <a:rPr b="1" lang="ja-JP" sz="1200" spc="-1" strike="noStrike">
                  <a:solidFill>
                    <a:srgbClr val="0066ff"/>
                  </a:solidFill>
                  <a:latin typeface="ＭＳ Ｐゴシック"/>
                  <a:ea typeface="ＭＳ Ｐゴシック"/>
                </a:rPr>
                <a:t>切れてはいけない要素（文字やロゴ等）をいれる範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ピンクの枠線</a:t>
              </a:r>
              <a:r>
                <a:rPr b="1" lang="en-US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…</a:t>
              </a:r>
              <a:r>
                <a:rPr b="1" lang="ja-JP" sz="1200" spc="-1" strike="noStrike">
                  <a:solidFill>
                    <a:srgbClr val="cc00ff"/>
                  </a:solidFill>
                  <a:latin typeface="ＭＳ Ｐゴシック"/>
                  <a:ea typeface="ＭＳ Ｐゴシック"/>
                </a:rPr>
                <a:t>仕上がりのサイ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●</a:t>
              </a: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みどりの枠線</a:t>
              </a:r>
              <a:r>
                <a:rPr b="1" lang="en-US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…</a:t>
              </a:r>
              <a:r>
                <a:rPr b="1" lang="ja-JP" sz="1200" spc="-1" strike="noStrike">
                  <a:solidFill>
                    <a:srgbClr val="008000"/>
                  </a:solidFill>
                  <a:latin typeface="ＭＳ Ｐゴシック"/>
                  <a:ea typeface="ＭＳ Ｐゴシック"/>
                </a:rPr>
                <a:t>フチなし印刷にする場合、背景を伸ばす範囲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テキスト ボックス 10"/>
            <p:cNvSpPr/>
            <p:nvPr/>
          </p:nvSpPr>
          <p:spPr>
            <a:xfrm>
              <a:off x="9594000" y="17319600"/>
              <a:ext cx="111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★★★ </a:t>
              </a: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ＰＤＦに変換して入稿される場合 ★★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ja-JP" sz="1200" spc="-1" strike="noStrike">
                  <a:solidFill>
                    <a:srgbClr val="ff0000"/>
                  </a:solidFill>
                  <a:latin typeface="ＭＳ Ｐゴシック"/>
                  <a:ea typeface="ＭＳ Ｐゴシック"/>
                </a:rPr>
                <a:t>「表示」＞「スライドマスター」画面より色つきのガイド線を消してから変換してください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グループ化 28"/>
          <p:cNvGrpSpPr/>
          <p:nvPr/>
        </p:nvGrpSpPr>
        <p:grpSpPr>
          <a:xfrm>
            <a:off x="1563840" y="0"/>
            <a:ext cx="11272680" cy="1036800"/>
            <a:chOff x="1563840" y="0"/>
            <a:chExt cx="11272680" cy="1036800"/>
          </a:xfrm>
        </p:grpSpPr>
        <p:sp>
          <p:nvSpPr>
            <p:cNvPr id="4" name="Rectangle 23"/>
            <p:cNvSpPr/>
            <p:nvPr/>
          </p:nvSpPr>
          <p:spPr>
            <a:xfrm>
              <a:off x="1563840" y="360360"/>
              <a:ext cx="62830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023920"/>
                  <a:tab algn="r" pos="404820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■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カレンダー：中綴じ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_A4_16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023920"/>
                  <a:tab algn="r" pos="404820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（ 紙の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97 × 420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仕上がりサイズ </a:t>
              </a:r>
              <a:r>
                <a:rPr b="0" lang="en-US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97 × 210 mm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図 2" descr="テキスト が含まれている画像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563840" y="100440"/>
              <a:ext cx="187200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図 4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8068320" y="0"/>
              <a:ext cx="4768200" cy="103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図 6" descr=""/>
          <p:cNvPicPr/>
          <p:nvPr/>
        </p:nvPicPr>
        <p:blipFill>
          <a:blip r:embed="rId4"/>
          <a:stretch/>
        </p:blipFill>
        <p:spPr>
          <a:xfrm>
            <a:off x="13389120" y="3956040"/>
            <a:ext cx="879480" cy="10088640"/>
          </a:xfrm>
          <a:prstGeom prst="rect">
            <a:avLst/>
          </a:prstGeom>
          <a:ln w="0">
            <a:noFill/>
          </a:ln>
        </p:spPr>
      </p:pic>
      <p:grpSp>
        <p:nvGrpSpPr>
          <p:cNvPr id="8" name="グループ化 1092"/>
          <p:cNvGrpSpPr/>
          <p:nvPr/>
        </p:nvGrpSpPr>
        <p:grpSpPr>
          <a:xfrm>
            <a:off x="358920" y="1306440"/>
            <a:ext cx="12295080" cy="15386040"/>
            <a:chOff x="358920" y="1306440"/>
            <a:chExt cx="12295080" cy="15386040"/>
          </a:xfrm>
        </p:grpSpPr>
        <p:grpSp>
          <p:nvGrpSpPr>
            <p:cNvPr id="9" name="グループ化 1063"/>
            <p:cNvGrpSpPr/>
            <p:nvPr/>
          </p:nvGrpSpPr>
          <p:grpSpPr>
            <a:xfrm>
              <a:off x="1746720" y="1331280"/>
              <a:ext cx="10907280" cy="15336000"/>
              <a:chOff x="1746720" y="1331280"/>
              <a:chExt cx="10907280" cy="15336000"/>
            </a:xfrm>
          </p:grpSpPr>
          <p:sp>
            <p:nvSpPr>
              <p:cNvPr id="10" name="楕円 14"/>
              <p:cNvSpPr/>
              <p:nvPr/>
            </p:nvSpPr>
            <p:spPr>
              <a:xfrm>
                <a:off x="7093080" y="1692000"/>
                <a:ext cx="214200" cy="215640"/>
              </a:xfrm>
              <a:prstGeom prst="ellipse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楕円 15"/>
              <p:cNvSpPr/>
              <p:nvPr/>
            </p:nvSpPr>
            <p:spPr>
              <a:xfrm>
                <a:off x="7093080" y="16092360"/>
                <a:ext cx="214200" cy="215640"/>
              </a:xfrm>
              <a:prstGeom prst="ellipse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" name="グループ化 1060"/>
              <p:cNvGrpSpPr/>
              <p:nvPr/>
            </p:nvGrpSpPr>
            <p:grpSpPr>
              <a:xfrm>
                <a:off x="1746720" y="1331280"/>
                <a:ext cx="10907280" cy="15336000"/>
                <a:chOff x="1746720" y="1331280"/>
                <a:chExt cx="10907280" cy="15336000"/>
              </a:xfrm>
            </p:grpSpPr>
            <p:sp>
              <p:nvSpPr>
                <p:cNvPr id="13" name="正方形/長方形 16"/>
                <p:cNvSpPr/>
                <p:nvPr/>
              </p:nvSpPr>
              <p:spPr>
                <a:xfrm>
                  <a:off x="1746720" y="1331280"/>
                  <a:ext cx="10907280" cy="15336000"/>
                </a:xfrm>
                <a:prstGeom prst="rect">
                  <a:avLst/>
                </a:prstGeom>
                <a:noFill/>
                <a:ln w="324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400" rIns="68400" tIns="34200" bIns="34200" anchor="ctr">
                  <a:noAutofit/>
                </a:bodyPr>
                <a:p>
                  <a:pPr>
                    <a:tabLst>
                      <a:tab algn="l" pos="0"/>
                      <a:tab algn="l" pos="781200"/>
                      <a:tab algn="l" pos="1562040"/>
                      <a:tab algn="l" pos="2343240"/>
                      <a:tab algn="l" pos="3124080"/>
                      <a:tab algn="l" pos="3905280"/>
                      <a:tab algn="l" pos="4686480"/>
                      <a:tab algn="l" pos="5467320"/>
                      <a:tab algn="l" pos="6248520"/>
                      <a:tab algn="l" pos="7029360"/>
                      <a:tab algn="l" pos="7810560"/>
                      <a:tab algn="l" pos="8591400"/>
                      <a:tab algn="l" pos="9372600"/>
                      <a:tab algn="l" pos="10153800"/>
                      <a:tab algn="l" pos="109346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4" name="グループ化 1057"/>
                <p:cNvGrpSpPr/>
                <p:nvPr/>
              </p:nvGrpSpPr>
              <p:grpSpPr>
                <a:xfrm>
                  <a:off x="1855080" y="1438560"/>
                  <a:ext cx="10690920" cy="15120720"/>
                  <a:chOff x="1855080" y="1438560"/>
                  <a:chExt cx="10690920" cy="15120720"/>
                </a:xfrm>
              </p:grpSpPr>
              <p:sp>
                <p:nvSpPr>
                  <p:cNvPr id="15" name="正方形/長方形 21"/>
                  <p:cNvSpPr/>
                  <p:nvPr/>
                </p:nvSpPr>
                <p:spPr>
                  <a:xfrm>
                    <a:off x="1855080" y="1438560"/>
                    <a:ext cx="10690920" cy="7560360"/>
                  </a:xfrm>
                  <a:prstGeom prst="rect">
                    <a:avLst/>
                  </a:prstGeom>
                  <a:noFill/>
                  <a:ln w="3240">
                    <a:solidFill>
                      <a:srgbClr val="ff3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8400" rIns="684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781200"/>
                        <a:tab algn="l" pos="1562040"/>
                        <a:tab algn="l" pos="2343240"/>
                        <a:tab algn="l" pos="3124080"/>
                        <a:tab algn="l" pos="3905280"/>
                        <a:tab algn="l" pos="4686480"/>
                        <a:tab algn="l" pos="5467320"/>
                        <a:tab algn="l" pos="6248520"/>
                        <a:tab algn="l" pos="7029360"/>
                        <a:tab algn="l" pos="7810560"/>
                        <a:tab algn="l" pos="8591400"/>
                        <a:tab algn="l" pos="9372600"/>
                        <a:tab algn="l" pos="10153800"/>
                        <a:tab algn="l" pos="109346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" name="正方形/長方形 19"/>
                  <p:cNvSpPr/>
                  <p:nvPr/>
                </p:nvSpPr>
                <p:spPr>
                  <a:xfrm>
                    <a:off x="1855080" y="8998920"/>
                    <a:ext cx="10690920" cy="7560360"/>
                  </a:xfrm>
                  <a:prstGeom prst="rect">
                    <a:avLst/>
                  </a:prstGeom>
                  <a:noFill/>
                  <a:ln w="3240">
                    <a:solidFill>
                      <a:srgbClr val="ff3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8400" rIns="684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781200"/>
                        <a:tab algn="l" pos="1562040"/>
                        <a:tab algn="l" pos="2343240"/>
                        <a:tab algn="l" pos="3124080"/>
                        <a:tab algn="l" pos="3905280"/>
                        <a:tab algn="l" pos="4686480"/>
                        <a:tab algn="l" pos="5467320"/>
                        <a:tab algn="l" pos="6248520"/>
                        <a:tab algn="l" pos="7029360"/>
                        <a:tab algn="l" pos="7810560"/>
                        <a:tab algn="l" pos="8591400"/>
                        <a:tab algn="l" pos="9372600"/>
                        <a:tab algn="l" pos="10153800"/>
                        <a:tab algn="l" pos="109346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7" name="グループ化 1059"/>
                <p:cNvGrpSpPr/>
                <p:nvPr/>
              </p:nvGrpSpPr>
              <p:grpSpPr>
                <a:xfrm>
                  <a:off x="1963080" y="1546920"/>
                  <a:ext cx="10474920" cy="14904720"/>
                  <a:chOff x="1963080" y="1546920"/>
                  <a:chExt cx="10474920" cy="14904720"/>
                </a:xfrm>
              </p:grpSpPr>
              <p:sp>
                <p:nvSpPr>
                  <p:cNvPr id="18" name="正方形/長方形 22"/>
                  <p:cNvSpPr/>
                  <p:nvPr/>
                </p:nvSpPr>
                <p:spPr>
                  <a:xfrm>
                    <a:off x="1963080" y="1546920"/>
                    <a:ext cx="10474920" cy="7344360"/>
                  </a:xfrm>
                  <a:prstGeom prst="rect">
                    <a:avLst/>
                  </a:prstGeom>
                  <a:noFill/>
                  <a:ln w="3240">
                    <a:solidFill>
                      <a:srgbClr val="4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8400" rIns="684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781200"/>
                        <a:tab algn="l" pos="1562040"/>
                        <a:tab algn="l" pos="2343240"/>
                        <a:tab algn="l" pos="3124080"/>
                        <a:tab algn="l" pos="3905280"/>
                        <a:tab algn="l" pos="4686480"/>
                        <a:tab algn="l" pos="5467320"/>
                        <a:tab algn="l" pos="6248520"/>
                        <a:tab algn="l" pos="7029360"/>
                        <a:tab algn="l" pos="7810560"/>
                        <a:tab algn="l" pos="8591400"/>
                        <a:tab algn="l" pos="9372600"/>
                        <a:tab algn="l" pos="10153800"/>
                        <a:tab algn="l" pos="109346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" name="正方形/長方形 20"/>
                  <p:cNvSpPr/>
                  <p:nvPr/>
                </p:nvSpPr>
                <p:spPr>
                  <a:xfrm>
                    <a:off x="1963080" y="9107280"/>
                    <a:ext cx="10474920" cy="7344360"/>
                  </a:xfrm>
                  <a:prstGeom prst="rect">
                    <a:avLst/>
                  </a:prstGeom>
                  <a:noFill/>
                  <a:ln w="3240">
                    <a:solidFill>
                      <a:srgbClr val="4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8400" rIns="68400" tIns="34200" bIns="34200" anchor="ctr">
                    <a:noAutofit/>
                  </a:bodyPr>
                  <a:p>
                    <a:pPr>
                      <a:tabLst>
                        <a:tab algn="l" pos="0"/>
                        <a:tab algn="l" pos="781200"/>
                        <a:tab algn="l" pos="1562040"/>
                        <a:tab algn="l" pos="2343240"/>
                        <a:tab algn="l" pos="3124080"/>
                        <a:tab algn="l" pos="3905280"/>
                        <a:tab algn="l" pos="4686480"/>
                        <a:tab algn="l" pos="5467320"/>
                        <a:tab algn="l" pos="6248520"/>
                        <a:tab algn="l" pos="7029360"/>
                        <a:tab algn="l" pos="7810560"/>
                        <a:tab algn="l" pos="8591400"/>
                        <a:tab algn="l" pos="9372600"/>
                        <a:tab algn="l" pos="10153800"/>
                        <a:tab algn="l" pos="109346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20" name="グループ化 1091"/>
            <p:cNvGrpSpPr/>
            <p:nvPr/>
          </p:nvGrpSpPr>
          <p:grpSpPr>
            <a:xfrm>
              <a:off x="358920" y="1306440"/>
              <a:ext cx="6842160" cy="15386040"/>
              <a:chOff x="358920" y="1306440"/>
              <a:chExt cx="6842160" cy="15386040"/>
            </a:xfrm>
          </p:grpSpPr>
          <p:cxnSp>
            <p:nvCxnSpPr>
              <p:cNvPr id="21" name="直線矢印コネクタ 1084"/>
              <p:cNvCxnSpPr/>
              <p:nvPr/>
            </p:nvCxnSpPr>
            <p:spPr>
              <a:xfrm>
                <a:off x="1187280" y="8999280"/>
                <a:ext cx="456120" cy="1080"/>
              </a:xfrm>
              <a:prstGeom prst="straightConnector1">
                <a:avLst/>
              </a:prstGeom>
              <a:ln w="47520">
                <a:solidFill>
                  <a:srgbClr val="f69240"/>
                </a:solidFill>
                <a:miter/>
                <a:tailEnd len="lg" type="stealth" w="lg"/>
              </a:ln>
            </p:spPr>
          </p:cxnSp>
          <p:sp>
            <p:nvSpPr>
              <p:cNvPr id="22" name="直線コネクタ 50"/>
              <p:cNvSpPr/>
              <p:nvPr/>
            </p:nvSpPr>
            <p:spPr>
              <a:xfrm flipH="1">
                <a:off x="7199640" y="1306440"/>
                <a:ext cx="1440" cy="15386040"/>
              </a:xfrm>
              <a:prstGeom prst="line">
                <a:avLst/>
              </a:prstGeom>
              <a:ln w="648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テキスト ボックス 1"/>
              <p:cNvSpPr/>
              <p:nvPr/>
            </p:nvSpPr>
            <p:spPr>
              <a:xfrm>
                <a:off x="444240" y="3768480"/>
                <a:ext cx="667080" cy="101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ラクスルで日付部分の配置をご希望の場合は、</a:t>
                </a:r>
                <a:r>
                  <a:rPr b="0" lang="ja-JP" sz="1600" spc="-1" strike="noStrike">
                    <a:solidFill>
                      <a:srgbClr val="ff0000"/>
                    </a:solidFill>
                    <a:latin typeface="ＭＳ ゴシック"/>
                    <a:ea typeface="ＭＳ ゴシック"/>
                  </a:rPr>
                  <a:t>中央のオレンジ色の線より左部</a:t>
                </a:r>
                <a:r>
                  <a:rPr b="0" lang="ja-JP" sz="16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にデザインを配置してください。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右上のご希望パターンにチェックを記入してください。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正方形/長方形 1086"/>
              <p:cNvSpPr/>
              <p:nvPr/>
            </p:nvSpPr>
            <p:spPr>
              <a:xfrm>
                <a:off x="358920" y="3670200"/>
                <a:ext cx="828720" cy="10272600"/>
              </a:xfrm>
              <a:prstGeom prst="rect">
                <a:avLst/>
              </a:prstGeom>
              <a:noFill/>
              <a:ln w="57240">
                <a:solidFill>
                  <a:srgbClr val="f692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" name="グループ化 1093"/>
          <p:cNvGrpSpPr/>
          <p:nvPr/>
        </p:nvGrpSpPr>
        <p:grpSpPr>
          <a:xfrm>
            <a:off x="1327320" y="919080"/>
            <a:ext cx="11834640" cy="16162560"/>
            <a:chOff x="1327320" y="919080"/>
            <a:chExt cx="11834640" cy="16162560"/>
          </a:xfrm>
        </p:grpSpPr>
        <p:grpSp>
          <p:nvGrpSpPr>
            <p:cNvPr id="26" name="グループ化 1068"/>
            <p:cNvGrpSpPr/>
            <p:nvPr/>
          </p:nvGrpSpPr>
          <p:grpSpPr>
            <a:xfrm>
              <a:off x="1327320" y="919080"/>
              <a:ext cx="11746080" cy="16162560"/>
              <a:chOff x="1327320" y="919080"/>
              <a:chExt cx="11746080" cy="16162560"/>
            </a:xfrm>
          </p:grpSpPr>
          <p:grpSp>
            <p:nvGrpSpPr>
              <p:cNvPr id="27" name="グループ化 33"/>
              <p:cNvGrpSpPr/>
              <p:nvPr/>
            </p:nvGrpSpPr>
            <p:grpSpPr>
              <a:xfrm>
                <a:off x="1421280" y="1006560"/>
                <a:ext cx="11557800" cy="15983640"/>
                <a:chOff x="1421280" y="1006560"/>
                <a:chExt cx="11557800" cy="15983640"/>
              </a:xfrm>
            </p:grpSpPr>
            <p:grpSp>
              <p:nvGrpSpPr>
                <p:cNvPr id="28" name="グループ化 9"/>
                <p:cNvGrpSpPr/>
                <p:nvPr/>
              </p:nvGrpSpPr>
              <p:grpSpPr>
                <a:xfrm>
                  <a:off x="1422720" y="16558560"/>
                  <a:ext cx="432000" cy="431640"/>
                  <a:chOff x="1422720" y="16558560"/>
                  <a:chExt cx="432000" cy="431640"/>
                </a:xfrm>
              </p:grpSpPr>
              <p:sp>
                <p:nvSpPr>
                  <p:cNvPr id="29" name="Freeform 37"/>
                  <p:cNvSpPr/>
                  <p:nvPr/>
                </p:nvSpPr>
                <p:spPr>
                  <a:xfrm>
                    <a:off x="1422720" y="16558560"/>
                    <a:ext cx="32400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0">
                        <a:moveTo>
                          <a:pt x="0" y="0"/>
                        </a:moveTo>
                        <a:lnTo>
                          <a:pt x="204" y="0"/>
                        </a:lnTo>
                        <a:lnTo>
                          <a:pt x="204" y="27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0" name="Freeform 38"/>
                  <p:cNvSpPr/>
                  <p:nvPr/>
                </p:nvSpPr>
                <p:spPr>
                  <a:xfrm>
                    <a:off x="1422720" y="16666920"/>
                    <a:ext cx="43200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04">
                        <a:moveTo>
                          <a:pt x="276" y="204"/>
                        </a:moveTo>
                        <a:lnTo>
                          <a:pt x="276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1" name="グループ化 10"/>
                <p:cNvGrpSpPr/>
                <p:nvPr/>
              </p:nvGrpSpPr>
              <p:grpSpPr>
                <a:xfrm>
                  <a:off x="12547080" y="16558200"/>
                  <a:ext cx="432000" cy="432000"/>
                  <a:chOff x="12547080" y="16558200"/>
                  <a:chExt cx="432000" cy="432000"/>
                </a:xfrm>
              </p:grpSpPr>
              <p:sp>
                <p:nvSpPr>
                  <p:cNvPr id="32" name="Freeform 41"/>
                  <p:cNvSpPr/>
                  <p:nvPr/>
                </p:nvSpPr>
                <p:spPr>
                  <a:xfrm>
                    <a:off x="12655080" y="16558200"/>
                    <a:ext cx="32400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0">
                        <a:moveTo>
                          <a:pt x="204" y="0"/>
                        </a:moveTo>
                        <a:lnTo>
                          <a:pt x="0" y="0"/>
                        </a:lnTo>
                        <a:lnTo>
                          <a:pt x="0" y="27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" name="Freeform 42"/>
                  <p:cNvSpPr/>
                  <p:nvPr/>
                </p:nvSpPr>
                <p:spPr>
                  <a:xfrm>
                    <a:off x="12547080" y="16666920"/>
                    <a:ext cx="43200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4">
                        <a:moveTo>
                          <a:pt x="0" y="204"/>
                        </a:moveTo>
                        <a:lnTo>
                          <a:pt x="0" y="0"/>
                        </a:lnTo>
                        <a:lnTo>
                          <a:pt x="27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4" name="グループ化 11"/>
                <p:cNvGrpSpPr/>
                <p:nvPr/>
              </p:nvGrpSpPr>
              <p:grpSpPr>
                <a:xfrm>
                  <a:off x="1421280" y="1006560"/>
                  <a:ext cx="432000" cy="432720"/>
                  <a:chOff x="1421280" y="1006560"/>
                  <a:chExt cx="432000" cy="432720"/>
                </a:xfrm>
              </p:grpSpPr>
              <p:sp>
                <p:nvSpPr>
                  <p:cNvPr id="35" name="Freeform 45"/>
                  <p:cNvSpPr/>
                  <p:nvPr/>
                </p:nvSpPr>
                <p:spPr>
                  <a:xfrm>
                    <a:off x="1421280" y="1006560"/>
                    <a:ext cx="32400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6">
                        <a:moveTo>
                          <a:pt x="0" y="276"/>
                        </a:moveTo>
                        <a:lnTo>
                          <a:pt x="204" y="276"/>
                        </a:lnTo>
                        <a:lnTo>
                          <a:pt x="20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" name="Freeform 46"/>
                  <p:cNvSpPr/>
                  <p:nvPr/>
                </p:nvSpPr>
                <p:spPr>
                  <a:xfrm>
                    <a:off x="1421280" y="1007280"/>
                    <a:ext cx="432000" cy="32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04">
                        <a:moveTo>
                          <a:pt x="276" y="0"/>
                        </a:moveTo>
                        <a:lnTo>
                          <a:pt x="276" y="204"/>
                        </a:lnTo>
                        <a:lnTo>
                          <a:pt x="0" y="20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7" name="グループ化 12"/>
                <p:cNvGrpSpPr/>
                <p:nvPr/>
              </p:nvGrpSpPr>
              <p:grpSpPr>
                <a:xfrm>
                  <a:off x="12547080" y="1006560"/>
                  <a:ext cx="432000" cy="432000"/>
                  <a:chOff x="12547080" y="1006560"/>
                  <a:chExt cx="432000" cy="432000"/>
                </a:xfrm>
              </p:grpSpPr>
              <p:sp>
                <p:nvSpPr>
                  <p:cNvPr id="38" name="Freeform 47"/>
                  <p:cNvSpPr/>
                  <p:nvPr/>
                </p:nvSpPr>
                <p:spPr>
                  <a:xfrm>
                    <a:off x="12655080" y="1006560"/>
                    <a:ext cx="32400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6">
                        <a:moveTo>
                          <a:pt x="204" y="276"/>
                        </a:moveTo>
                        <a:lnTo>
                          <a:pt x="0" y="2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" name="Freeform 48"/>
                  <p:cNvSpPr/>
                  <p:nvPr/>
                </p:nvSpPr>
                <p:spPr>
                  <a:xfrm>
                    <a:off x="12547080" y="1006560"/>
                    <a:ext cx="43200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204">
                        <a:moveTo>
                          <a:pt x="0" y="0"/>
                        </a:moveTo>
                        <a:lnTo>
                          <a:pt x="0" y="204"/>
                        </a:lnTo>
                        <a:lnTo>
                          <a:pt x="270" y="20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0" name="グループ化 1067"/>
              <p:cNvGrpSpPr/>
              <p:nvPr/>
            </p:nvGrpSpPr>
            <p:grpSpPr>
              <a:xfrm>
                <a:off x="1327320" y="919080"/>
                <a:ext cx="11746080" cy="16162560"/>
                <a:chOff x="1327320" y="919080"/>
                <a:chExt cx="11746080" cy="16162560"/>
              </a:xfrm>
            </p:grpSpPr>
            <p:grpSp>
              <p:nvGrpSpPr>
                <p:cNvPr id="41" name="グループ化 48"/>
                <p:cNvGrpSpPr/>
                <p:nvPr/>
              </p:nvGrpSpPr>
              <p:grpSpPr>
                <a:xfrm>
                  <a:off x="1327320" y="8460360"/>
                  <a:ext cx="349200" cy="1080000"/>
                  <a:chOff x="1327320" y="8460360"/>
                  <a:chExt cx="349200" cy="1080000"/>
                </a:xfrm>
              </p:grpSpPr>
              <p:sp>
                <p:nvSpPr>
                  <p:cNvPr id="42" name="直線コネクタ 56"/>
                  <p:cNvSpPr/>
                  <p:nvPr/>
                </p:nvSpPr>
                <p:spPr>
                  <a:xfrm>
                    <a:off x="1605240" y="8460360"/>
                    <a:ext cx="0" cy="1080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3" name="直線コネクタ 57"/>
                  <p:cNvSpPr/>
                  <p:nvPr/>
                </p:nvSpPr>
                <p:spPr>
                  <a:xfrm>
                    <a:off x="1327320" y="9001080"/>
                    <a:ext cx="3492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4" name="グループ化 49"/>
                <p:cNvGrpSpPr/>
                <p:nvPr/>
              </p:nvGrpSpPr>
              <p:grpSpPr>
                <a:xfrm>
                  <a:off x="12724200" y="8460360"/>
                  <a:ext cx="349200" cy="1080000"/>
                  <a:chOff x="12724200" y="8460360"/>
                  <a:chExt cx="349200" cy="1080000"/>
                </a:xfrm>
              </p:grpSpPr>
              <p:sp>
                <p:nvSpPr>
                  <p:cNvPr id="45" name="直線コネクタ 54"/>
                  <p:cNvSpPr/>
                  <p:nvPr/>
                </p:nvSpPr>
                <p:spPr>
                  <a:xfrm>
                    <a:off x="12795480" y="8460360"/>
                    <a:ext cx="0" cy="1080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6" name="直線コネクタ 55"/>
                  <p:cNvSpPr/>
                  <p:nvPr/>
                </p:nvSpPr>
                <p:spPr>
                  <a:xfrm>
                    <a:off x="12724200" y="9001080"/>
                    <a:ext cx="34920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7" name="グループ化 47"/>
                <p:cNvGrpSpPr/>
                <p:nvPr/>
              </p:nvGrpSpPr>
              <p:grpSpPr>
                <a:xfrm>
                  <a:off x="6660360" y="919080"/>
                  <a:ext cx="1079640" cy="347400"/>
                  <a:chOff x="6660360" y="919080"/>
                  <a:chExt cx="1079640" cy="347400"/>
                </a:xfrm>
              </p:grpSpPr>
              <p:sp>
                <p:nvSpPr>
                  <p:cNvPr id="48" name="直線コネクタ 58"/>
                  <p:cNvSpPr/>
                  <p:nvPr/>
                </p:nvSpPr>
                <p:spPr>
                  <a:xfrm>
                    <a:off x="6660360" y="1195200"/>
                    <a:ext cx="1079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" name="直線コネクタ 59"/>
                  <p:cNvSpPr/>
                  <p:nvPr/>
                </p:nvSpPr>
                <p:spPr>
                  <a:xfrm>
                    <a:off x="7193160" y="919080"/>
                    <a:ext cx="0" cy="347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0" name="グループ化 51"/>
                <p:cNvGrpSpPr/>
                <p:nvPr/>
              </p:nvGrpSpPr>
              <p:grpSpPr>
                <a:xfrm>
                  <a:off x="6660360" y="16734240"/>
                  <a:ext cx="1079640" cy="347400"/>
                  <a:chOff x="6660360" y="16734240"/>
                  <a:chExt cx="1079640" cy="347400"/>
                </a:xfrm>
              </p:grpSpPr>
              <p:sp>
                <p:nvSpPr>
                  <p:cNvPr id="51" name="直線コネクタ 52"/>
                  <p:cNvSpPr/>
                  <p:nvPr/>
                </p:nvSpPr>
                <p:spPr>
                  <a:xfrm>
                    <a:off x="6660360" y="16805520"/>
                    <a:ext cx="107964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" name="直線コネクタ 53"/>
                  <p:cNvSpPr/>
                  <p:nvPr/>
                </p:nvSpPr>
                <p:spPr>
                  <a:xfrm>
                    <a:off x="7193160" y="16734240"/>
                    <a:ext cx="0" cy="347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cxnSp>
          <p:nvCxnSpPr>
            <p:cNvPr id="53" name="直線矢印コネクタ 1069"/>
            <p:cNvCxnSpPr/>
            <p:nvPr/>
          </p:nvCxnSpPr>
          <p:spPr>
            <a:xfrm>
              <a:off x="1854360" y="1223280"/>
              <a:ext cx="10692720" cy="108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4" name="テキスト ボックス 79"/>
            <p:cNvSpPr/>
            <p:nvPr/>
          </p:nvSpPr>
          <p:spPr>
            <a:xfrm>
              <a:off x="2078640" y="1023840"/>
              <a:ext cx="61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297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直線矢印コネクタ 1072"/>
            <p:cNvCxnSpPr/>
            <p:nvPr/>
          </p:nvCxnSpPr>
          <p:spPr>
            <a:xfrm>
              <a:off x="12890520" y="1439280"/>
              <a:ext cx="1080" cy="75603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6" name="テキスト ボックス 84"/>
            <p:cNvSpPr/>
            <p:nvPr/>
          </p:nvSpPr>
          <p:spPr>
            <a:xfrm rot="10800000">
              <a:off x="12814200" y="1655640"/>
              <a:ext cx="3477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10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7" name="直線矢印コネクタ 1079"/>
            <p:cNvCxnSpPr/>
            <p:nvPr/>
          </p:nvCxnSpPr>
          <p:spPr>
            <a:xfrm>
              <a:off x="12890520" y="8999640"/>
              <a:ext cx="1080" cy="756216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8" name="テキスト ボックス 84"/>
            <p:cNvSpPr/>
            <p:nvPr/>
          </p:nvSpPr>
          <p:spPr>
            <a:xfrm rot="10800000">
              <a:off x="12814200" y="9217080"/>
              <a:ext cx="3477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 本文"/>
                  <a:ea typeface="ＭＳ ゴシック"/>
                </a:rPr>
                <a:t>210m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6T11:16:47Z</dcterms:created>
  <dc:creator>Eximage-25</dc:creator>
  <dc:description/>
  <dc:language>en-US</dc:language>
  <cp:lastModifiedBy>CR0096</cp:lastModifiedBy>
  <cp:lastPrinted>2020-09-09T11:54:37Z</cp:lastPrinted>
  <dcterms:modified xsi:type="dcterms:W3CDTF">2025-07-31T02:22:15Z</dcterms:modified>
  <cp:revision>38</cp:revision>
  <dc:subject/>
  <dc:title>PowerPoint プレゼンテーション</dc:title>
</cp:coreProperties>
</file>