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691813" cy="151193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78792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041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4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78792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7041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534600" y="603000"/>
            <a:ext cx="9622440" cy="1170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3"/>
          <p:cNvSpPr/>
          <p:nvPr/>
        </p:nvSpPr>
        <p:spPr>
          <a:xfrm>
            <a:off x="2670120" y="937080"/>
            <a:ext cx="5351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700360"/>
                <a:tab algn="r" pos="54007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冊子：中綴じ</a:t>
            </a:r>
            <a:r>
              <a:rPr b="0" lang="en-US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綴じなし</a:t>
            </a:r>
            <a:r>
              <a:rPr b="0" lang="en-US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B5_1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700360"/>
                <a:tab algn="r" pos="54007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（ 仕上がりサイズ </a:t>
            </a:r>
            <a:r>
              <a:rPr b="0" lang="en-US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82 × 257 mm 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" name="グループ化 1"/>
          <p:cNvGrpSpPr/>
          <p:nvPr/>
        </p:nvGrpSpPr>
        <p:grpSpPr>
          <a:xfrm>
            <a:off x="162000" y="13146120"/>
            <a:ext cx="10296360" cy="1692360"/>
            <a:chOff x="162000" y="13146120"/>
            <a:chExt cx="10296360" cy="1692360"/>
          </a:xfrm>
        </p:grpSpPr>
        <p:sp>
          <p:nvSpPr>
            <p:cNvPr id="2" name="正方形/長方形 3"/>
            <p:cNvSpPr/>
            <p:nvPr/>
          </p:nvSpPr>
          <p:spPr>
            <a:xfrm>
              <a:off x="162000" y="13176000"/>
              <a:ext cx="5472360" cy="15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1071720"/>
                  <a:tab algn="l" pos="2143080"/>
                  <a:tab algn="l" pos="3214800"/>
                  <a:tab algn="l" pos="4286160"/>
                  <a:tab algn="l" pos="5357880"/>
                  <a:tab algn="l" pos="6429240"/>
                  <a:tab algn="l" pos="7500960"/>
                  <a:tab algn="l" pos="8572680"/>
                  <a:tab algn="l" pos="9644040"/>
                  <a:tab algn="l" pos="10715760"/>
                </a:tabLst>
              </a:pPr>
              <a:r>
                <a:rPr b="1" lang="ja-JP" sz="1400" spc="-1" strike="noStrike">
                  <a:solidFill>
                    <a:srgbClr val="0066ff"/>
                  </a:solidFill>
                  <a:latin typeface="Calibri"/>
                </a:rPr>
                <a:t>●</a:t>
              </a:r>
              <a:r>
                <a:rPr b="1" lang="ja-JP" sz="1400" spc="-1" strike="noStrike">
                  <a:solidFill>
                    <a:srgbClr val="0066ff"/>
                  </a:solidFill>
                  <a:latin typeface="Calibri"/>
                </a:rPr>
                <a:t>水色の枠線</a:t>
              </a:r>
              <a:r>
                <a:rPr b="1" lang="en-US" sz="1400" spc="-1" strike="noStrike">
                  <a:solidFill>
                    <a:srgbClr val="0066ff"/>
                  </a:solidFill>
                  <a:latin typeface="Calibri"/>
                </a:rPr>
                <a:t>……</a:t>
              </a:r>
              <a:r>
                <a:rPr b="1" lang="ja-JP" sz="1400" spc="-1" strike="noStrike">
                  <a:solidFill>
                    <a:srgbClr val="0066ff"/>
                  </a:solidFill>
                  <a:latin typeface="Calibri"/>
                </a:rPr>
                <a:t>切れてはいけない要素（文字やロゴ等）をいれる範囲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71720"/>
                  <a:tab algn="l" pos="2143080"/>
                  <a:tab algn="l" pos="3214800"/>
                  <a:tab algn="l" pos="4286160"/>
                  <a:tab algn="l" pos="5357880"/>
                  <a:tab algn="l" pos="6429240"/>
                  <a:tab algn="l" pos="7500960"/>
                  <a:tab algn="l" pos="8572680"/>
                  <a:tab algn="l" pos="9644040"/>
                  <a:tab algn="l" pos="10715760"/>
                </a:tabLst>
              </a:pPr>
              <a:r>
                <a:rPr b="1" lang="ja-JP" sz="1400" spc="-1" strike="noStrike">
                  <a:solidFill>
                    <a:srgbClr val="cc00ff"/>
                  </a:solidFill>
                  <a:latin typeface="Calibri"/>
                </a:rPr>
                <a:t>●</a:t>
              </a:r>
              <a:r>
                <a:rPr b="1" lang="ja-JP" sz="1400" spc="-1" strike="noStrike">
                  <a:solidFill>
                    <a:srgbClr val="cc00ff"/>
                  </a:solidFill>
                  <a:latin typeface="Calibri"/>
                </a:rPr>
                <a:t>ピンクの枠線</a:t>
              </a:r>
              <a:r>
                <a:rPr b="1" lang="en-US" sz="1400" spc="-1" strike="noStrike">
                  <a:solidFill>
                    <a:srgbClr val="cc00ff"/>
                  </a:solidFill>
                  <a:latin typeface="Calibri"/>
                </a:rPr>
                <a:t>…</a:t>
              </a:r>
              <a:r>
                <a:rPr b="1" lang="ja-JP" sz="1400" spc="-1" strike="noStrike">
                  <a:solidFill>
                    <a:srgbClr val="cc00ff"/>
                  </a:solidFill>
                  <a:latin typeface="Calibri"/>
                </a:rPr>
                <a:t>仕上がりのサイズ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71720"/>
                  <a:tab algn="l" pos="2143080"/>
                  <a:tab algn="l" pos="3214800"/>
                  <a:tab algn="l" pos="4286160"/>
                  <a:tab algn="l" pos="5357880"/>
                  <a:tab algn="l" pos="6429240"/>
                  <a:tab algn="l" pos="7500960"/>
                  <a:tab algn="l" pos="8572680"/>
                  <a:tab algn="l" pos="9644040"/>
                  <a:tab algn="l" pos="10715760"/>
                </a:tabLst>
              </a:pPr>
              <a:r>
                <a:rPr b="1" lang="ja-JP" sz="1400" spc="-1" strike="noStrike">
                  <a:solidFill>
                    <a:srgbClr val="008000"/>
                  </a:solidFill>
                  <a:latin typeface="Calibri"/>
                </a:rPr>
                <a:t>●</a:t>
              </a:r>
              <a:r>
                <a:rPr b="1" lang="ja-JP" sz="1400" spc="-1" strike="noStrike">
                  <a:solidFill>
                    <a:srgbClr val="008000"/>
                  </a:solidFill>
                  <a:latin typeface="Calibri"/>
                </a:rPr>
                <a:t>みどりの枠線</a:t>
              </a:r>
              <a:r>
                <a:rPr b="1" lang="en-US" sz="1400" spc="-1" strike="noStrike">
                  <a:solidFill>
                    <a:srgbClr val="008000"/>
                  </a:solidFill>
                  <a:latin typeface="Calibri"/>
                </a:rPr>
                <a:t>…</a:t>
              </a:r>
              <a:r>
                <a:rPr b="1" lang="ja-JP" sz="1400" spc="-1" strike="noStrike">
                  <a:solidFill>
                    <a:srgbClr val="008000"/>
                  </a:solidFill>
                  <a:latin typeface="Calibri"/>
                </a:rPr>
                <a:t>フチなし印刷にする場合、背景を伸ばす範囲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71720"/>
                  <a:tab algn="l" pos="2143080"/>
                  <a:tab algn="l" pos="3214800"/>
                  <a:tab algn="l" pos="4286160"/>
                  <a:tab algn="l" pos="5357880"/>
                  <a:tab algn="l" pos="6429240"/>
                  <a:tab algn="l" pos="7500960"/>
                  <a:tab algn="l" pos="8572680"/>
                  <a:tab algn="l" pos="9644040"/>
                  <a:tab algn="l" pos="107157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1071720"/>
                  <a:tab algn="l" pos="2143080"/>
                  <a:tab algn="l" pos="3214800"/>
                  <a:tab algn="l" pos="4286160"/>
                  <a:tab algn="l" pos="5357880"/>
                  <a:tab algn="l" pos="6429240"/>
                  <a:tab algn="l" pos="7500960"/>
                  <a:tab algn="l" pos="8572680"/>
                  <a:tab algn="l" pos="9644040"/>
                  <a:tab algn="l" pos="10715760"/>
                </a:tabLst>
              </a:pPr>
              <a:r>
                <a:rPr b="1" lang="ja-JP" sz="1400" spc="-1" strike="noStrike">
                  <a:solidFill>
                    <a:srgbClr val="ff0000"/>
                  </a:solidFill>
                  <a:latin typeface="Calibri"/>
                </a:rPr>
                <a:t>★★★ </a:t>
              </a:r>
              <a:r>
                <a:rPr b="1" lang="ja-JP" sz="1400" spc="-1" strike="noStrike">
                  <a:solidFill>
                    <a:srgbClr val="ff0000"/>
                  </a:solidFill>
                  <a:latin typeface="Calibri"/>
                </a:rPr>
                <a:t>ＰＤＦに変換して入稿される場合 ★★★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1071720"/>
                  <a:tab algn="l" pos="2143080"/>
                  <a:tab algn="l" pos="3214800"/>
                  <a:tab algn="l" pos="4286160"/>
                  <a:tab algn="l" pos="5357880"/>
                  <a:tab algn="l" pos="6429240"/>
                  <a:tab algn="l" pos="7500960"/>
                  <a:tab algn="l" pos="8572680"/>
                  <a:tab algn="l" pos="9644040"/>
                  <a:tab algn="l" pos="10715760"/>
                </a:tabLst>
              </a:pPr>
              <a:r>
                <a:rPr b="1" lang="ja-JP" sz="1400" spc="-1" strike="noStrike">
                  <a:solidFill>
                    <a:srgbClr val="ff0000"/>
                  </a:solidFill>
                  <a:latin typeface="Calibri"/>
                </a:rPr>
                <a:t>「表示」＞「スライドマスター」画面より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1071720"/>
                  <a:tab algn="l" pos="2143080"/>
                  <a:tab algn="l" pos="3214800"/>
                  <a:tab algn="l" pos="4286160"/>
                  <a:tab algn="l" pos="5357880"/>
                  <a:tab algn="l" pos="6429240"/>
                  <a:tab algn="l" pos="7500960"/>
                  <a:tab algn="l" pos="8572680"/>
                  <a:tab algn="l" pos="9644040"/>
                  <a:tab algn="l" pos="10715760"/>
                </a:tabLst>
              </a:pPr>
              <a:r>
                <a:rPr b="1" lang="ja-JP" sz="1400" spc="-1" strike="noStrike">
                  <a:solidFill>
                    <a:srgbClr val="ff0000"/>
                  </a:solidFill>
                  <a:latin typeface="Calibri"/>
                </a:rPr>
                <a:t>色つきのガイド線を消してから変換してください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正方形/長方形 3"/>
            <p:cNvSpPr/>
            <p:nvPr/>
          </p:nvSpPr>
          <p:spPr>
            <a:xfrm>
              <a:off x="5922360" y="13146120"/>
              <a:ext cx="4536000" cy="169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1071720"/>
                  <a:tab algn="l" pos="2143080"/>
                  <a:tab algn="l" pos="3214800"/>
                  <a:tab algn="l" pos="4286160"/>
                  <a:tab algn="l" pos="5357880"/>
                  <a:tab algn="l" pos="6429240"/>
                  <a:tab algn="l" pos="7500960"/>
                  <a:tab algn="l" pos="8572680"/>
                  <a:tab algn="l" pos="9644040"/>
                  <a:tab algn="l" pos="10715760"/>
                </a:tabLst>
              </a:pPr>
              <a:r>
                <a:rPr b="1" lang="ja-JP" sz="1400" spc="-1" strike="noStrike">
                  <a:solidFill>
                    <a:srgbClr val="000000"/>
                  </a:solidFill>
                  <a:latin typeface="ＭＳ Ｐゴシック"/>
                </a:rPr>
                <a:t>冊子のデータ製作について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1071720"/>
                  <a:tab algn="l" pos="2143080"/>
                  <a:tab algn="l" pos="3214800"/>
                  <a:tab algn="l" pos="4286160"/>
                  <a:tab algn="l" pos="5357880"/>
                  <a:tab algn="l" pos="6429240"/>
                  <a:tab algn="l" pos="7500960"/>
                  <a:tab algn="l" pos="8572680"/>
                  <a:tab algn="l" pos="9644040"/>
                  <a:tab algn="l" pos="1071576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ＭＳ Ｐゴシック"/>
                </a:rPr>
                <a:t>・ページ数は表紙も含めた数になります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1071720"/>
                  <a:tab algn="l" pos="2143080"/>
                  <a:tab algn="l" pos="3214800"/>
                  <a:tab algn="l" pos="4286160"/>
                  <a:tab algn="l" pos="5357880"/>
                  <a:tab algn="l" pos="6429240"/>
                  <a:tab algn="l" pos="7500960"/>
                  <a:tab algn="l" pos="8572680"/>
                  <a:tab algn="l" pos="9644040"/>
                  <a:tab algn="l" pos="1071576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ＭＳ Ｐゴシック"/>
                </a:rPr>
                <a:t>・データは</a:t>
              </a:r>
              <a:r>
                <a:rPr b="0" lang="en-US" sz="1400" spc="-1" strike="noStrike">
                  <a:solidFill>
                    <a:srgbClr val="000000"/>
                  </a:solidFill>
                  <a:latin typeface="ＭＳ Ｐゴシック"/>
                </a:rPr>
                <a:t>1P</a:t>
              </a:r>
              <a:r>
                <a:rPr b="0" lang="ja-JP" sz="1400" spc="-1" strike="noStrike">
                  <a:solidFill>
                    <a:srgbClr val="000000"/>
                  </a:solidFill>
                  <a:latin typeface="ＭＳ Ｐゴシック"/>
                </a:rPr>
                <a:t>ごとでも 見開きでも ご入稿頂けます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1071720"/>
                  <a:tab algn="l" pos="2143080"/>
                  <a:tab algn="l" pos="3214800"/>
                  <a:tab algn="l" pos="4286160"/>
                  <a:tab algn="l" pos="5357880"/>
                  <a:tab algn="l" pos="6429240"/>
                  <a:tab algn="l" pos="7500960"/>
                  <a:tab algn="l" pos="8572680"/>
                  <a:tab algn="l" pos="9644040"/>
                  <a:tab algn="l" pos="1071576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ＭＳ Ｐゴシック"/>
                </a:rPr>
                <a:t>※</a:t>
              </a:r>
              <a:r>
                <a:rPr b="0" lang="ja-JP" sz="1400" spc="-1" strike="noStrike">
                  <a:solidFill>
                    <a:srgbClr val="000000"/>
                  </a:solidFill>
                  <a:latin typeface="ＭＳ Ｐゴシック"/>
                </a:rPr>
                <a:t>見開きの場合はページ順どおりにご作成ください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1071720"/>
                  <a:tab algn="l" pos="2143080"/>
                  <a:tab algn="l" pos="3214800"/>
                  <a:tab algn="l" pos="4286160"/>
                  <a:tab algn="l" pos="5357880"/>
                  <a:tab algn="l" pos="6429240"/>
                  <a:tab algn="l" pos="7500960"/>
                  <a:tab algn="l" pos="8572680"/>
                  <a:tab algn="l" pos="9644040"/>
                  <a:tab algn="l" pos="1071576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ＭＳ Ｐゴシック"/>
                </a:rPr>
                <a:t>・白紙のページがある場合は コメント欄にご指示ください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" name="図形グループ 2"/>
          <p:cNvGrpSpPr/>
          <p:nvPr/>
        </p:nvGrpSpPr>
        <p:grpSpPr>
          <a:xfrm>
            <a:off x="1962000" y="2825640"/>
            <a:ext cx="6767640" cy="9468000"/>
            <a:chOff x="1962000" y="2825640"/>
            <a:chExt cx="6767640" cy="9468000"/>
          </a:xfrm>
        </p:grpSpPr>
        <p:sp>
          <p:nvSpPr>
            <p:cNvPr id="5" name="正方形/長方形 2"/>
            <p:cNvSpPr/>
            <p:nvPr/>
          </p:nvSpPr>
          <p:spPr>
            <a:xfrm>
              <a:off x="2069640" y="2933280"/>
              <a:ext cx="6552000" cy="925236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400" rIns="50400" tIns="25200" bIns="25200" anchor="ctr">
              <a:noAutofit/>
            </a:bodyPr>
            <a:p>
              <a:pPr>
                <a:tabLst>
                  <a:tab algn="l" pos="0"/>
                  <a:tab algn="l" pos="573120"/>
                  <a:tab algn="l" pos="1146240"/>
                  <a:tab algn="l" pos="1719360"/>
                  <a:tab algn="l" pos="2292480"/>
                  <a:tab algn="l" pos="2865600"/>
                  <a:tab algn="l" pos="3438360"/>
                  <a:tab algn="l" pos="4011480"/>
                  <a:tab algn="l" pos="4584600"/>
                  <a:tab algn="l" pos="5157720"/>
                  <a:tab algn="l" pos="5730840"/>
                  <a:tab algn="l" pos="6303960"/>
                  <a:tab algn="l" pos="6877080"/>
                  <a:tab algn="l" pos="7450200"/>
                  <a:tab algn="l" pos="8023320"/>
                  <a:tab algn="l" pos="8596440"/>
                  <a:tab algn="l" pos="9169560"/>
                  <a:tab algn="l" pos="9742320"/>
                  <a:tab algn="l" pos="10315440"/>
                  <a:tab algn="l" pos="1088856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正方形/長方形 3"/>
            <p:cNvSpPr/>
            <p:nvPr/>
          </p:nvSpPr>
          <p:spPr>
            <a:xfrm>
              <a:off x="2177640" y="3041280"/>
              <a:ext cx="6336000" cy="903636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400" rIns="50400" tIns="25200" bIns="25200" anchor="ctr">
              <a:noAutofit/>
            </a:bodyPr>
            <a:p>
              <a:pPr>
                <a:tabLst>
                  <a:tab algn="l" pos="0"/>
                  <a:tab algn="l" pos="573120"/>
                  <a:tab algn="l" pos="1146240"/>
                  <a:tab algn="l" pos="1719360"/>
                  <a:tab algn="l" pos="2292480"/>
                  <a:tab algn="l" pos="2865600"/>
                  <a:tab algn="l" pos="3438360"/>
                  <a:tab algn="l" pos="4011480"/>
                  <a:tab algn="l" pos="4584600"/>
                  <a:tab algn="l" pos="5157720"/>
                  <a:tab algn="l" pos="5730840"/>
                  <a:tab algn="l" pos="6303960"/>
                  <a:tab algn="l" pos="6877080"/>
                  <a:tab algn="l" pos="7450200"/>
                  <a:tab algn="l" pos="8023320"/>
                  <a:tab algn="l" pos="8596440"/>
                  <a:tab algn="l" pos="9169560"/>
                  <a:tab algn="l" pos="9742320"/>
                  <a:tab algn="l" pos="10315440"/>
                  <a:tab algn="l" pos="1088856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" name="正方形/長方形 4"/>
            <p:cNvSpPr/>
            <p:nvPr/>
          </p:nvSpPr>
          <p:spPr>
            <a:xfrm>
              <a:off x="1962000" y="2825640"/>
              <a:ext cx="6767640" cy="9468000"/>
            </a:xfrm>
            <a:prstGeom prst="rect">
              <a:avLst/>
            </a:prstGeom>
            <a:noFill/>
            <a:ln w="3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400" rIns="50400" tIns="25200" bIns="25200" anchor="ctr">
              <a:noAutofit/>
            </a:bodyPr>
            <a:p>
              <a:pPr>
                <a:tabLst>
                  <a:tab algn="l" pos="0"/>
                  <a:tab algn="l" pos="573120"/>
                  <a:tab algn="l" pos="1146240"/>
                  <a:tab algn="l" pos="1719360"/>
                  <a:tab algn="l" pos="2292480"/>
                  <a:tab algn="l" pos="2865600"/>
                  <a:tab algn="l" pos="3438360"/>
                  <a:tab algn="l" pos="4011480"/>
                  <a:tab algn="l" pos="4584600"/>
                  <a:tab algn="l" pos="5157720"/>
                  <a:tab algn="l" pos="5730840"/>
                  <a:tab algn="l" pos="6303960"/>
                  <a:tab algn="l" pos="6877080"/>
                  <a:tab algn="l" pos="7450200"/>
                  <a:tab algn="l" pos="8023320"/>
                  <a:tab algn="l" pos="8596440"/>
                  <a:tab algn="l" pos="9169560"/>
                  <a:tab algn="l" pos="9742320"/>
                  <a:tab algn="l" pos="10315440"/>
                  <a:tab algn="l" pos="1088856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" name="グループ化 1"/>
          <p:cNvGrpSpPr/>
          <p:nvPr/>
        </p:nvGrpSpPr>
        <p:grpSpPr>
          <a:xfrm>
            <a:off x="1573200" y="2502000"/>
            <a:ext cx="7545240" cy="10115280"/>
            <a:chOff x="1573200" y="2502000"/>
            <a:chExt cx="7545240" cy="10115280"/>
          </a:xfrm>
        </p:grpSpPr>
        <p:grpSp>
          <p:nvGrpSpPr>
            <p:cNvPr id="9" name="グループ化 9"/>
            <p:cNvGrpSpPr/>
            <p:nvPr/>
          </p:nvGrpSpPr>
          <p:grpSpPr>
            <a:xfrm>
              <a:off x="1638360" y="2502000"/>
              <a:ext cx="431640" cy="431640"/>
              <a:chOff x="1638360" y="2502000"/>
              <a:chExt cx="431640" cy="431640"/>
            </a:xfrm>
          </p:grpSpPr>
          <p:sp>
            <p:nvSpPr>
              <p:cNvPr id="10" name="フリーフォーム 59"/>
              <p:cNvSpPr/>
              <p:nvPr/>
            </p:nvSpPr>
            <p:spPr>
              <a:xfrm>
                <a:off x="1638360" y="250200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" name="フリーフォーム 60"/>
              <p:cNvSpPr/>
              <p:nvPr/>
            </p:nvSpPr>
            <p:spPr>
              <a:xfrm>
                <a:off x="1638360" y="250200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" name="グループ化 10"/>
            <p:cNvGrpSpPr/>
            <p:nvPr/>
          </p:nvGrpSpPr>
          <p:grpSpPr>
            <a:xfrm>
              <a:off x="8620920" y="2502000"/>
              <a:ext cx="431640" cy="431640"/>
              <a:chOff x="8620920" y="2502000"/>
              <a:chExt cx="431640" cy="431640"/>
            </a:xfrm>
          </p:grpSpPr>
          <p:sp>
            <p:nvSpPr>
              <p:cNvPr id="13" name="フリーフォーム 57"/>
              <p:cNvSpPr/>
              <p:nvPr/>
            </p:nvSpPr>
            <p:spPr>
              <a:xfrm flipH="1">
                <a:off x="8620560" y="250200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" name="フリーフォーム 58"/>
              <p:cNvSpPr/>
              <p:nvPr/>
            </p:nvSpPr>
            <p:spPr>
              <a:xfrm flipH="1">
                <a:off x="8728560" y="250200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" name="グループ化 12"/>
            <p:cNvGrpSpPr/>
            <p:nvPr/>
          </p:nvGrpSpPr>
          <p:grpSpPr>
            <a:xfrm>
              <a:off x="1638000" y="12185280"/>
              <a:ext cx="431640" cy="431640"/>
              <a:chOff x="1638000" y="12185280"/>
              <a:chExt cx="431640" cy="431640"/>
            </a:xfrm>
          </p:grpSpPr>
          <p:sp>
            <p:nvSpPr>
              <p:cNvPr id="16" name="フリーフォーム 55"/>
              <p:cNvSpPr/>
              <p:nvPr/>
            </p:nvSpPr>
            <p:spPr>
              <a:xfrm flipV="1">
                <a:off x="1638000" y="1229292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" name="フリーフォーム 56"/>
              <p:cNvSpPr/>
              <p:nvPr/>
            </p:nvSpPr>
            <p:spPr>
              <a:xfrm flipV="1">
                <a:off x="1638000" y="1218492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" name="グループ化 9"/>
            <p:cNvGrpSpPr/>
            <p:nvPr/>
          </p:nvGrpSpPr>
          <p:grpSpPr>
            <a:xfrm>
              <a:off x="8620920" y="12185280"/>
              <a:ext cx="431640" cy="432000"/>
              <a:chOff x="8620920" y="12185280"/>
              <a:chExt cx="431640" cy="432000"/>
            </a:xfrm>
          </p:grpSpPr>
          <p:sp>
            <p:nvSpPr>
              <p:cNvPr id="19" name="フリーフォーム 51"/>
              <p:cNvSpPr/>
              <p:nvPr/>
            </p:nvSpPr>
            <p:spPr>
              <a:xfrm flipH="1" flipV="1">
                <a:off x="8620560" y="12293280"/>
                <a:ext cx="431640" cy="324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" name="フリーフォーム 54"/>
              <p:cNvSpPr/>
              <p:nvPr/>
            </p:nvSpPr>
            <p:spPr>
              <a:xfrm flipH="1" flipV="1">
                <a:off x="8728560" y="1218492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1" name="グループ化 2"/>
            <p:cNvGrpSpPr/>
            <p:nvPr/>
          </p:nvGrpSpPr>
          <p:grpSpPr>
            <a:xfrm>
              <a:off x="1573200" y="7131960"/>
              <a:ext cx="305640" cy="860040"/>
              <a:chOff x="1573200" y="7131960"/>
              <a:chExt cx="305640" cy="860040"/>
            </a:xfrm>
          </p:grpSpPr>
          <p:sp>
            <p:nvSpPr>
              <p:cNvPr id="22" name="直線コネクタ 20"/>
              <p:cNvSpPr/>
              <p:nvPr/>
            </p:nvSpPr>
            <p:spPr>
              <a:xfrm>
                <a:off x="1807560" y="7131960"/>
                <a:ext cx="0" cy="86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" name="直線コネクタ 21"/>
              <p:cNvSpPr/>
              <p:nvPr/>
            </p:nvSpPr>
            <p:spPr>
              <a:xfrm>
                <a:off x="1573200" y="7561800"/>
                <a:ext cx="30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4" name="グループ化 6"/>
            <p:cNvGrpSpPr/>
            <p:nvPr/>
          </p:nvGrpSpPr>
          <p:grpSpPr>
            <a:xfrm>
              <a:off x="8812800" y="7131240"/>
              <a:ext cx="305640" cy="860040"/>
              <a:chOff x="8812800" y="7131240"/>
              <a:chExt cx="305640" cy="860040"/>
            </a:xfrm>
          </p:grpSpPr>
          <p:sp>
            <p:nvSpPr>
              <p:cNvPr id="25" name="直線コネクタ 18"/>
              <p:cNvSpPr/>
              <p:nvPr/>
            </p:nvSpPr>
            <p:spPr>
              <a:xfrm>
                <a:off x="8884080" y="7131240"/>
                <a:ext cx="0" cy="86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" name="直線コネクタ 19"/>
              <p:cNvSpPr/>
              <p:nvPr/>
            </p:nvSpPr>
            <p:spPr>
              <a:xfrm>
                <a:off x="8812800" y="7561440"/>
                <a:ext cx="30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6:36:19Z</dcterms:created>
  <dc:creator>Ex-Image</dc:creator>
  <dc:description/>
  <dc:language>en-US</dc:language>
  <cp:lastModifiedBy>CR0096</cp:lastModifiedBy>
  <dcterms:modified xsi:type="dcterms:W3CDTF">2025-10-28T01:46:25Z</dcterms:modified>
  <cp:revision>30</cp:revision>
  <dc:subject/>
  <dc:title>PowerPoint プレゼンテーション</dc:title>
</cp:coreProperties>
</file>