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799763" cy="8999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0000" y="358920"/>
            <a:ext cx="971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0000" y="2106000"/>
            <a:ext cx="971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0000" y="4832280"/>
            <a:ext cx="971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0000" y="358920"/>
            <a:ext cx="971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0000" y="2106000"/>
            <a:ext cx="47430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0600" y="2106000"/>
            <a:ext cx="47430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40000" y="4832280"/>
            <a:ext cx="47430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520600" y="4832280"/>
            <a:ext cx="47430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0000" y="358920"/>
            <a:ext cx="971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0000" y="2106000"/>
            <a:ext cx="31294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26440" y="2106000"/>
            <a:ext cx="31294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12520" y="2106000"/>
            <a:ext cx="31294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40000" y="4832280"/>
            <a:ext cx="31294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826440" y="4832280"/>
            <a:ext cx="31294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7112520" y="4832280"/>
            <a:ext cx="31294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0000" y="358920"/>
            <a:ext cx="971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540000" y="2106000"/>
            <a:ext cx="9719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0000" y="358920"/>
            <a:ext cx="971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0000" y="2106000"/>
            <a:ext cx="9719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0000" y="358920"/>
            <a:ext cx="971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0000" y="2106000"/>
            <a:ext cx="474300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20600" y="2106000"/>
            <a:ext cx="474300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0000" y="358920"/>
            <a:ext cx="971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540000" y="358920"/>
            <a:ext cx="9719640" cy="69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0000" y="358920"/>
            <a:ext cx="971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40000" y="2106000"/>
            <a:ext cx="47430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20600" y="2106000"/>
            <a:ext cx="474300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0000" y="4832280"/>
            <a:ext cx="47430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40000" y="358920"/>
            <a:ext cx="971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40000" y="2106000"/>
            <a:ext cx="474300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20600" y="2106000"/>
            <a:ext cx="47430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520600" y="4832280"/>
            <a:ext cx="47430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0000" y="358920"/>
            <a:ext cx="971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0000" y="2106000"/>
            <a:ext cx="47430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520600" y="2106000"/>
            <a:ext cx="47430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40000" y="4832280"/>
            <a:ext cx="971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3470400" y="405000"/>
            <a:ext cx="38592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冊子：中綴じ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A5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1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10×148mm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グループ化 20"/>
          <p:cNvGrpSpPr/>
          <p:nvPr/>
        </p:nvGrpSpPr>
        <p:grpSpPr>
          <a:xfrm>
            <a:off x="1511280" y="1727280"/>
            <a:ext cx="7777080" cy="5545080"/>
            <a:chOff x="1511280" y="1727280"/>
            <a:chExt cx="7777080" cy="5545080"/>
          </a:xfrm>
        </p:grpSpPr>
        <p:sp>
          <p:nvSpPr>
            <p:cNvPr id="2" name="正方形/長方形 160"/>
            <p:cNvSpPr/>
            <p:nvPr/>
          </p:nvSpPr>
          <p:spPr>
            <a:xfrm>
              <a:off x="1618920" y="1834920"/>
              <a:ext cx="7561440" cy="5329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161"/>
            <p:cNvSpPr/>
            <p:nvPr/>
          </p:nvSpPr>
          <p:spPr>
            <a:xfrm>
              <a:off x="1726920" y="1942920"/>
              <a:ext cx="7345440" cy="51134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162"/>
            <p:cNvSpPr/>
            <p:nvPr/>
          </p:nvSpPr>
          <p:spPr>
            <a:xfrm>
              <a:off x="1511280" y="1727280"/>
              <a:ext cx="7777080" cy="55450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正方形/長方形 3"/>
          <p:cNvSpPr/>
          <p:nvPr/>
        </p:nvSpPr>
        <p:spPr>
          <a:xfrm>
            <a:off x="1101600" y="7891560"/>
            <a:ext cx="51706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正方形/長方形 3"/>
          <p:cNvSpPr/>
          <p:nvPr/>
        </p:nvSpPr>
        <p:spPr>
          <a:xfrm>
            <a:off x="6405480" y="7904160"/>
            <a:ext cx="3213360" cy="85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冊子のデータ製作につい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・ページ数は表紙も含めた数になります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・データは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1P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ごとでも 見開きでも ご入稿頂けます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見開きの場合はページ順どおりにご作成くださ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・白紙のページがある場合は コメント欄にご指示くださ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グループ化 5"/>
          <p:cNvGrpSpPr/>
          <p:nvPr/>
        </p:nvGrpSpPr>
        <p:grpSpPr>
          <a:xfrm>
            <a:off x="1185840" y="1401840"/>
            <a:ext cx="8426520" cy="6194160"/>
            <a:chOff x="1185840" y="1401840"/>
            <a:chExt cx="8426520" cy="6194160"/>
          </a:xfrm>
        </p:grpSpPr>
        <p:grpSp>
          <p:nvGrpSpPr>
            <p:cNvPr id="8" name="グループ化 2"/>
            <p:cNvGrpSpPr/>
            <p:nvPr/>
          </p:nvGrpSpPr>
          <p:grpSpPr>
            <a:xfrm>
              <a:off x="4970880" y="1430280"/>
              <a:ext cx="858600" cy="180720"/>
              <a:chOff x="4970880" y="1430280"/>
              <a:chExt cx="858600" cy="180720"/>
            </a:xfrm>
          </p:grpSpPr>
          <p:sp>
            <p:nvSpPr>
              <p:cNvPr id="9" name="直線コネクタ 180"/>
              <p:cNvSpPr/>
              <p:nvPr/>
            </p:nvSpPr>
            <p:spPr>
              <a:xfrm>
                <a:off x="4970880" y="1538280"/>
                <a:ext cx="85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直線コネクタ 181"/>
              <p:cNvSpPr/>
              <p:nvPr/>
            </p:nvSpPr>
            <p:spPr>
              <a:xfrm>
                <a:off x="5404320" y="1430280"/>
                <a:ext cx="0" cy="18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グループ化 1"/>
            <p:cNvGrpSpPr/>
            <p:nvPr/>
          </p:nvGrpSpPr>
          <p:grpSpPr>
            <a:xfrm>
              <a:off x="4970880" y="7391880"/>
              <a:ext cx="858600" cy="180720"/>
              <a:chOff x="4970880" y="7391880"/>
              <a:chExt cx="858600" cy="180720"/>
            </a:xfrm>
          </p:grpSpPr>
          <p:sp>
            <p:nvSpPr>
              <p:cNvPr id="12" name="直線コネクタ 178"/>
              <p:cNvSpPr/>
              <p:nvPr/>
            </p:nvSpPr>
            <p:spPr>
              <a:xfrm>
                <a:off x="4970880" y="7469640"/>
                <a:ext cx="85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直線コネクタ 179"/>
              <p:cNvSpPr/>
              <p:nvPr/>
            </p:nvSpPr>
            <p:spPr>
              <a:xfrm>
                <a:off x="5401080" y="7391880"/>
                <a:ext cx="0" cy="18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" name="グループ化 1"/>
            <p:cNvGrpSpPr/>
            <p:nvPr/>
          </p:nvGrpSpPr>
          <p:grpSpPr>
            <a:xfrm>
              <a:off x="1185840" y="1401840"/>
              <a:ext cx="433080" cy="431640"/>
              <a:chOff x="1185840" y="1401840"/>
              <a:chExt cx="433080" cy="431640"/>
            </a:xfrm>
          </p:grpSpPr>
          <p:sp>
            <p:nvSpPr>
              <p:cNvPr id="15" name="フリーフォーム 43"/>
              <p:cNvSpPr/>
              <p:nvPr/>
            </p:nvSpPr>
            <p:spPr>
              <a:xfrm>
                <a:off x="1187280" y="14032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フリーフォーム 44"/>
              <p:cNvSpPr/>
              <p:nvPr/>
            </p:nvSpPr>
            <p:spPr>
              <a:xfrm>
                <a:off x="1185840" y="1401840"/>
                <a:ext cx="3254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" name="グループ化 5"/>
            <p:cNvGrpSpPr/>
            <p:nvPr/>
          </p:nvGrpSpPr>
          <p:grpSpPr>
            <a:xfrm>
              <a:off x="9180360" y="1403280"/>
              <a:ext cx="432000" cy="435600"/>
              <a:chOff x="9180360" y="1403280"/>
              <a:chExt cx="432000" cy="435600"/>
            </a:xfrm>
          </p:grpSpPr>
          <p:sp>
            <p:nvSpPr>
              <p:cNvPr id="18" name="フリーフォーム 43"/>
              <p:cNvSpPr/>
              <p:nvPr/>
            </p:nvSpPr>
            <p:spPr>
              <a:xfrm flipH="1">
                <a:off x="9180000" y="1403280"/>
                <a:ext cx="431640" cy="3243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" name="フリーフォーム 44"/>
              <p:cNvSpPr/>
              <p:nvPr/>
            </p:nvSpPr>
            <p:spPr>
              <a:xfrm flipH="1">
                <a:off x="9288360" y="140616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" name="グループ化 9"/>
            <p:cNvGrpSpPr/>
            <p:nvPr/>
          </p:nvGrpSpPr>
          <p:grpSpPr>
            <a:xfrm>
              <a:off x="9180360" y="7164360"/>
              <a:ext cx="432000" cy="431640"/>
              <a:chOff x="9180360" y="7164360"/>
              <a:chExt cx="432000" cy="431640"/>
            </a:xfrm>
          </p:grpSpPr>
          <p:sp>
            <p:nvSpPr>
              <p:cNvPr id="21" name="フリーフォーム 43"/>
              <p:cNvSpPr/>
              <p:nvPr/>
            </p:nvSpPr>
            <p:spPr>
              <a:xfrm flipH="1" flipV="1">
                <a:off x="9180360" y="727200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フリーフォーム 44"/>
              <p:cNvSpPr/>
              <p:nvPr/>
            </p:nvSpPr>
            <p:spPr>
              <a:xfrm flipH="1" flipV="1">
                <a:off x="9288360" y="716400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" name="グループ化 13"/>
            <p:cNvGrpSpPr/>
            <p:nvPr/>
          </p:nvGrpSpPr>
          <p:grpSpPr>
            <a:xfrm>
              <a:off x="1188000" y="7164360"/>
              <a:ext cx="432360" cy="431640"/>
              <a:chOff x="1188000" y="7164360"/>
              <a:chExt cx="432360" cy="431640"/>
            </a:xfrm>
          </p:grpSpPr>
          <p:sp>
            <p:nvSpPr>
              <p:cNvPr id="24" name="フリーフォーム 43"/>
              <p:cNvSpPr/>
              <p:nvPr/>
            </p:nvSpPr>
            <p:spPr>
              <a:xfrm flipV="1">
                <a:off x="1188720" y="7271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フリーフォーム 44"/>
              <p:cNvSpPr/>
              <p:nvPr/>
            </p:nvSpPr>
            <p:spPr>
              <a:xfrm flipV="1">
                <a:off x="1188000" y="7164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4T10:50:06Z</dcterms:created>
  <dc:creator>ラクスル</dc:creator>
  <dc:description/>
  <dc:language>en-US</dc:language>
  <cp:lastModifiedBy>CR0096</cp:lastModifiedBy>
  <dcterms:modified xsi:type="dcterms:W3CDTF">2025-12-05T04:40:56Z</dcterms:modified>
  <cp:revision>28</cp:revision>
  <dc:subject/>
  <dc:title>PowerPoint プレゼンテーション</dc:title>
</cp:coreProperties>
</file>