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8000663" cy="107997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00000" y="430920"/>
            <a:ext cx="16199640" cy="1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65280"/>
                <a:tab algn="l" pos="3130560"/>
                <a:tab algn="l" pos="4695840"/>
                <a:tab algn="l" pos="6261120"/>
                <a:tab algn="l" pos="7826400"/>
                <a:tab algn="l" pos="9391680"/>
                <a:tab algn="l" pos="10956960"/>
              </a:tabLst>
            </a:pPr>
            <a:endParaRPr b="0" lang="en-US" sz="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00000" y="2527200"/>
            <a:ext cx="16199640" cy="29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1565280"/>
                <a:tab algn="l" pos="3130560"/>
                <a:tab algn="l" pos="4695840"/>
                <a:tab algn="l" pos="6261120"/>
                <a:tab algn="l" pos="7826400"/>
                <a:tab algn="l" pos="9391680"/>
                <a:tab algn="l" pos="1095696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900000" y="5799240"/>
            <a:ext cx="16199640" cy="29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1565280"/>
                <a:tab algn="l" pos="3130560"/>
                <a:tab algn="l" pos="4695840"/>
                <a:tab algn="l" pos="6261120"/>
                <a:tab algn="l" pos="7826400"/>
                <a:tab algn="l" pos="9391680"/>
                <a:tab algn="l" pos="1095696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00000" y="430920"/>
            <a:ext cx="16199640" cy="1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65280"/>
                <a:tab algn="l" pos="3130560"/>
                <a:tab algn="l" pos="4695840"/>
                <a:tab algn="l" pos="6261120"/>
                <a:tab algn="l" pos="7826400"/>
                <a:tab algn="l" pos="9391680"/>
                <a:tab algn="l" pos="10956960"/>
              </a:tabLst>
            </a:pPr>
            <a:endParaRPr b="0" lang="en-US" sz="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00000" y="2527200"/>
            <a:ext cx="7905240" cy="29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1565280"/>
                <a:tab algn="l" pos="3130560"/>
                <a:tab algn="l" pos="4695840"/>
                <a:tab algn="l" pos="6261120"/>
                <a:tab algn="l" pos="7826400"/>
                <a:tab algn="l" pos="9391680"/>
                <a:tab algn="l" pos="1095696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9200880" y="2527200"/>
            <a:ext cx="7905240" cy="29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1565280"/>
                <a:tab algn="l" pos="3130560"/>
                <a:tab algn="l" pos="4695840"/>
                <a:tab algn="l" pos="6261120"/>
                <a:tab algn="l" pos="7826400"/>
                <a:tab algn="l" pos="9391680"/>
                <a:tab algn="l" pos="1095696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900000" y="5799240"/>
            <a:ext cx="7905240" cy="29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1565280"/>
                <a:tab algn="l" pos="3130560"/>
                <a:tab algn="l" pos="4695840"/>
                <a:tab algn="l" pos="6261120"/>
                <a:tab algn="l" pos="7826400"/>
                <a:tab algn="l" pos="9391680"/>
                <a:tab algn="l" pos="1095696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9200880" y="5799240"/>
            <a:ext cx="7905240" cy="29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1565280"/>
                <a:tab algn="l" pos="3130560"/>
                <a:tab algn="l" pos="4695840"/>
                <a:tab algn="l" pos="6261120"/>
                <a:tab algn="l" pos="7826400"/>
                <a:tab algn="l" pos="9391680"/>
                <a:tab algn="l" pos="1095696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0920"/>
            <a:ext cx="16199640" cy="1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65280"/>
                <a:tab algn="l" pos="3130560"/>
                <a:tab algn="l" pos="4695840"/>
                <a:tab algn="l" pos="6261120"/>
                <a:tab algn="l" pos="7826400"/>
                <a:tab algn="l" pos="9391680"/>
                <a:tab algn="l" pos="10956960"/>
              </a:tabLst>
            </a:pPr>
            <a:endParaRPr b="0" lang="en-US" sz="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00000" y="2527200"/>
            <a:ext cx="5216040" cy="29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1565280"/>
                <a:tab algn="l" pos="3130560"/>
                <a:tab algn="l" pos="4695840"/>
                <a:tab algn="l" pos="6261120"/>
                <a:tab algn="l" pos="7826400"/>
                <a:tab algn="l" pos="9391680"/>
                <a:tab algn="l" pos="1095696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377400" y="2527200"/>
            <a:ext cx="5216040" cy="29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1565280"/>
                <a:tab algn="l" pos="3130560"/>
                <a:tab algn="l" pos="4695840"/>
                <a:tab algn="l" pos="6261120"/>
                <a:tab algn="l" pos="7826400"/>
                <a:tab algn="l" pos="9391680"/>
                <a:tab algn="l" pos="1095696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54440" y="2527200"/>
            <a:ext cx="5216040" cy="29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1565280"/>
                <a:tab algn="l" pos="3130560"/>
                <a:tab algn="l" pos="4695840"/>
                <a:tab algn="l" pos="6261120"/>
                <a:tab algn="l" pos="7826400"/>
                <a:tab algn="l" pos="9391680"/>
                <a:tab algn="l" pos="1095696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900000" y="5799240"/>
            <a:ext cx="5216040" cy="29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1565280"/>
                <a:tab algn="l" pos="3130560"/>
                <a:tab algn="l" pos="4695840"/>
                <a:tab algn="l" pos="6261120"/>
                <a:tab algn="l" pos="7826400"/>
                <a:tab algn="l" pos="9391680"/>
                <a:tab algn="l" pos="1095696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6377400" y="5799240"/>
            <a:ext cx="5216040" cy="29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1565280"/>
                <a:tab algn="l" pos="3130560"/>
                <a:tab algn="l" pos="4695840"/>
                <a:tab algn="l" pos="6261120"/>
                <a:tab algn="l" pos="7826400"/>
                <a:tab algn="l" pos="9391680"/>
                <a:tab algn="l" pos="1095696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11854440" y="5799240"/>
            <a:ext cx="5216040" cy="29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1565280"/>
                <a:tab algn="l" pos="3130560"/>
                <a:tab algn="l" pos="4695840"/>
                <a:tab algn="l" pos="6261120"/>
                <a:tab algn="l" pos="7826400"/>
                <a:tab algn="l" pos="9391680"/>
                <a:tab algn="l" pos="1095696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00000" y="430920"/>
            <a:ext cx="16199640" cy="1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65280"/>
                <a:tab algn="l" pos="3130560"/>
                <a:tab algn="l" pos="4695840"/>
                <a:tab algn="l" pos="6261120"/>
                <a:tab algn="l" pos="7826400"/>
                <a:tab algn="l" pos="9391680"/>
                <a:tab algn="l" pos="10956960"/>
              </a:tabLst>
            </a:pPr>
            <a:endParaRPr b="0" lang="en-US" sz="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900000" y="2527200"/>
            <a:ext cx="16199640" cy="62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1565280"/>
                <a:tab algn="l" pos="3130560"/>
                <a:tab algn="l" pos="4695840"/>
                <a:tab algn="l" pos="6261120"/>
                <a:tab algn="l" pos="7826400"/>
                <a:tab algn="l" pos="9391680"/>
                <a:tab algn="l" pos="1095696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00000" y="430920"/>
            <a:ext cx="16199640" cy="1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65280"/>
                <a:tab algn="l" pos="3130560"/>
                <a:tab algn="l" pos="4695840"/>
                <a:tab algn="l" pos="6261120"/>
                <a:tab algn="l" pos="7826400"/>
                <a:tab algn="l" pos="9391680"/>
                <a:tab algn="l" pos="10956960"/>
              </a:tabLst>
            </a:pPr>
            <a:endParaRPr b="0" lang="en-US" sz="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00000" y="2527200"/>
            <a:ext cx="16199640" cy="62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1565280"/>
                <a:tab algn="l" pos="3130560"/>
                <a:tab algn="l" pos="4695840"/>
                <a:tab algn="l" pos="6261120"/>
                <a:tab algn="l" pos="7826400"/>
                <a:tab algn="l" pos="9391680"/>
                <a:tab algn="l" pos="1095696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00000" y="430920"/>
            <a:ext cx="16199640" cy="1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65280"/>
                <a:tab algn="l" pos="3130560"/>
                <a:tab algn="l" pos="4695840"/>
                <a:tab algn="l" pos="6261120"/>
                <a:tab algn="l" pos="7826400"/>
                <a:tab algn="l" pos="9391680"/>
                <a:tab algn="l" pos="10956960"/>
              </a:tabLst>
            </a:pPr>
            <a:endParaRPr b="0" lang="en-US" sz="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00000" y="2527200"/>
            <a:ext cx="7905240" cy="62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1565280"/>
                <a:tab algn="l" pos="3130560"/>
                <a:tab algn="l" pos="4695840"/>
                <a:tab algn="l" pos="6261120"/>
                <a:tab algn="l" pos="7826400"/>
                <a:tab algn="l" pos="9391680"/>
                <a:tab algn="l" pos="1095696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200880" y="2527200"/>
            <a:ext cx="7905240" cy="62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1565280"/>
                <a:tab algn="l" pos="3130560"/>
                <a:tab algn="l" pos="4695840"/>
                <a:tab algn="l" pos="6261120"/>
                <a:tab algn="l" pos="7826400"/>
                <a:tab algn="l" pos="9391680"/>
                <a:tab algn="l" pos="1095696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00000" y="430920"/>
            <a:ext cx="16199640" cy="1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65280"/>
                <a:tab algn="l" pos="3130560"/>
                <a:tab algn="l" pos="4695840"/>
                <a:tab algn="l" pos="6261120"/>
                <a:tab algn="l" pos="7826400"/>
                <a:tab algn="l" pos="9391680"/>
                <a:tab algn="l" pos="10956960"/>
              </a:tabLst>
            </a:pPr>
            <a:endParaRPr b="0" lang="en-US" sz="7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900000" y="430920"/>
            <a:ext cx="16199640" cy="83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1565280"/>
                <a:tab algn="l" pos="3130560"/>
                <a:tab algn="l" pos="4695840"/>
                <a:tab algn="l" pos="6261120"/>
                <a:tab algn="l" pos="7826400"/>
                <a:tab algn="l" pos="9391680"/>
                <a:tab algn="l" pos="1095696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00000" y="430920"/>
            <a:ext cx="16199640" cy="1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65280"/>
                <a:tab algn="l" pos="3130560"/>
                <a:tab algn="l" pos="4695840"/>
                <a:tab algn="l" pos="6261120"/>
                <a:tab algn="l" pos="7826400"/>
                <a:tab algn="l" pos="9391680"/>
                <a:tab algn="l" pos="10956960"/>
              </a:tabLst>
            </a:pPr>
            <a:endParaRPr b="0" lang="en-US" sz="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00000" y="2527200"/>
            <a:ext cx="7905240" cy="29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1565280"/>
                <a:tab algn="l" pos="3130560"/>
                <a:tab algn="l" pos="4695840"/>
                <a:tab algn="l" pos="6261120"/>
                <a:tab algn="l" pos="7826400"/>
                <a:tab algn="l" pos="9391680"/>
                <a:tab algn="l" pos="1095696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9200880" y="2527200"/>
            <a:ext cx="7905240" cy="62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1565280"/>
                <a:tab algn="l" pos="3130560"/>
                <a:tab algn="l" pos="4695840"/>
                <a:tab algn="l" pos="6261120"/>
                <a:tab algn="l" pos="7826400"/>
                <a:tab algn="l" pos="9391680"/>
                <a:tab algn="l" pos="1095696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00000" y="5799240"/>
            <a:ext cx="7905240" cy="29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1565280"/>
                <a:tab algn="l" pos="3130560"/>
                <a:tab algn="l" pos="4695840"/>
                <a:tab algn="l" pos="6261120"/>
                <a:tab algn="l" pos="7826400"/>
                <a:tab algn="l" pos="9391680"/>
                <a:tab algn="l" pos="1095696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430920"/>
            <a:ext cx="16199640" cy="1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65280"/>
                <a:tab algn="l" pos="3130560"/>
                <a:tab algn="l" pos="4695840"/>
                <a:tab algn="l" pos="6261120"/>
                <a:tab algn="l" pos="7826400"/>
                <a:tab algn="l" pos="9391680"/>
                <a:tab algn="l" pos="10956960"/>
              </a:tabLst>
            </a:pPr>
            <a:endParaRPr b="0" lang="en-US" sz="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00000" y="2527200"/>
            <a:ext cx="7905240" cy="62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1565280"/>
                <a:tab algn="l" pos="3130560"/>
                <a:tab algn="l" pos="4695840"/>
                <a:tab algn="l" pos="6261120"/>
                <a:tab algn="l" pos="7826400"/>
                <a:tab algn="l" pos="9391680"/>
                <a:tab algn="l" pos="1095696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9200880" y="2527200"/>
            <a:ext cx="7905240" cy="29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1565280"/>
                <a:tab algn="l" pos="3130560"/>
                <a:tab algn="l" pos="4695840"/>
                <a:tab algn="l" pos="6261120"/>
                <a:tab algn="l" pos="7826400"/>
                <a:tab algn="l" pos="9391680"/>
                <a:tab algn="l" pos="1095696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9200880" y="5799240"/>
            <a:ext cx="7905240" cy="29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1565280"/>
                <a:tab algn="l" pos="3130560"/>
                <a:tab algn="l" pos="4695840"/>
                <a:tab algn="l" pos="6261120"/>
                <a:tab algn="l" pos="7826400"/>
                <a:tab algn="l" pos="9391680"/>
                <a:tab algn="l" pos="1095696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00000" y="430920"/>
            <a:ext cx="16199640" cy="1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65280"/>
                <a:tab algn="l" pos="3130560"/>
                <a:tab algn="l" pos="4695840"/>
                <a:tab algn="l" pos="6261120"/>
                <a:tab algn="l" pos="7826400"/>
                <a:tab algn="l" pos="9391680"/>
                <a:tab algn="l" pos="10956960"/>
              </a:tabLst>
            </a:pPr>
            <a:endParaRPr b="0" lang="en-US" sz="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00000" y="2527200"/>
            <a:ext cx="7905240" cy="29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1565280"/>
                <a:tab algn="l" pos="3130560"/>
                <a:tab algn="l" pos="4695840"/>
                <a:tab algn="l" pos="6261120"/>
                <a:tab algn="l" pos="7826400"/>
                <a:tab algn="l" pos="9391680"/>
                <a:tab algn="l" pos="1095696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9200880" y="2527200"/>
            <a:ext cx="7905240" cy="29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1565280"/>
                <a:tab algn="l" pos="3130560"/>
                <a:tab algn="l" pos="4695840"/>
                <a:tab algn="l" pos="6261120"/>
                <a:tab algn="l" pos="7826400"/>
                <a:tab algn="l" pos="9391680"/>
                <a:tab algn="l" pos="1095696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900000" y="5799240"/>
            <a:ext cx="16199640" cy="29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1565280"/>
                <a:tab algn="l" pos="3130560"/>
                <a:tab algn="l" pos="4695840"/>
                <a:tab algn="l" pos="6261120"/>
                <a:tab algn="l" pos="7826400"/>
                <a:tab algn="l" pos="9391680"/>
                <a:tab algn="l" pos="1095696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3"/>
          <p:cNvSpPr/>
          <p:nvPr/>
        </p:nvSpPr>
        <p:spPr>
          <a:xfrm>
            <a:off x="1008000" y="651600"/>
            <a:ext cx="832644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023920"/>
                <a:tab algn="r" pos="404820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冊子：無線綴じ</a:t>
            </a:r>
            <a:r>
              <a:rPr b="0" lang="en-US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A5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横</a:t>
            </a:r>
            <a:r>
              <a:rPr b="0" lang="en-US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見開き</a:t>
            </a:r>
            <a:r>
              <a:rPr b="0" lang="en-US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023920"/>
                <a:tab algn="r" pos="404820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紙のサイズ</a:t>
            </a:r>
            <a:r>
              <a:rPr b="0" lang="en-US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20×148 mm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仕上がりサイズ</a:t>
            </a:r>
            <a:r>
              <a:rPr b="0" lang="en-US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10×148 mm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正方形/長方形 3"/>
          <p:cNvSpPr/>
          <p:nvPr/>
        </p:nvSpPr>
        <p:spPr>
          <a:xfrm>
            <a:off x="4653000" y="8685360"/>
            <a:ext cx="869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ja-JP" sz="1800" spc="-1" strike="noStrike">
                <a:solidFill>
                  <a:srgbClr val="0066ff"/>
                </a:solidFill>
                <a:latin typeface="Calibri"/>
              </a:rPr>
              <a:t>●</a:t>
            </a:r>
            <a:r>
              <a:rPr b="1" lang="ja-JP" sz="1800" spc="-1" strike="noStrike">
                <a:solidFill>
                  <a:srgbClr val="0066ff"/>
                </a:solidFill>
                <a:latin typeface="Calibri"/>
              </a:rPr>
              <a:t>水色の枠線</a:t>
            </a:r>
            <a:r>
              <a:rPr b="1" lang="en-US" sz="1800" spc="-1" strike="noStrike">
                <a:solidFill>
                  <a:srgbClr val="0066ff"/>
                </a:solidFill>
                <a:latin typeface="Calibri"/>
              </a:rPr>
              <a:t>……</a:t>
            </a:r>
            <a:r>
              <a:rPr b="1" lang="ja-JP" sz="1800" spc="-1" strike="noStrike">
                <a:solidFill>
                  <a:srgbClr val="0066ff"/>
                </a:solidFill>
                <a:latin typeface="Calibri"/>
              </a:rPr>
              <a:t>切れてはいけない要素（文字やロゴ等）をいれる範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ja-JP" sz="1800" spc="-1" strike="noStrike">
                <a:solidFill>
                  <a:srgbClr val="cc00ff"/>
                </a:solidFill>
                <a:latin typeface="Calibri"/>
              </a:rPr>
              <a:t>●</a:t>
            </a:r>
            <a:r>
              <a:rPr b="1" lang="ja-JP" sz="1800" spc="-1" strike="noStrike">
                <a:solidFill>
                  <a:srgbClr val="cc00ff"/>
                </a:solidFill>
                <a:latin typeface="Calibri"/>
              </a:rPr>
              <a:t>ピンクの枠線</a:t>
            </a:r>
            <a:r>
              <a:rPr b="1" lang="en-US" sz="1800" spc="-1" strike="noStrike">
                <a:solidFill>
                  <a:srgbClr val="cc00ff"/>
                </a:solidFill>
                <a:latin typeface="Calibri"/>
              </a:rPr>
              <a:t>…</a:t>
            </a:r>
            <a:r>
              <a:rPr b="1" lang="ja-JP" sz="1800" spc="-1" strike="noStrike">
                <a:solidFill>
                  <a:srgbClr val="cc00ff"/>
                </a:solidFill>
                <a:latin typeface="Calibri"/>
              </a:rPr>
              <a:t>仕上がりのサイ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Calibri"/>
              </a:rPr>
              <a:t>●</a:t>
            </a:r>
            <a:r>
              <a:rPr b="1" lang="ja-JP" sz="1800" spc="-1" strike="noStrike">
                <a:solidFill>
                  <a:srgbClr val="008000"/>
                </a:solidFill>
                <a:latin typeface="Calibri"/>
              </a:rPr>
              <a:t>みどりの枠線</a:t>
            </a:r>
            <a:r>
              <a:rPr b="1" lang="en-US" sz="1800" spc="-1" strike="noStrike">
                <a:solidFill>
                  <a:srgbClr val="008000"/>
                </a:solidFill>
                <a:latin typeface="Calibri"/>
              </a:rPr>
              <a:t>…</a:t>
            </a:r>
            <a:r>
              <a:rPr b="1" lang="ja-JP" sz="1800" spc="-1" strike="noStrike">
                <a:solidFill>
                  <a:srgbClr val="008000"/>
                </a:solidFill>
                <a:latin typeface="Calibri"/>
              </a:rPr>
              <a:t>フチなし印刷にする場合、背景を伸ばす範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★★★ </a:t>
            </a: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ＰＤＦに変換して入稿される場合 ★★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「表示」＞「スライドマスター」画面より、色つきのガイド線を消してから変換してくださ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グループ化 2"/>
          <p:cNvGrpSpPr/>
          <p:nvPr/>
        </p:nvGrpSpPr>
        <p:grpSpPr>
          <a:xfrm>
            <a:off x="1332000" y="2627280"/>
            <a:ext cx="15336720" cy="5545080"/>
            <a:chOff x="1332000" y="2627280"/>
            <a:chExt cx="15336720" cy="5545080"/>
          </a:xfrm>
        </p:grpSpPr>
        <p:sp>
          <p:nvSpPr>
            <p:cNvPr id="3" name="正方形/長方形 2"/>
            <p:cNvSpPr/>
            <p:nvPr/>
          </p:nvSpPr>
          <p:spPr>
            <a:xfrm>
              <a:off x="1332000" y="2627280"/>
              <a:ext cx="15336720" cy="554508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ctr">
              <a:noAutofit/>
            </a:bodyPr>
            <a:p>
              <a:pPr>
                <a:tabLst>
                  <a:tab algn="l" pos="0"/>
                  <a:tab algn="l" pos="781200"/>
                  <a:tab algn="l" pos="1562040"/>
                  <a:tab algn="l" pos="2343240"/>
                  <a:tab algn="l" pos="3124080"/>
                  <a:tab algn="l" pos="3905280"/>
                  <a:tab algn="l" pos="4686480"/>
                  <a:tab algn="l" pos="5467320"/>
                  <a:tab algn="l" pos="6248520"/>
                  <a:tab algn="l" pos="7029360"/>
                  <a:tab algn="l" pos="7810560"/>
                  <a:tab algn="l" pos="8591400"/>
                  <a:tab algn="l" pos="9372600"/>
                  <a:tab algn="l" pos="10153800"/>
                  <a:tab algn="l" pos="109346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正方形/長方形 3"/>
            <p:cNvSpPr/>
            <p:nvPr/>
          </p:nvSpPr>
          <p:spPr>
            <a:xfrm>
              <a:off x="1547640" y="2841480"/>
              <a:ext cx="7091280" cy="511488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ctr">
              <a:noAutofit/>
            </a:bodyPr>
            <a:p>
              <a:pPr>
                <a:tabLst>
                  <a:tab algn="l" pos="0"/>
                  <a:tab algn="l" pos="781200"/>
                  <a:tab algn="l" pos="1562040"/>
                  <a:tab algn="l" pos="2343240"/>
                  <a:tab algn="l" pos="3124080"/>
                  <a:tab algn="l" pos="3905280"/>
                  <a:tab algn="l" pos="4686480"/>
                  <a:tab algn="l" pos="5467320"/>
                  <a:tab algn="l" pos="6248520"/>
                  <a:tab algn="l" pos="7029360"/>
                  <a:tab algn="l" pos="7810560"/>
                  <a:tab algn="l" pos="8591400"/>
                  <a:tab algn="l" pos="9372600"/>
                  <a:tab algn="l" pos="10153800"/>
                  <a:tab algn="l" pos="109346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正方形/長方形 4"/>
            <p:cNvSpPr/>
            <p:nvPr/>
          </p:nvSpPr>
          <p:spPr>
            <a:xfrm>
              <a:off x="9001080" y="2733480"/>
              <a:ext cx="7559640" cy="532944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ctr">
              <a:noAutofit/>
            </a:bodyPr>
            <a:p>
              <a:pPr>
                <a:tabLst>
                  <a:tab algn="l" pos="0"/>
                  <a:tab algn="l" pos="781200"/>
                  <a:tab algn="l" pos="1562040"/>
                  <a:tab algn="l" pos="2343240"/>
                  <a:tab algn="l" pos="3124080"/>
                  <a:tab algn="l" pos="3905280"/>
                  <a:tab algn="l" pos="4686480"/>
                  <a:tab algn="l" pos="5467320"/>
                  <a:tab algn="l" pos="6248520"/>
                  <a:tab algn="l" pos="7029360"/>
                  <a:tab algn="l" pos="7810560"/>
                  <a:tab algn="l" pos="8591400"/>
                  <a:tab algn="l" pos="9372600"/>
                  <a:tab algn="l" pos="10153800"/>
                  <a:tab algn="l" pos="109346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正方形/長方形 5"/>
            <p:cNvSpPr/>
            <p:nvPr/>
          </p:nvSpPr>
          <p:spPr>
            <a:xfrm>
              <a:off x="9361440" y="2844720"/>
              <a:ext cx="7091280" cy="511020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ctr">
              <a:noAutofit/>
            </a:bodyPr>
            <a:p>
              <a:pPr>
                <a:tabLst>
                  <a:tab algn="l" pos="0"/>
                  <a:tab algn="l" pos="781200"/>
                  <a:tab algn="l" pos="1562040"/>
                  <a:tab algn="l" pos="2343240"/>
                  <a:tab algn="l" pos="3124080"/>
                  <a:tab algn="l" pos="3905280"/>
                  <a:tab algn="l" pos="4686480"/>
                  <a:tab algn="l" pos="5467320"/>
                  <a:tab algn="l" pos="6248520"/>
                  <a:tab algn="l" pos="7029360"/>
                  <a:tab algn="l" pos="7810560"/>
                  <a:tab algn="l" pos="8591400"/>
                  <a:tab algn="l" pos="9372600"/>
                  <a:tab algn="l" pos="10153800"/>
                  <a:tab algn="l" pos="109346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正方形/長方形 6"/>
            <p:cNvSpPr/>
            <p:nvPr/>
          </p:nvSpPr>
          <p:spPr>
            <a:xfrm>
              <a:off x="1439640" y="2733480"/>
              <a:ext cx="7559640" cy="532944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ctr">
              <a:noAutofit/>
            </a:bodyPr>
            <a:p>
              <a:pPr>
                <a:tabLst>
                  <a:tab algn="l" pos="0"/>
                  <a:tab algn="l" pos="781200"/>
                  <a:tab algn="l" pos="1562040"/>
                  <a:tab algn="l" pos="2343240"/>
                  <a:tab algn="l" pos="3124080"/>
                  <a:tab algn="l" pos="3905280"/>
                  <a:tab algn="l" pos="4686480"/>
                  <a:tab algn="l" pos="5467320"/>
                  <a:tab algn="l" pos="6248520"/>
                  <a:tab algn="l" pos="7029360"/>
                  <a:tab algn="l" pos="7810560"/>
                  <a:tab algn="l" pos="8591400"/>
                  <a:tab algn="l" pos="9372600"/>
                  <a:tab algn="l" pos="10153800"/>
                  <a:tab algn="l" pos="109346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" name="グループ化 20"/>
          <p:cNvGrpSpPr/>
          <p:nvPr/>
        </p:nvGrpSpPr>
        <p:grpSpPr>
          <a:xfrm>
            <a:off x="1008000" y="2303640"/>
            <a:ext cx="15984720" cy="6192720"/>
            <a:chOff x="1008000" y="2303640"/>
            <a:chExt cx="15984720" cy="6192720"/>
          </a:xfrm>
        </p:grpSpPr>
        <p:grpSp>
          <p:nvGrpSpPr>
            <p:cNvPr id="9" name="グループ化 12"/>
            <p:cNvGrpSpPr/>
            <p:nvPr/>
          </p:nvGrpSpPr>
          <p:grpSpPr>
            <a:xfrm>
              <a:off x="8462880" y="2425680"/>
              <a:ext cx="1074600" cy="179280"/>
              <a:chOff x="8462880" y="2425680"/>
              <a:chExt cx="1074600" cy="179280"/>
            </a:xfrm>
          </p:grpSpPr>
          <p:sp>
            <p:nvSpPr>
              <p:cNvPr id="10" name="直線コネクタ 24"/>
              <p:cNvSpPr/>
              <p:nvPr/>
            </p:nvSpPr>
            <p:spPr>
              <a:xfrm>
                <a:off x="8462880" y="2541600"/>
                <a:ext cx="1074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" name="直線コネクタ 25"/>
              <p:cNvSpPr/>
              <p:nvPr/>
            </p:nvSpPr>
            <p:spPr>
              <a:xfrm>
                <a:off x="9011880" y="2425680"/>
                <a:ext cx="0" cy="17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" name="グループ化 7"/>
            <p:cNvGrpSpPr/>
            <p:nvPr/>
          </p:nvGrpSpPr>
          <p:grpSpPr>
            <a:xfrm>
              <a:off x="8463240" y="8198280"/>
              <a:ext cx="1072800" cy="180000"/>
              <a:chOff x="8463240" y="8198280"/>
              <a:chExt cx="1072800" cy="180000"/>
            </a:xfrm>
          </p:grpSpPr>
          <p:sp>
            <p:nvSpPr>
              <p:cNvPr id="13" name="直線コネクタ 22"/>
              <p:cNvSpPr/>
              <p:nvPr/>
            </p:nvSpPr>
            <p:spPr>
              <a:xfrm>
                <a:off x="8463240" y="8286840"/>
                <a:ext cx="1072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" name="直線コネクタ 23"/>
              <p:cNvSpPr/>
              <p:nvPr/>
            </p:nvSpPr>
            <p:spPr>
              <a:xfrm>
                <a:off x="8999640" y="8198280"/>
                <a:ext cx="0" cy="18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" name="グループ化 1"/>
            <p:cNvGrpSpPr/>
            <p:nvPr/>
          </p:nvGrpSpPr>
          <p:grpSpPr>
            <a:xfrm>
              <a:off x="1008000" y="2305080"/>
              <a:ext cx="432000" cy="432000"/>
              <a:chOff x="1008000" y="2305080"/>
              <a:chExt cx="432000" cy="432000"/>
            </a:xfrm>
          </p:grpSpPr>
          <p:sp>
            <p:nvSpPr>
              <p:cNvPr id="16" name="フリーフォーム 43"/>
              <p:cNvSpPr/>
              <p:nvPr/>
            </p:nvSpPr>
            <p:spPr>
              <a:xfrm>
                <a:off x="1008000" y="2305080"/>
                <a:ext cx="432000" cy="324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" name="フリーフォーム 44"/>
              <p:cNvSpPr/>
              <p:nvPr/>
            </p:nvSpPr>
            <p:spPr>
              <a:xfrm>
                <a:off x="1008000" y="2305080"/>
                <a:ext cx="325800" cy="432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" name="グループ化 5"/>
            <p:cNvGrpSpPr/>
            <p:nvPr/>
          </p:nvGrpSpPr>
          <p:grpSpPr>
            <a:xfrm>
              <a:off x="16560720" y="2303640"/>
              <a:ext cx="432000" cy="432000"/>
              <a:chOff x="16560720" y="2303640"/>
              <a:chExt cx="432000" cy="432000"/>
            </a:xfrm>
          </p:grpSpPr>
          <p:sp>
            <p:nvSpPr>
              <p:cNvPr id="19" name="フリーフォーム 43"/>
              <p:cNvSpPr/>
              <p:nvPr/>
            </p:nvSpPr>
            <p:spPr>
              <a:xfrm flipH="1">
                <a:off x="16560720" y="2303640"/>
                <a:ext cx="432000" cy="324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" name="フリーフォーム 44"/>
              <p:cNvSpPr/>
              <p:nvPr/>
            </p:nvSpPr>
            <p:spPr>
              <a:xfrm flipH="1">
                <a:off x="16668720" y="230364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" name="グループ化 9"/>
            <p:cNvGrpSpPr/>
            <p:nvPr/>
          </p:nvGrpSpPr>
          <p:grpSpPr>
            <a:xfrm>
              <a:off x="16560720" y="8064360"/>
              <a:ext cx="432000" cy="432000"/>
              <a:chOff x="16560720" y="8064360"/>
              <a:chExt cx="432000" cy="432000"/>
            </a:xfrm>
          </p:grpSpPr>
          <p:sp>
            <p:nvSpPr>
              <p:cNvPr id="22" name="フリーフォーム 43"/>
              <p:cNvSpPr/>
              <p:nvPr/>
            </p:nvSpPr>
            <p:spPr>
              <a:xfrm flipH="1" flipV="1">
                <a:off x="16560720" y="8172360"/>
                <a:ext cx="432000" cy="324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" name="フリーフォーム 44"/>
              <p:cNvSpPr/>
              <p:nvPr/>
            </p:nvSpPr>
            <p:spPr>
              <a:xfrm flipH="1" flipV="1">
                <a:off x="16668720" y="806436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4" name="グループ化 13"/>
            <p:cNvGrpSpPr/>
            <p:nvPr/>
          </p:nvGrpSpPr>
          <p:grpSpPr>
            <a:xfrm>
              <a:off x="1008000" y="8063280"/>
              <a:ext cx="432000" cy="432000"/>
              <a:chOff x="1008000" y="8063280"/>
              <a:chExt cx="432000" cy="432000"/>
            </a:xfrm>
          </p:grpSpPr>
          <p:sp>
            <p:nvSpPr>
              <p:cNvPr id="25" name="フリーフォーム 43"/>
              <p:cNvSpPr/>
              <p:nvPr/>
            </p:nvSpPr>
            <p:spPr>
              <a:xfrm flipV="1">
                <a:off x="1008000" y="8171280"/>
                <a:ext cx="432000" cy="324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" name="フリーフォーム 44"/>
              <p:cNvSpPr/>
              <p:nvPr/>
            </p:nvSpPr>
            <p:spPr>
              <a:xfrm flipV="1">
                <a:off x="1008000" y="806328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27" name="図 27" descr="グラフィカル ユーザー インターフェイス&#10;&#10;AI 生成コンテンツは誤りを含む可能性があります。"/>
          <p:cNvPicPr/>
          <p:nvPr/>
        </p:nvPicPr>
        <p:blipFill>
          <a:blip r:embed="rId2"/>
          <a:stretch/>
        </p:blipFill>
        <p:spPr>
          <a:xfrm>
            <a:off x="18291240" y="0"/>
            <a:ext cx="9993240" cy="1079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CR0190</cp:lastModifiedBy>
  <dcterms:modified xsi:type="dcterms:W3CDTF">2025-10-28T00:45:51Z</dcterms:modified>
  <cp:revision>33</cp:revision>
  <dc:subject/>
  <dc:title>PowerPoint プレゼンテーション</dc:title>
</cp:coreProperties>
</file>