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2338560" y="1142640"/>
            <a:ext cx="21808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4C338AD1-F1E5-47CD-9839-0D18068CBB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338560" y="1143000"/>
            <a:ext cx="2180880" cy="30862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2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25B381CE-2763-41AD-B02C-CDFF9B1561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0"/>
          <p:cNvGrpSpPr/>
          <p:nvPr/>
        </p:nvGrpSpPr>
        <p:grpSpPr>
          <a:xfrm>
            <a:off x="1457280" y="2104920"/>
            <a:ext cx="7777080" cy="10909440"/>
            <a:chOff x="1457280" y="2104920"/>
            <a:chExt cx="7777080" cy="10909440"/>
          </a:xfrm>
        </p:grpSpPr>
        <p:sp>
          <p:nvSpPr>
            <p:cNvPr id="1" name="正方形/長方形 101"/>
            <p:cNvSpPr/>
            <p:nvPr/>
          </p:nvSpPr>
          <p:spPr>
            <a:xfrm>
              <a:off x="1564920" y="2212560"/>
              <a:ext cx="7561440" cy="106938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102"/>
            <p:cNvSpPr/>
            <p:nvPr/>
          </p:nvSpPr>
          <p:spPr>
            <a:xfrm>
              <a:off x="1672920" y="2320560"/>
              <a:ext cx="7345440" cy="104778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03"/>
            <p:cNvSpPr/>
            <p:nvPr/>
          </p:nvSpPr>
          <p:spPr>
            <a:xfrm>
              <a:off x="1457280" y="2104920"/>
              <a:ext cx="7777080" cy="109094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Rectangle 23"/>
          <p:cNvSpPr/>
          <p:nvPr/>
        </p:nvSpPr>
        <p:spPr>
          <a:xfrm>
            <a:off x="2803680" y="461880"/>
            <a:ext cx="5084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700360"/>
                <a:tab algn="r" pos="540072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冊子：中綴じ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綴じなし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_A4_1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ctr" pos="2700360"/>
                <a:tab algn="r" pos="540072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（ 仕上がりサイズ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10 × 297 mm 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ctr" pos="2700360"/>
                <a:tab algn="r" pos="540072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グループ化 1"/>
          <p:cNvGrpSpPr/>
          <p:nvPr/>
        </p:nvGrpSpPr>
        <p:grpSpPr>
          <a:xfrm>
            <a:off x="593640" y="13447800"/>
            <a:ext cx="9504360" cy="1585800"/>
            <a:chOff x="593640" y="13447800"/>
            <a:chExt cx="9504360" cy="1585800"/>
          </a:xfrm>
        </p:grpSpPr>
        <p:sp>
          <p:nvSpPr>
            <p:cNvPr id="6" name="正方形/長方形 3"/>
            <p:cNvSpPr/>
            <p:nvPr/>
          </p:nvSpPr>
          <p:spPr>
            <a:xfrm>
              <a:off x="593640" y="13447800"/>
              <a:ext cx="54723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4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4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4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3"/>
            <p:cNvSpPr/>
            <p:nvPr/>
          </p:nvSpPr>
          <p:spPr>
            <a:xfrm>
              <a:off x="6138000" y="13519800"/>
              <a:ext cx="3960000" cy="14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冊子のデータ製作について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・ページ数は表紙も含めた数になります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・データは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1P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ごとでも 見開きでも ご入稿頂けます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見開きの場合はページ順どおりにご作成くださ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・白紙のページがある場合は コメント欄にご指示くださ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26"/>
          <p:cNvGrpSpPr/>
          <p:nvPr/>
        </p:nvGrpSpPr>
        <p:grpSpPr>
          <a:xfrm>
            <a:off x="988920" y="1782720"/>
            <a:ext cx="8712360" cy="11555280"/>
            <a:chOff x="988920" y="1782720"/>
            <a:chExt cx="8712360" cy="11555280"/>
          </a:xfrm>
        </p:grpSpPr>
        <p:grpSp>
          <p:nvGrpSpPr>
            <p:cNvPr id="9" name="グループ化 9"/>
            <p:cNvGrpSpPr/>
            <p:nvPr/>
          </p:nvGrpSpPr>
          <p:grpSpPr>
            <a:xfrm>
              <a:off x="1133640" y="1782720"/>
              <a:ext cx="431640" cy="432000"/>
              <a:chOff x="1133640" y="1782720"/>
              <a:chExt cx="431640" cy="432000"/>
            </a:xfrm>
          </p:grpSpPr>
          <p:sp>
            <p:nvSpPr>
              <p:cNvPr id="10" name="フリーフォーム 59"/>
              <p:cNvSpPr/>
              <p:nvPr/>
            </p:nvSpPr>
            <p:spPr>
              <a:xfrm>
                <a:off x="1133640" y="1782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フリーフォーム 60"/>
              <p:cNvSpPr/>
              <p:nvPr/>
            </p:nvSpPr>
            <p:spPr>
              <a:xfrm>
                <a:off x="1133640" y="1782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10"/>
            <p:cNvGrpSpPr/>
            <p:nvPr/>
          </p:nvGrpSpPr>
          <p:grpSpPr>
            <a:xfrm>
              <a:off x="9127800" y="1782720"/>
              <a:ext cx="431640" cy="432000"/>
              <a:chOff x="9127800" y="1782720"/>
              <a:chExt cx="431640" cy="432000"/>
            </a:xfrm>
          </p:grpSpPr>
          <p:sp>
            <p:nvSpPr>
              <p:cNvPr id="13" name="フリーフォーム 57"/>
              <p:cNvSpPr/>
              <p:nvPr/>
            </p:nvSpPr>
            <p:spPr>
              <a:xfrm flipH="1">
                <a:off x="9127440" y="1782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58"/>
              <p:cNvSpPr/>
              <p:nvPr/>
            </p:nvSpPr>
            <p:spPr>
              <a:xfrm flipH="1">
                <a:off x="9235440" y="1782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2"/>
            <p:cNvGrpSpPr/>
            <p:nvPr/>
          </p:nvGrpSpPr>
          <p:grpSpPr>
            <a:xfrm>
              <a:off x="1133280" y="12906000"/>
              <a:ext cx="431640" cy="432000"/>
              <a:chOff x="1133280" y="12906000"/>
              <a:chExt cx="431640" cy="432000"/>
            </a:xfrm>
          </p:grpSpPr>
          <p:sp>
            <p:nvSpPr>
              <p:cNvPr id="16" name="フリーフォーム 55"/>
              <p:cNvSpPr/>
              <p:nvPr/>
            </p:nvSpPr>
            <p:spPr>
              <a:xfrm flipV="1">
                <a:off x="1133280" y="13014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6"/>
              <p:cNvSpPr/>
              <p:nvPr/>
            </p:nvSpPr>
            <p:spPr>
              <a:xfrm flipV="1">
                <a:off x="1133280" y="1290600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5"/>
            <p:cNvGrpSpPr/>
            <p:nvPr/>
          </p:nvGrpSpPr>
          <p:grpSpPr>
            <a:xfrm>
              <a:off x="9125280" y="12906000"/>
              <a:ext cx="431640" cy="432000"/>
              <a:chOff x="9125280" y="12906000"/>
              <a:chExt cx="431640" cy="432000"/>
            </a:xfrm>
          </p:grpSpPr>
          <p:sp>
            <p:nvSpPr>
              <p:cNvPr id="19" name="フリーフォーム 51"/>
              <p:cNvSpPr/>
              <p:nvPr/>
            </p:nvSpPr>
            <p:spPr>
              <a:xfrm flipH="1" flipV="1">
                <a:off x="9124920" y="13014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54"/>
              <p:cNvSpPr/>
              <p:nvPr/>
            </p:nvSpPr>
            <p:spPr>
              <a:xfrm flipH="1" flipV="1">
                <a:off x="9232920" y="1290600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2"/>
            <p:cNvGrpSpPr/>
            <p:nvPr/>
          </p:nvGrpSpPr>
          <p:grpSpPr>
            <a:xfrm>
              <a:off x="988920" y="7129800"/>
              <a:ext cx="305640" cy="860400"/>
              <a:chOff x="988920" y="7129800"/>
              <a:chExt cx="305640" cy="860400"/>
            </a:xfrm>
          </p:grpSpPr>
          <p:sp>
            <p:nvSpPr>
              <p:cNvPr id="22" name="直線コネクタ 10"/>
              <p:cNvSpPr/>
              <p:nvPr/>
            </p:nvSpPr>
            <p:spPr>
              <a:xfrm>
                <a:off x="1223280" y="7129800"/>
                <a:ext cx="0" cy="8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11"/>
              <p:cNvSpPr/>
              <p:nvPr/>
            </p:nvSpPr>
            <p:spPr>
              <a:xfrm>
                <a:off x="988920" y="756000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6"/>
            <p:cNvGrpSpPr/>
            <p:nvPr/>
          </p:nvGrpSpPr>
          <p:grpSpPr>
            <a:xfrm>
              <a:off x="9395640" y="7129800"/>
              <a:ext cx="305640" cy="860400"/>
              <a:chOff x="9395640" y="7129800"/>
              <a:chExt cx="305640" cy="860400"/>
            </a:xfrm>
          </p:grpSpPr>
          <p:sp>
            <p:nvSpPr>
              <p:cNvPr id="25" name="直線コネクタ 8"/>
              <p:cNvSpPr/>
              <p:nvPr/>
            </p:nvSpPr>
            <p:spPr>
              <a:xfrm>
                <a:off x="9466920" y="7129800"/>
                <a:ext cx="0" cy="8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9"/>
              <p:cNvSpPr/>
              <p:nvPr/>
            </p:nvSpPr>
            <p:spPr>
              <a:xfrm>
                <a:off x="9395640" y="756000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2-05T06:58:35Z</dcterms:modified>
  <cp:revision>31</cp:revision>
  <dc:subject/>
  <dc:title>PowerPoint プレゼンテーション</dc:title>
</cp:coreProperties>
</file>