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9600188" cy="28800425"/>
  <p:notesSz cx="13943013" cy="17543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402992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6079840" y="673920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98000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1402992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26079840" y="15464160"/>
            <a:ext cx="1147572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75"/>
              </a:spcBef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3563964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980000" y="1149120"/>
            <a:ext cx="35639640" cy="22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75"/>
              </a:spcBef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167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0242080" y="1546416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000" y="1149120"/>
            <a:ext cx="35639640" cy="480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9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00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0242080" y="6739200"/>
            <a:ext cx="1739196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980000" y="15464160"/>
            <a:ext cx="35639640" cy="79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75"/>
              </a:spcBef>
              <a:buNone/>
              <a:tabLst>
                <a:tab algn="l" pos="1936800"/>
                <a:tab algn="l" pos="3873600"/>
                <a:tab algn="l" pos="5810400"/>
                <a:tab algn="l" pos="7746840"/>
                <a:tab algn="l" pos="968364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13319280" y="957600"/>
            <a:ext cx="1296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バナースタンド：ワイドビッグバナー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695×2290</a:t>
            </a:r>
            <a:r>
              <a:rPr b="0" lang="ja-JP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mm 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グループ化 2"/>
          <p:cNvGrpSpPr/>
          <p:nvPr/>
        </p:nvGrpSpPr>
        <p:grpSpPr>
          <a:xfrm>
            <a:off x="2538720" y="3459240"/>
            <a:ext cx="34530840" cy="21881880"/>
            <a:chOff x="2538720" y="3459240"/>
            <a:chExt cx="34530840" cy="21881880"/>
          </a:xfrm>
        </p:grpSpPr>
        <p:grpSp>
          <p:nvGrpSpPr>
            <p:cNvPr id="2" name="グループ化 4"/>
            <p:cNvGrpSpPr/>
            <p:nvPr/>
          </p:nvGrpSpPr>
          <p:grpSpPr>
            <a:xfrm>
              <a:off x="2539800" y="3459240"/>
              <a:ext cx="718920" cy="736560"/>
              <a:chOff x="2539800" y="3459240"/>
              <a:chExt cx="718920" cy="736560"/>
            </a:xfrm>
          </p:grpSpPr>
          <p:sp>
            <p:nvSpPr>
              <p:cNvPr id="3" name="フリーフォーム 147"/>
              <p:cNvSpPr/>
              <p:nvPr/>
            </p:nvSpPr>
            <p:spPr>
              <a:xfrm>
                <a:off x="2539800" y="3459240"/>
                <a:ext cx="449280" cy="7365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" name="フリーフォーム 148"/>
              <p:cNvSpPr/>
              <p:nvPr/>
            </p:nvSpPr>
            <p:spPr>
              <a:xfrm>
                <a:off x="2541240" y="3462120"/>
                <a:ext cx="717480" cy="4478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" name="グループ化 3"/>
            <p:cNvGrpSpPr/>
            <p:nvPr/>
          </p:nvGrpSpPr>
          <p:grpSpPr>
            <a:xfrm>
              <a:off x="36333000" y="3463920"/>
              <a:ext cx="736560" cy="717480"/>
              <a:chOff x="36333000" y="3463920"/>
              <a:chExt cx="736560" cy="717480"/>
            </a:xfrm>
          </p:grpSpPr>
          <p:sp>
            <p:nvSpPr>
              <p:cNvPr id="6" name="フリーフォーム 147"/>
              <p:cNvSpPr/>
              <p:nvPr/>
            </p:nvSpPr>
            <p:spPr>
              <a:xfrm rot="5400000">
                <a:off x="36478080" y="3318480"/>
                <a:ext cx="446040" cy="7365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フリーフォーム 148"/>
              <p:cNvSpPr/>
              <p:nvPr/>
            </p:nvSpPr>
            <p:spPr>
              <a:xfrm rot="5400000">
                <a:off x="36480240" y="3597120"/>
                <a:ext cx="717480" cy="4507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" name="グループ化 33"/>
            <p:cNvGrpSpPr/>
            <p:nvPr/>
          </p:nvGrpSpPr>
          <p:grpSpPr>
            <a:xfrm>
              <a:off x="36353880" y="24604560"/>
              <a:ext cx="715680" cy="736560"/>
              <a:chOff x="36353880" y="24604560"/>
              <a:chExt cx="715680" cy="736560"/>
            </a:xfrm>
          </p:grpSpPr>
          <p:sp>
            <p:nvSpPr>
              <p:cNvPr id="9" name="フリーフォーム 147"/>
              <p:cNvSpPr/>
              <p:nvPr/>
            </p:nvSpPr>
            <p:spPr>
              <a:xfrm rot="10800000">
                <a:off x="36615600" y="24604560"/>
                <a:ext cx="449280" cy="73656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フリーフォーム 148"/>
              <p:cNvSpPr/>
              <p:nvPr/>
            </p:nvSpPr>
            <p:spPr>
              <a:xfrm rot="10800000">
                <a:off x="36353880" y="24891840"/>
                <a:ext cx="715680" cy="44928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グループ化 38"/>
            <p:cNvGrpSpPr/>
            <p:nvPr/>
          </p:nvGrpSpPr>
          <p:grpSpPr>
            <a:xfrm>
              <a:off x="2538720" y="24621840"/>
              <a:ext cx="739440" cy="718920"/>
              <a:chOff x="2538720" y="24621840"/>
              <a:chExt cx="739440" cy="718920"/>
            </a:xfrm>
          </p:grpSpPr>
          <p:sp>
            <p:nvSpPr>
              <p:cNvPr id="12" name="フリーフォーム 147"/>
              <p:cNvSpPr/>
              <p:nvPr/>
            </p:nvSpPr>
            <p:spPr>
              <a:xfrm rot="16200000">
                <a:off x="2690640" y="24753240"/>
                <a:ext cx="449280" cy="7254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フリーフォーム 148"/>
              <p:cNvSpPr/>
              <p:nvPr/>
            </p:nvSpPr>
            <p:spPr>
              <a:xfrm rot="16200000">
                <a:off x="2401560" y="24759000"/>
                <a:ext cx="716040" cy="44172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4" name="図 109" descr="テキスト&#10;&#10;中程度の精度で自動的に生成された説明"/>
          <p:cNvPicPr/>
          <p:nvPr/>
        </p:nvPicPr>
        <p:blipFill>
          <a:blip r:embed="rId2"/>
          <a:stretch/>
        </p:blipFill>
        <p:spPr>
          <a:xfrm>
            <a:off x="40329000" y="0"/>
            <a:ext cx="14341320" cy="28800360"/>
          </a:xfrm>
          <a:prstGeom prst="rect">
            <a:avLst/>
          </a:prstGeom>
          <a:ln w="0">
            <a:noFill/>
          </a:ln>
        </p:spPr>
      </p:pic>
      <p:grpSp>
        <p:nvGrpSpPr>
          <p:cNvPr id="15" name="グループ化 1"/>
          <p:cNvGrpSpPr/>
          <p:nvPr/>
        </p:nvGrpSpPr>
        <p:grpSpPr>
          <a:xfrm>
            <a:off x="1608120" y="3870360"/>
            <a:ext cx="35112240" cy="21728520"/>
            <a:chOff x="1608120" y="3870360"/>
            <a:chExt cx="35112240" cy="21728520"/>
          </a:xfrm>
        </p:grpSpPr>
        <p:sp>
          <p:nvSpPr>
            <p:cNvPr id="16" name="正方形/長方形 90"/>
            <p:cNvSpPr/>
            <p:nvPr/>
          </p:nvSpPr>
          <p:spPr>
            <a:xfrm>
              <a:off x="1608120" y="14200200"/>
              <a:ext cx="118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2373480"/>
                  <a:tab algn="l" pos="4746600"/>
                  <a:tab algn="l" pos="7120080"/>
                  <a:tab algn="l" pos="9493200"/>
                </a:tabLst>
              </a:pPr>
              <a:r>
                <a:rPr b="1" lang="ja-JP" sz="2000" spc="-1" strike="noStrike">
                  <a:solidFill>
                    <a:srgbClr val="ff3fff"/>
                  </a:solidFill>
                  <a:latin typeface="Calibri"/>
                </a:rPr>
                <a:t>つなぎ目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正方形/長方形 91"/>
            <p:cNvSpPr/>
            <p:nvPr/>
          </p:nvSpPr>
          <p:spPr>
            <a:xfrm>
              <a:off x="32980320" y="25200000"/>
              <a:ext cx="117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2373480"/>
                  <a:tab algn="l" pos="4746600"/>
                  <a:tab algn="l" pos="7120080"/>
                  <a:tab algn="l" pos="9493200"/>
                </a:tabLst>
              </a:pPr>
              <a:r>
                <a:rPr b="1" lang="ja-JP" sz="2000" spc="-1" strike="noStrike">
                  <a:solidFill>
                    <a:srgbClr val="ff3fff"/>
                  </a:solidFill>
                  <a:latin typeface="Calibri"/>
                </a:rPr>
                <a:t>折り位置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正方形/長方形 101"/>
            <p:cNvSpPr/>
            <p:nvPr/>
          </p:nvSpPr>
          <p:spPr>
            <a:xfrm>
              <a:off x="5522760" y="25200000"/>
              <a:ext cx="117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2373480"/>
                  <a:tab algn="l" pos="4746600"/>
                  <a:tab algn="l" pos="7120080"/>
                  <a:tab algn="l" pos="9493200"/>
                </a:tabLst>
              </a:pPr>
              <a:r>
                <a:rPr b="1" lang="ja-JP" sz="2000" spc="-1" strike="noStrike">
                  <a:solidFill>
                    <a:srgbClr val="ff3fff"/>
                  </a:solidFill>
                  <a:latin typeface="Calibri"/>
                </a:rPr>
                <a:t>折り位置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" name="グループ化 4"/>
            <p:cNvGrpSpPr/>
            <p:nvPr/>
          </p:nvGrpSpPr>
          <p:grpSpPr>
            <a:xfrm>
              <a:off x="2879640" y="3870360"/>
              <a:ext cx="33840720" cy="21060000"/>
              <a:chOff x="2879640" y="3870360"/>
              <a:chExt cx="33840720" cy="21060000"/>
            </a:xfrm>
          </p:grpSpPr>
          <p:sp>
            <p:nvSpPr>
              <p:cNvPr id="20" name="正方形/長方形 93"/>
              <p:cNvSpPr/>
              <p:nvPr/>
            </p:nvSpPr>
            <p:spPr>
              <a:xfrm>
                <a:off x="2992320" y="3914640"/>
                <a:ext cx="33615360" cy="20971440"/>
              </a:xfrm>
              <a:prstGeom prst="rect">
                <a:avLst/>
              </a:prstGeom>
              <a:noFill/>
              <a:ln w="3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正方形/長方形 94"/>
              <p:cNvSpPr/>
              <p:nvPr/>
            </p:nvSpPr>
            <p:spPr>
              <a:xfrm>
                <a:off x="3171600" y="4095720"/>
                <a:ext cx="33256800" cy="20609280"/>
              </a:xfrm>
              <a:prstGeom prst="rect">
                <a:avLst/>
              </a:prstGeom>
              <a:noFill/>
              <a:ln w="3240">
                <a:solidFill>
                  <a:srgbClr val="ff3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正方形/長方形 95"/>
              <p:cNvSpPr/>
              <p:nvPr/>
            </p:nvSpPr>
            <p:spPr>
              <a:xfrm>
                <a:off x="3444480" y="4365360"/>
                <a:ext cx="2382840" cy="2006964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直線コネクタ 96"/>
              <p:cNvSpPr/>
              <p:nvPr/>
            </p:nvSpPr>
            <p:spPr>
              <a:xfrm>
                <a:off x="2879640" y="14400360"/>
                <a:ext cx="33840720" cy="0"/>
              </a:xfrm>
              <a:prstGeom prst="line">
                <a:avLst/>
              </a:prstGeom>
              <a:ln w="3240">
                <a:solidFill>
                  <a:srgbClr val="ff3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97"/>
              <p:cNvSpPr/>
              <p:nvPr/>
            </p:nvSpPr>
            <p:spPr>
              <a:xfrm>
                <a:off x="6099120" y="3870360"/>
                <a:ext cx="0" cy="21060000"/>
              </a:xfrm>
              <a:prstGeom prst="line">
                <a:avLst/>
              </a:prstGeom>
              <a:ln w="3240">
                <a:solidFill>
                  <a:srgbClr val="ff3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正方形/長方形 99"/>
              <p:cNvSpPr/>
              <p:nvPr/>
            </p:nvSpPr>
            <p:spPr>
              <a:xfrm>
                <a:off x="6367320" y="4365360"/>
                <a:ext cx="26865360" cy="2006964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直線コネクタ 100"/>
              <p:cNvSpPr/>
              <p:nvPr/>
            </p:nvSpPr>
            <p:spPr>
              <a:xfrm>
                <a:off x="33499440" y="3870360"/>
                <a:ext cx="0" cy="21060000"/>
              </a:xfrm>
              <a:prstGeom prst="line">
                <a:avLst/>
              </a:prstGeom>
              <a:ln w="3240">
                <a:solidFill>
                  <a:srgbClr val="ff3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正方形/長方形 3"/>
              <p:cNvSpPr/>
              <p:nvPr/>
            </p:nvSpPr>
            <p:spPr>
              <a:xfrm>
                <a:off x="33772680" y="4365360"/>
                <a:ext cx="2382840" cy="20069640"/>
              </a:xfrm>
              <a:prstGeom prst="rect">
                <a:avLst/>
              </a:prstGeom>
              <a:noFill/>
              <a:ln w="3240">
                <a:solidFill>
                  <a:srgbClr val="4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1042920"/>
                    <a:tab algn="l" pos="2085840"/>
                    <a:tab algn="l" pos="3129120"/>
                    <a:tab algn="l" pos="4172040"/>
                    <a:tab algn="l" pos="5214960"/>
                    <a:tab algn="l" pos="6257880"/>
                    <a:tab algn="l" pos="7300800"/>
                    <a:tab algn="l" pos="8344080"/>
                    <a:tab algn="l" pos="9387000"/>
                    <a:tab algn="l" pos="10429920"/>
                  </a:tabLst>
                </a:pPr>
                <a:endParaRPr b="0" lang="en-US" sz="8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3T03:18:39Z</dcterms:created>
  <dc:creator>川越</dc:creator>
  <dc:description/>
  <dc:language>en-US</dc:language>
  <cp:lastModifiedBy>Eximage-24</cp:lastModifiedBy>
  <dcterms:modified xsi:type="dcterms:W3CDTF">2025-05-01T08:43:26Z</dcterms:modified>
  <cp:revision>61</cp:revision>
  <dc:subject/>
  <dc:title>PowerPoint プレゼンテーション</dc:title>
</cp:coreProperties>
</file>